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EC3-336B-48F8-91A0-166F7551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D52-0A52-461E-AF97-C795BD0F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B5E-6384-43F4-8E5E-D864B90E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DD4-79FC-4A81-A10C-07CE431B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4C7-A475-489F-8159-01F8D12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093-9B75-4C0F-A4C2-246A033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73E-96E0-402A-AA79-AB333E4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1C4-D502-44CB-9542-B72C2FA6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C5E-51C6-44FC-B96D-15D896C3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60E-40FF-468F-895F-F68DBD7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7A2-37B4-433A-9094-9D76E95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CF5-9302-45E1-8907-FD9EB47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0DC-78E6-4DCD-8149-5E1EBE85F9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ursday, January 5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BC, a = 12, b = 14 and c = 10.  Find the measure of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040" y="3562200"/>
            <a:ext cx="5483160" cy="1930680"/>
          </a:xfrm>
          <a:custGeom>
            <a:avLst/>
            <a:gdLst/>
            <a:ahLst/>
            <a:rect l="l" t="t" r="r" b="b"/>
            <a:pathLst>
              <a:path w="15231" h="5359">
                <a:moveTo>
                  <a:pt x="2356" y="11038"/>
                </a:moveTo>
                <a:cubicBezTo>
                  <a:pt x="2351" y="11099"/>
                  <a:pt x="2349" y="11128"/>
                  <a:pt x="2332" y="11187"/>
                </a:cubicBezTo>
                <a:cubicBezTo>
                  <a:pt x="2313" y="11252"/>
                  <a:pt x="2301" y="11315"/>
                  <a:pt x="2282" y="11385"/>
                </a:cubicBezTo>
                <a:cubicBezTo>
                  <a:pt x="2257" y="11477"/>
                  <a:pt x="2239" y="11566"/>
                  <a:pt x="2208" y="11658"/>
                </a:cubicBezTo>
                <a:cubicBezTo>
                  <a:pt x="2166" y="11784"/>
                  <a:pt x="2157" y="11904"/>
                  <a:pt x="2133" y="12030"/>
                </a:cubicBezTo>
                <a:cubicBezTo>
                  <a:pt x="2083" y="12286"/>
                  <a:pt x="2017" y="12544"/>
                  <a:pt x="1960" y="12799"/>
                </a:cubicBezTo>
                <a:cubicBezTo>
                  <a:pt x="1886" y="13130"/>
                  <a:pt x="1829" y="13465"/>
                  <a:pt x="1736" y="13791"/>
                </a:cubicBezTo>
                <a:cubicBezTo>
                  <a:pt x="1710" y="13881"/>
                  <a:pt x="1691" y="13946"/>
                  <a:pt x="1687" y="14039"/>
                </a:cubicBezTo>
                <a:cubicBezTo>
                  <a:pt x="1683" y="14131"/>
                  <a:pt x="1660" y="14039"/>
                  <a:pt x="1712" y="14039"/>
                </a:cubicBezTo>
              </a:path>
              <a:path w="15231" h="5359">
                <a:moveTo>
                  <a:pt x="2480" y="11013"/>
                </a:moveTo>
                <a:cubicBezTo>
                  <a:pt x="2495" y="11008"/>
                  <a:pt x="2510" y="10971"/>
                  <a:pt x="2555" y="10964"/>
                </a:cubicBezTo>
                <a:cubicBezTo>
                  <a:pt x="3134" y="10876"/>
                  <a:pt x="3762" y="11000"/>
                  <a:pt x="4341" y="11013"/>
                </a:cubicBezTo>
                <a:cubicBezTo>
                  <a:pt x="4553" y="11018"/>
                  <a:pt x="4776" y="11038"/>
                  <a:pt x="4986" y="11063"/>
                </a:cubicBezTo>
                <a:cubicBezTo>
                  <a:pt x="5190" y="11087"/>
                  <a:pt x="5400" y="11109"/>
                  <a:pt x="5606" y="11112"/>
                </a:cubicBezTo>
                <a:cubicBezTo>
                  <a:pt x="5798" y="11115"/>
                  <a:pt x="5990" y="11127"/>
                  <a:pt x="6176" y="11137"/>
                </a:cubicBezTo>
                <a:cubicBezTo>
                  <a:pt x="6290" y="11143"/>
                  <a:pt x="6391" y="11142"/>
                  <a:pt x="6499" y="11162"/>
                </a:cubicBezTo>
                <a:cubicBezTo>
                  <a:pt x="6539" y="11170"/>
                  <a:pt x="6561" y="11178"/>
                  <a:pt x="6598" y="11187"/>
                </a:cubicBezTo>
                <a:cubicBezTo>
                  <a:pt x="6567" y="11243"/>
                  <a:pt x="6576" y="11275"/>
                  <a:pt x="6524" y="11336"/>
                </a:cubicBezTo>
                <a:cubicBezTo>
                  <a:pt x="6387" y="11496"/>
                  <a:pt x="6178" y="11622"/>
                  <a:pt x="6003" y="11733"/>
                </a:cubicBezTo>
                <a:cubicBezTo>
                  <a:pt x="5841" y="11836"/>
                  <a:pt x="5669" y="11961"/>
                  <a:pt x="5507" y="12055"/>
                </a:cubicBezTo>
                <a:cubicBezTo>
                  <a:pt x="5379" y="12129"/>
                  <a:pt x="5259" y="12198"/>
                  <a:pt x="5135" y="12278"/>
                </a:cubicBezTo>
                <a:cubicBezTo>
                  <a:pt x="4998" y="12366"/>
                  <a:pt x="4852" y="12440"/>
                  <a:pt x="4713" y="12526"/>
                </a:cubicBezTo>
                <a:cubicBezTo>
                  <a:pt x="4575" y="12611"/>
                  <a:pt x="4428" y="12685"/>
                  <a:pt x="4291" y="12774"/>
                </a:cubicBezTo>
                <a:cubicBezTo>
                  <a:pt x="4126" y="12882"/>
                  <a:pt x="3960" y="12989"/>
                  <a:pt x="3795" y="13097"/>
                </a:cubicBezTo>
                <a:cubicBezTo>
                  <a:pt x="3633" y="13202"/>
                  <a:pt x="3466" y="13299"/>
                  <a:pt x="3299" y="13395"/>
                </a:cubicBezTo>
                <a:cubicBezTo>
                  <a:pt x="3176" y="13466"/>
                  <a:pt x="3051" y="13554"/>
                  <a:pt x="2927" y="13618"/>
                </a:cubicBezTo>
                <a:cubicBezTo>
                  <a:pt x="2813" y="13677"/>
                  <a:pt x="2695" y="13731"/>
                  <a:pt x="2580" y="13791"/>
                </a:cubicBezTo>
                <a:cubicBezTo>
                  <a:pt x="2481" y="13842"/>
                  <a:pt x="2382" y="13890"/>
                  <a:pt x="2282" y="13940"/>
                </a:cubicBezTo>
                <a:cubicBezTo>
                  <a:pt x="2186" y="13988"/>
                  <a:pt x="2104" y="14043"/>
                  <a:pt x="2009" y="14089"/>
                </a:cubicBezTo>
                <a:cubicBezTo>
                  <a:pt x="1950" y="14117"/>
                  <a:pt x="1896" y="14139"/>
                  <a:pt x="1836" y="14163"/>
                </a:cubicBezTo>
                <a:cubicBezTo>
                  <a:pt x="1784" y="14184"/>
                  <a:pt x="1788" y="14192"/>
                  <a:pt x="1736" y="14213"/>
                </a:cubicBezTo>
              </a:path>
              <a:path w="15231" h="5359">
                <a:moveTo>
                  <a:pt x="1463" y="14660"/>
                </a:moveTo>
                <a:cubicBezTo>
                  <a:pt x="1420" y="14788"/>
                  <a:pt x="1354" y="14926"/>
                  <a:pt x="1315" y="15056"/>
                </a:cubicBezTo>
                <a:cubicBezTo>
                  <a:pt x="1302" y="15099"/>
                  <a:pt x="1278" y="15142"/>
                  <a:pt x="1265" y="15180"/>
                </a:cubicBezTo>
                <a:cubicBezTo>
                  <a:pt x="1265" y="15188"/>
                  <a:pt x="1265" y="15197"/>
                  <a:pt x="1265" y="15205"/>
                </a:cubicBezTo>
                <a:cubicBezTo>
                  <a:pt x="1273" y="15167"/>
                  <a:pt x="1286" y="15141"/>
                  <a:pt x="1290" y="15106"/>
                </a:cubicBezTo>
                <a:cubicBezTo>
                  <a:pt x="1300" y="15015"/>
                  <a:pt x="1350" y="14918"/>
                  <a:pt x="1389" y="14833"/>
                </a:cubicBezTo>
                <a:cubicBezTo>
                  <a:pt x="1423" y="14758"/>
                  <a:pt x="1425" y="14688"/>
                  <a:pt x="1463" y="14610"/>
                </a:cubicBezTo>
                <a:cubicBezTo>
                  <a:pt x="1495" y="14545"/>
                  <a:pt x="1493" y="14496"/>
                  <a:pt x="1538" y="14436"/>
                </a:cubicBezTo>
                <a:cubicBezTo>
                  <a:pt x="1563" y="14404"/>
                  <a:pt x="1571" y="14376"/>
                  <a:pt x="1612" y="14362"/>
                </a:cubicBezTo>
                <a:cubicBezTo>
                  <a:pt x="1620" y="14362"/>
                  <a:pt x="1629" y="14362"/>
                  <a:pt x="1637" y="14362"/>
                </a:cubicBezTo>
                <a:cubicBezTo>
                  <a:pt x="1663" y="14413"/>
                  <a:pt x="1665" y="14467"/>
                  <a:pt x="1687" y="14511"/>
                </a:cubicBezTo>
                <a:cubicBezTo>
                  <a:pt x="1717" y="14571"/>
                  <a:pt x="1738" y="14619"/>
                  <a:pt x="1761" y="14684"/>
                </a:cubicBezTo>
                <a:cubicBezTo>
                  <a:pt x="1791" y="14769"/>
                  <a:pt x="1805" y="14849"/>
                  <a:pt x="1836" y="14932"/>
                </a:cubicBezTo>
                <a:cubicBezTo>
                  <a:pt x="1858" y="14990"/>
                  <a:pt x="1888" y="15052"/>
                  <a:pt x="1910" y="15106"/>
                </a:cubicBezTo>
                <a:cubicBezTo>
                  <a:pt x="1930" y="15155"/>
                  <a:pt x="1979" y="15181"/>
                  <a:pt x="1984" y="15230"/>
                </a:cubicBezTo>
                <a:cubicBezTo>
                  <a:pt x="1991" y="15295"/>
                  <a:pt x="1984" y="15215"/>
                  <a:pt x="1984" y="15205"/>
                </a:cubicBezTo>
              </a:path>
              <a:path w="15231" h="5359">
                <a:moveTo>
                  <a:pt x="1339" y="14858"/>
                </a:moveTo>
                <a:cubicBezTo>
                  <a:pt x="1394" y="14858"/>
                  <a:pt x="1410" y="14870"/>
                  <a:pt x="1463" y="14883"/>
                </a:cubicBezTo>
                <a:cubicBezTo>
                  <a:pt x="1549" y="14905"/>
                  <a:pt x="1708" y="14891"/>
                  <a:pt x="1786" y="14858"/>
                </a:cubicBezTo>
                <a:cubicBezTo>
                  <a:pt x="1803" y="14850"/>
                  <a:pt x="1819" y="14841"/>
                  <a:pt x="1836" y="14833"/>
                </a:cubicBezTo>
              </a:path>
              <a:path w="15231" h="5359">
                <a:moveTo>
                  <a:pt x="1761" y="10567"/>
                </a:moveTo>
                <a:cubicBezTo>
                  <a:pt x="1761" y="10657"/>
                  <a:pt x="1741" y="10730"/>
                  <a:pt x="1736" y="10815"/>
                </a:cubicBezTo>
                <a:cubicBezTo>
                  <a:pt x="1732" y="10879"/>
                  <a:pt x="1720" y="10928"/>
                  <a:pt x="1712" y="10988"/>
                </a:cubicBezTo>
                <a:cubicBezTo>
                  <a:pt x="1703" y="11053"/>
                  <a:pt x="1719" y="11060"/>
                  <a:pt x="1687" y="11112"/>
                </a:cubicBezTo>
                <a:cubicBezTo>
                  <a:pt x="1687" y="11037"/>
                  <a:pt x="1700" y="10984"/>
                  <a:pt x="1712" y="10914"/>
                </a:cubicBezTo>
                <a:cubicBezTo>
                  <a:pt x="1746" y="10708"/>
                  <a:pt x="1714" y="10476"/>
                  <a:pt x="1736" y="10269"/>
                </a:cubicBezTo>
                <a:cubicBezTo>
                  <a:pt x="1746" y="10176"/>
                  <a:pt x="1773" y="10131"/>
                  <a:pt x="1811" y="10046"/>
                </a:cubicBezTo>
                <a:cubicBezTo>
                  <a:pt x="1840" y="9982"/>
                  <a:pt x="1914" y="9956"/>
                  <a:pt x="1960" y="9922"/>
                </a:cubicBezTo>
                <a:cubicBezTo>
                  <a:pt x="1999" y="9893"/>
                  <a:pt x="2052" y="9880"/>
                  <a:pt x="2084" y="9922"/>
                </a:cubicBezTo>
                <a:cubicBezTo>
                  <a:pt x="2140" y="9995"/>
                  <a:pt x="2130" y="9958"/>
                  <a:pt x="2108" y="10046"/>
                </a:cubicBezTo>
                <a:cubicBezTo>
                  <a:pt x="2084" y="10141"/>
                  <a:pt x="2015" y="10206"/>
                  <a:pt x="1984" y="10269"/>
                </a:cubicBezTo>
                <a:cubicBezTo>
                  <a:pt x="1966" y="10305"/>
                  <a:pt x="1904" y="10396"/>
                  <a:pt x="1860" y="10418"/>
                </a:cubicBezTo>
                <a:cubicBezTo>
                  <a:pt x="1838" y="10429"/>
                  <a:pt x="1853" y="10400"/>
                  <a:pt x="1836" y="10418"/>
                </a:cubicBezTo>
                <a:cubicBezTo>
                  <a:pt x="1864" y="10379"/>
                  <a:pt x="1880" y="10344"/>
                  <a:pt x="1935" y="10344"/>
                </a:cubicBezTo>
                <a:cubicBezTo>
                  <a:pt x="1943" y="10344"/>
                  <a:pt x="2029" y="10364"/>
                  <a:pt x="2034" y="10368"/>
                </a:cubicBezTo>
                <a:cubicBezTo>
                  <a:pt x="2075" y="10406"/>
                  <a:pt x="2096" y="10443"/>
                  <a:pt x="2133" y="10492"/>
                </a:cubicBezTo>
                <a:cubicBezTo>
                  <a:pt x="2161" y="10530"/>
                  <a:pt x="2169" y="10590"/>
                  <a:pt x="2158" y="10641"/>
                </a:cubicBezTo>
                <a:cubicBezTo>
                  <a:pt x="2149" y="10684"/>
                  <a:pt x="2095" y="10784"/>
                  <a:pt x="2059" y="10815"/>
                </a:cubicBezTo>
                <a:cubicBezTo>
                  <a:pt x="2021" y="10848"/>
                  <a:pt x="1953" y="10847"/>
                  <a:pt x="1910" y="10864"/>
                </a:cubicBezTo>
                <a:cubicBezTo>
                  <a:pt x="1870" y="10880"/>
                  <a:pt x="1808" y="10907"/>
                  <a:pt x="1761" y="10889"/>
                </a:cubicBezTo>
                <a:cubicBezTo>
                  <a:pt x="1731" y="10877"/>
                  <a:pt x="1721" y="10872"/>
                  <a:pt x="1712" y="10840"/>
                </a:cubicBezTo>
                <a:cubicBezTo>
                  <a:pt x="1712" y="10815"/>
                  <a:pt x="1712" y="10807"/>
                  <a:pt x="1712" y="10790"/>
                </a:cubicBezTo>
              </a:path>
              <a:path w="15231" h="5359">
                <a:moveTo>
                  <a:pt x="7565" y="10641"/>
                </a:moveTo>
                <a:cubicBezTo>
                  <a:pt x="7608" y="10641"/>
                  <a:pt x="7622" y="10658"/>
                  <a:pt x="7615" y="10716"/>
                </a:cubicBezTo>
                <a:cubicBezTo>
                  <a:pt x="7632" y="10694"/>
                  <a:pt x="7684" y="10654"/>
                  <a:pt x="7665" y="10592"/>
                </a:cubicBezTo>
                <a:cubicBezTo>
                  <a:pt x="7662" y="10583"/>
                  <a:pt x="7623" y="10498"/>
                  <a:pt x="7615" y="10492"/>
                </a:cubicBezTo>
                <a:cubicBezTo>
                  <a:pt x="7599" y="10481"/>
                  <a:pt x="7503" y="10441"/>
                  <a:pt x="7491" y="10443"/>
                </a:cubicBezTo>
                <a:cubicBezTo>
                  <a:pt x="7425" y="10455"/>
                  <a:pt x="7378" y="10541"/>
                  <a:pt x="7317" y="10567"/>
                </a:cubicBezTo>
                <a:cubicBezTo>
                  <a:pt x="7256" y="10593"/>
                  <a:pt x="7212" y="10644"/>
                  <a:pt x="7169" y="10716"/>
                </a:cubicBezTo>
                <a:cubicBezTo>
                  <a:pt x="7139" y="10766"/>
                  <a:pt x="7122" y="10834"/>
                  <a:pt x="7119" y="10889"/>
                </a:cubicBezTo>
                <a:cubicBezTo>
                  <a:pt x="7115" y="10962"/>
                  <a:pt x="7118" y="11008"/>
                  <a:pt x="7169" y="11063"/>
                </a:cubicBezTo>
                <a:cubicBezTo>
                  <a:pt x="7247" y="11147"/>
                  <a:pt x="7333" y="11197"/>
                  <a:pt x="7441" y="11237"/>
                </a:cubicBezTo>
                <a:cubicBezTo>
                  <a:pt x="7542" y="11275"/>
                  <a:pt x="7638" y="11281"/>
                  <a:pt x="7739" y="11311"/>
                </a:cubicBezTo>
                <a:cubicBezTo>
                  <a:pt x="7747" y="11313"/>
                  <a:pt x="7936" y="11369"/>
                  <a:pt x="7938" y="11361"/>
                </a:cubicBezTo>
                <a:cubicBezTo>
                  <a:pt x="7938" y="11333"/>
                  <a:pt x="7936" y="11322"/>
                  <a:pt x="7913" y="11311"/>
                </a:cubicBezTo>
              </a:path>
              <a:path w="15231" h="5359">
                <a:moveTo>
                  <a:pt x="3746" y="10120"/>
                </a:moveTo>
                <a:cubicBezTo>
                  <a:pt x="3760" y="10255"/>
                  <a:pt x="3746" y="10292"/>
                  <a:pt x="3746" y="10418"/>
                </a:cubicBezTo>
                <a:cubicBezTo>
                  <a:pt x="3746" y="10454"/>
                  <a:pt x="3730" y="10529"/>
                  <a:pt x="3721" y="10567"/>
                </a:cubicBezTo>
                <a:cubicBezTo>
                  <a:pt x="3706" y="10630"/>
                  <a:pt x="3689" y="10687"/>
                  <a:pt x="3671" y="10740"/>
                </a:cubicBezTo>
                <a:cubicBezTo>
                  <a:pt x="3658" y="10777"/>
                  <a:pt x="3672" y="10748"/>
                  <a:pt x="3696" y="10740"/>
                </a:cubicBezTo>
              </a:path>
              <a:path w="15231" h="5359">
                <a:moveTo>
                  <a:pt x="4043" y="10120"/>
                </a:moveTo>
                <a:cubicBezTo>
                  <a:pt x="4105" y="10068"/>
                  <a:pt x="4096" y="10071"/>
                  <a:pt x="4167" y="10071"/>
                </a:cubicBezTo>
                <a:cubicBezTo>
                  <a:pt x="4257" y="10071"/>
                  <a:pt x="4272" y="10147"/>
                  <a:pt x="4341" y="10195"/>
                </a:cubicBezTo>
                <a:cubicBezTo>
                  <a:pt x="4392" y="10230"/>
                  <a:pt x="4390" y="10277"/>
                  <a:pt x="4390" y="10344"/>
                </a:cubicBezTo>
                <a:cubicBezTo>
                  <a:pt x="4390" y="10417"/>
                  <a:pt x="4375" y="10456"/>
                  <a:pt x="4341" y="10517"/>
                </a:cubicBezTo>
                <a:cubicBezTo>
                  <a:pt x="4319" y="10556"/>
                  <a:pt x="4275" y="10630"/>
                  <a:pt x="4242" y="10641"/>
                </a:cubicBezTo>
                <a:cubicBezTo>
                  <a:pt x="4192" y="10658"/>
                  <a:pt x="4205" y="10691"/>
                  <a:pt x="4142" y="10691"/>
                </a:cubicBezTo>
                <a:cubicBezTo>
                  <a:pt x="4134" y="10691"/>
                  <a:pt x="4126" y="10691"/>
                  <a:pt x="4118" y="10691"/>
                </a:cubicBezTo>
                <a:cubicBezTo>
                  <a:pt x="4126" y="10623"/>
                  <a:pt x="4118" y="10592"/>
                  <a:pt x="4192" y="10592"/>
                </a:cubicBezTo>
                <a:cubicBezTo>
                  <a:pt x="4273" y="10592"/>
                  <a:pt x="4313" y="10633"/>
                  <a:pt x="4390" y="10641"/>
                </a:cubicBezTo>
                <a:cubicBezTo>
                  <a:pt x="4477" y="10650"/>
                  <a:pt x="4488" y="10666"/>
                  <a:pt x="4564" y="10691"/>
                </a:cubicBezTo>
                <a:cubicBezTo>
                  <a:pt x="4613" y="10707"/>
                  <a:pt x="4658" y="10716"/>
                  <a:pt x="4713" y="10716"/>
                </a:cubicBezTo>
                <a:cubicBezTo>
                  <a:pt x="4738" y="10716"/>
                  <a:pt x="4762" y="10716"/>
                  <a:pt x="4787" y="10716"/>
                </a:cubicBezTo>
              </a:path>
              <a:path w="15231" h="5359">
                <a:moveTo>
                  <a:pt x="4291" y="13072"/>
                </a:moveTo>
                <a:cubicBezTo>
                  <a:pt x="4285" y="13140"/>
                  <a:pt x="4284" y="13228"/>
                  <a:pt x="4266" y="13295"/>
                </a:cubicBezTo>
                <a:cubicBezTo>
                  <a:pt x="4247" y="13368"/>
                  <a:pt x="4229" y="13446"/>
                  <a:pt x="4217" y="13519"/>
                </a:cubicBezTo>
                <a:cubicBezTo>
                  <a:pt x="4207" y="13584"/>
                  <a:pt x="4196" y="13653"/>
                  <a:pt x="4192" y="13717"/>
                </a:cubicBezTo>
                <a:cubicBezTo>
                  <a:pt x="4189" y="13780"/>
                  <a:pt x="4172" y="13793"/>
                  <a:pt x="4192" y="13841"/>
                </a:cubicBezTo>
                <a:cubicBezTo>
                  <a:pt x="4201" y="13804"/>
                  <a:pt x="4212" y="13796"/>
                  <a:pt x="4242" y="13767"/>
                </a:cubicBezTo>
              </a:path>
              <a:path w="15231" h="5359">
                <a:moveTo>
                  <a:pt x="4589" y="13271"/>
                </a:moveTo>
                <a:cubicBezTo>
                  <a:pt x="4589" y="13331"/>
                  <a:pt x="4561" y="13322"/>
                  <a:pt x="4539" y="13370"/>
                </a:cubicBezTo>
                <a:cubicBezTo>
                  <a:pt x="4539" y="13378"/>
                  <a:pt x="4539" y="13387"/>
                  <a:pt x="4539" y="13395"/>
                </a:cubicBezTo>
                <a:cubicBezTo>
                  <a:pt x="4510" y="13404"/>
                  <a:pt x="4494" y="13428"/>
                  <a:pt x="4490" y="13469"/>
                </a:cubicBezTo>
                <a:cubicBezTo>
                  <a:pt x="4485" y="13516"/>
                  <a:pt x="4551" y="13555"/>
                  <a:pt x="4589" y="13568"/>
                </a:cubicBezTo>
                <a:cubicBezTo>
                  <a:pt x="4635" y="13583"/>
                  <a:pt x="4686" y="13609"/>
                  <a:pt x="4738" y="13618"/>
                </a:cubicBezTo>
                <a:cubicBezTo>
                  <a:pt x="4792" y="13627"/>
                  <a:pt x="4821" y="13618"/>
                  <a:pt x="4862" y="13593"/>
                </a:cubicBezTo>
              </a:path>
              <a:path w="15231" h="5359">
                <a:moveTo>
                  <a:pt x="4936" y="13171"/>
                </a:moveTo>
                <a:cubicBezTo>
                  <a:pt x="4898" y="13320"/>
                  <a:pt x="4887" y="13397"/>
                  <a:pt x="4887" y="13543"/>
                </a:cubicBezTo>
                <a:cubicBezTo>
                  <a:pt x="4887" y="13664"/>
                  <a:pt x="4895" y="13774"/>
                  <a:pt x="4911" y="13891"/>
                </a:cubicBezTo>
                <a:cubicBezTo>
                  <a:pt x="4918" y="13947"/>
                  <a:pt x="4911" y="14008"/>
                  <a:pt x="4911" y="14064"/>
                </a:cubicBezTo>
              </a:path>
              <a:path w="15231" h="5359">
                <a:moveTo>
                  <a:pt x="1116" y="12353"/>
                </a:moveTo>
                <a:cubicBezTo>
                  <a:pt x="1150" y="12442"/>
                  <a:pt x="1127" y="12465"/>
                  <a:pt x="1116" y="12551"/>
                </a:cubicBezTo>
                <a:cubicBezTo>
                  <a:pt x="1098" y="12690"/>
                  <a:pt x="1109" y="12834"/>
                  <a:pt x="1091" y="12973"/>
                </a:cubicBezTo>
                <a:cubicBezTo>
                  <a:pt x="1086" y="13012"/>
                  <a:pt x="1091" y="13057"/>
                  <a:pt x="1091" y="13097"/>
                </a:cubicBezTo>
                <a:cubicBezTo>
                  <a:pt x="1125" y="13086"/>
                  <a:pt x="1134" y="13037"/>
                  <a:pt x="1166" y="12998"/>
                </a:cubicBezTo>
              </a:path>
              <a:path w="15231" h="5359">
                <a:moveTo>
                  <a:pt x="1463" y="12452"/>
                </a:moveTo>
                <a:cubicBezTo>
                  <a:pt x="1463" y="12557"/>
                  <a:pt x="1430" y="12629"/>
                  <a:pt x="1414" y="12725"/>
                </a:cubicBezTo>
                <a:cubicBezTo>
                  <a:pt x="1398" y="12819"/>
                  <a:pt x="1419" y="12912"/>
                  <a:pt x="1439" y="12998"/>
                </a:cubicBezTo>
                <a:cubicBezTo>
                  <a:pt x="1448" y="13038"/>
                  <a:pt x="1467" y="13069"/>
                  <a:pt x="1513" y="13072"/>
                </a:cubicBezTo>
                <a:cubicBezTo>
                  <a:pt x="1598" y="13078"/>
                  <a:pt x="1608" y="13016"/>
                  <a:pt x="1662" y="12973"/>
                </a:cubicBezTo>
                <a:cubicBezTo>
                  <a:pt x="1736" y="12914"/>
                  <a:pt x="1736" y="12896"/>
                  <a:pt x="1736" y="12799"/>
                </a:cubicBezTo>
                <a:cubicBezTo>
                  <a:pt x="1736" y="12716"/>
                  <a:pt x="1724" y="12675"/>
                  <a:pt x="1687" y="12601"/>
                </a:cubicBezTo>
                <a:cubicBezTo>
                  <a:pt x="1657" y="12542"/>
                  <a:pt x="1609" y="12523"/>
                  <a:pt x="1563" y="12477"/>
                </a:cubicBezTo>
                <a:cubicBezTo>
                  <a:pt x="1538" y="12452"/>
                  <a:pt x="1513" y="12427"/>
                  <a:pt x="1488" y="12402"/>
                </a:cubicBezTo>
              </a:path>
              <a:path w="15231" h="5359">
                <a:moveTo>
                  <a:pt x="3026" y="10964"/>
                </a:moveTo>
                <a:cubicBezTo>
                  <a:pt x="3069" y="10964"/>
                  <a:pt x="3066" y="10963"/>
                  <a:pt x="3101" y="10988"/>
                </a:cubicBezTo>
                <a:cubicBezTo>
                  <a:pt x="3092" y="11024"/>
                  <a:pt x="3058" y="11055"/>
                  <a:pt x="3051" y="11088"/>
                </a:cubicBezTo>
                <a:cubicBezTo>
                  <a:pt x="3037" y="11152"/>
                  <a:pt x="3009" y="11197"/>
                  <a:pt x="2977" y="11261"/>
                </a:cubicBezTo>
                <a:cubicBezTo>
                  <a:pt x="2935" y="11346"/>
                  <a:pt x="2884" y="11370"/>
                  <a:pt x="2828" y="11435"/>
                </a:cubicBezTo>
                <a:cubicBezTo>
                  <a:pt x="2779" y="11492"/>
                  <a:pt x="2708" y="11561"/>
                  <a:pt x="2629" y="11584"/>
                </a:cubicBezTo>
                <a:cubicBezTo>
                  <a:pt x="2574" y="11600"/>
                  <a:pt x="2516" y="11609"/>
                  <a:pt x="2456" y="11609"/>
                </a:cubicBezTo>
                <a:cubicBezTo>
                  <a:pt x="2410" y="11609"/>
                  <a:pt x="2366" y="11607"/>
                  <a:pt x="2332" y="11584"/>
                </a:cubicBezTo>
                <a:cubicBezTo>
                  <a:pt x="2300" y="11563"/>
                  <a:pt x="2288" y="11557"/>
                  <a:pt x="2257" y="11534"/>
                </a:cubicBezTo>
                <a:cubicBezTo>
                  <a:pt x="2257" y="11580"/>
                  <a:pt x="2255" y="11603"/>
                  <a:pt x="2307" y="11609"/>
                </a:cubicBezTo>
                <a:cubicBezTo>
                  <a:pt x="2402" y="11620"/>
                  <a:pt x="2516" y="11618"/>
                  <a:pt x="2604" y="11584"/>
                </a:cubicBezTo>
                <a:cubicBezTo>
                  <a:pt x="2720" y="11540"/>
                  <a:pt x="2862" y="11470"/>
                  <a:pt x="2952" y="11385"/>
                </a:cubicBezTo>
                <a:cubicBezTo>
                  <a:pt x="3009" y="11332"/>
                  <a:pt x="3061" y="11230"/>
                  <a:pt x="3101" y="11162"/>
                </a:cubicBezTo>
                <a:cubicBezTo>
                  <a:pt x="3131" y="11111"/>
                  <a:pt x="3145" y="11043"/>
                  <a:pt x="3150" y="10988"/>
                </a:cubicBezTo>
                <a:cubicBezTo>
                  <a:pt x="3154" y="10944"/>
                  <a:pt x="3160" y="10926"/>
                  <a:pt x="3125" y="10914"/>
                </a:cubicBezTo>
              </a:path>
              <a:path w="15231" h="5359">
                <a:moveTo>
                  <a:pt x="8136" y="12551"/>
                </a:moveTo>
                <a:cubicBezTo>
                  <a:pt x="8149" y="12589"/>
                  <a:pt x="8161" y="12572"/>
                  <a:pt x="8161" y="12626"/>
                </a:cubicBezTo>
                <a:cubicBezTo>
                  <a:pt x="8161" y="12650"/>
                  <a:pt x="8161" y="12659"/>
                  <a:pt x="8161" y="12675"/>
                </a:cubicBezTo>
                <a:cubicBezTo>
                  <a:pt x="8123" y="12662"/>
                  <a:pt x="8136" y="12646"/>
                  <a:pt x="8136" y="12601"/>
                </a:cubicBezTo>
                <a:cubicBezTo>
                  <a:pt x="8136" y="12588"/>
                  <a:pt x="8108" y="12537"/>
                  <a:pt x="8086" y="12526"/>
                </a:cubicBezTo>
                <a:cubicBezTo>
                  <a:pt x="8033" y="12499"/>
                  <a:pt x="8036" y="12510"/>
                  <a:pt x="7987" y="12526"/>
                </a:cubicBezTo>
                <a:cubicBezTo>
                  <a:pt x="7944" y="12540"/>
                  <a:pt x="7923" y="12566"/>
                  <a:pt x="7888" y="12601"/>
                </a:cubicBezTo>
                <a:cubicBezTo>
                  <a:pt x="7805" y="12684"/>
                  <a:pt x="7811" y="12675"/>
                  <a:pt x="7764" y="12799"/>
                </a:cubicBezTo>
                <a:cubicBezTo>
                  <a:pt x="7735" y="12876"/>
                  <a:pt x="7728" y="12925"/>
                  <a:pt x="7764" y="12998"/>
                </a:cubicBezTo>
                <a:cubicBezTo>
                  <a:pt x="7795" y="13061"/>
                  <a:pt x="7836" y="13150"/>
                  <a:pt x="7913" y="13171"/>
                </a:cubicBezTo>
                <a:cubicBezTo>
                  <a:pt x="7955" y="13182"/>
                  <a:pt x="8019" y="13171"/>
                  <a:pt x="8062" y="13171"/>
                </a:cubicBezTo>
              </a:path>
              <a:path w="15231" h="5359">
                <a:moveTo>
                  <a:pt x="8434" y="12725"/>
                </a:moveTo>
                <a:cubicBezTo>
                  <a:pt x="8412" y="12778"/>
                  <a:pt x="8369" y="12842"/>
                  <a:pt x="8359" y="12898"/>
                </a:cubicBezTo>
                <a:cubicBezTo>
                  <a:pt x="8348" y="12959"/>
                  <a:pt x="8334" y="13008"/>
                  <a:pt x="8334" y="13072"/>
                </a:cubicBezTo>
                <a:cubicBezTo>
                  <a:pt x="8334" y="13100"/>
                  <a:pt x="8379" y="13162"/>
                  <a:pt x="8409" y="13171"/>
                </a:cubicBezTo>
                <a:cubicBezTo>
                  <a:pt x="8466" y="13187"/>
                  <a:pt x="8515" y="13155"/>
                  <a:pt x="8558" y="13146"/>
                </a:cubicBezTo>
                <a:cubicBezTo>
                  <a:pt x="8633" y="13131"/>
                  <a:pt x="8644" y="13120"/>
                  <a:pt x="8682" y="13047"/>
                </a:cubicBezTo>
                <a:cubicBezTo>
                  <a:pt x="8705" y="13003"/>
                  <a:pt x="8742" y="12924"/>
                  <a:pt x="8731" y="12874"/>
                </a:cubicBezTo>
                <a:cubicBezTo>
                  <a:pt x="8720" y="12823"/>
                  <a:pt x="8692" y="12764"/>
                  <a:pt x="8657" y="12725"/>
                </a:cubicBezTo>
                <a:cubicBezTo>
                  <a:pt x="8601" y="12663"/>
                  <a:pt x="8559" y="12650"/>
                  <a:pt x="8483" y="12650"/>
                </a:cubicBezTo>
                <a:cubicBezTo>
                  <a:pt x="8415" y="12650"/>
                  <a:pt x="8410" y="12686"/>
                  <a:pt x="8384" y="12725"/>
                </a:cubicBezTo>
                <a:cubicBezTo>
                  <a:pt x="8365" y="12753"/>
                  <a:pt x="8332" y="12798"/>
                  <a:pt x="8384" y="12824"/>
                </a:cubicBezTo>
                <a:cubicBezTo>
                  <a:pt x="8392" y="12824"/>
                  <a:pt x="8401" y="12824"/>
                  <a:pt x="8409" y="12824"/>
                </a:cubicBezTo>
              </a:path>
              <a:path w="15231" h="5359">
                <a:moveTo>
                  <a:pt x="9079" y="12601"/>
                </a:moveTo>
                <a:cubicBezTo>
                  <a:pt x="9016" y="12620"/>
                  <a:pt x="8991" y="12626"/>
                  <a:pt x="8930" y="12626"/>
                </a:cubicBezTo>
                <a:cubicBezTo>
                  <a:pt x="8888" y="12626"/>
                  <a:pt x="8882" y="12671"/>
                  <a:pt x="8905" y="12700"/>
                </a:cubicBezTo>
                <a:cubicBezTo>
                  <a:pt x="8937" y="12741"/>
                  <a:pt x="8954" y="12769"/>
                  <a:pt x="9004" y="12799"/>
                </a:cubicBezTo>
                <a:cubicBezTo>
                  <a:pt x="9079" y="12844"/>
                  <a:pt x="9119" y="12905"/>
                  <a:pt x="9178" y="12973"/>
                </a:cubicBezTo>
                <a:cubicBezTo>
                  <a:pt x="9195" y="12992"/>
                  <a:pt x="9247" y="13071"/>
                  <a:pt x="9227" y="13097"/>
                </a:cubicBezTo>
                <a:cubicBezTo>
                  <a:pt x="9222" y="13104"/>
                  <a:pt x="9175" y="13139"/>
                  <a:pt x="9153" y="13146"/>
                </a:cubicBezTo>
                <a:cubicBezTo>
                  <a:pt x="9097" y="13164"/>
                  <a:pt x="9053" y="13134"/>
                  <a:pt x="9004" y="13122"/>
                </a:cubicBezTo>
                <a:cubicBezTo>
                  <a:pt x="8978" y="13116"/>
                  <a:pt x="8919" y="13100"/>
                  <a:pt x="8905" y="13072"/>
                </a:cubicBezTo>
                <a:cubicBezTo>
                  <a:pt x="8905" y="13047"/>
                  <a:pt x="8905" y="13039"/>
                  <a:pt x="8905" y="13022"/>
                </a:cubicBezTo>
              </a:path>
              <a:path w="15231" h="5359">
                <a:moveTo>
                  <a:pt x="9451" y="12378"/>
                </a:moveTo>
                <a:cubicBezTo>
                  <a:pt x="9483" y="12465"/>
                  <a:pt x="9465" y="12491"/>
                  <a:pt x="9451" y="12576"/>
                </a:cubicBezTo>
                <a:cubicBezTo>
                  <a:pt x="9440" y="12648"/>
                  <a:pt x="9435" y="12731"/>
                  <a:pt x="9426" y="12799"/>
                </a:cubicBezTo>
                <a:cubicBezTo>
                  <a:pt x="9420" y="12848"/>
                  <a:pt x="9426" y="13157"/>
                  <a:pt x="9426" y="13047"/>
                </a:cubicBezTo>
                <a:cubicBezTo>
                  <a:pt x="9426" y="13039"/>
                  <a:pt x="9426" y="13030"/>
                  <a:pt x="9426" y="13022"/>
                </a:cubicBezTo>
              </a:path>
              <a:path w="15231" h="5359">
                <a:moveTo>
                  <a:pt x="9426" y="12675"/>
                </a:moveTo>
                <a:cubicBezTo>
                  <a:pt x="9403" y="12548"/>
                  <a:pt x="9400" y="12514"/>
                  <a:pt x="9426" y="12402"/>
                </a:cubicBezTo>
                <a:cubicBezTo>
                  <a:pt x="9439" y="12346"/>
                  <a:pt x="9459" y="12318"/>
                  <a:pt x="9500" y="12278"/>
                </a:cubicBezTo>
                <a:cubicBezTo>
                  <a:pt x="9524" y="12255"/>
                  <a:pt x="9613" y="12200"/>
                  <a:pt x="9649" y="12204"/>
                </a:cubicBezTo>
                <a:cubicBezTo>
                  <a:pt x="9684" y="12208"/>
                  <a:pt x="9780" y="12246"/>
                  <a:pt x="9798" y="12278"/>
                </a:cubicBezTo>
                <a:cubicBezTo>
                  <a:pt x="9825" y="12325"/>
                  <a:pt x="9824" y="12333"/>
                  <a:pt x="9798" y="12378"/>
                </a:cubicBezTo>
                <a:cubicBezTo>
                  <a:pt x="9757" y="12449"/>
                  <a:pt x="9740" y="12466"/>
                  <a:pt x="9674" y="12526"/>
                </a:cubicBezTo>
                <a:cubicBezTo>
                  <a:pt x="9640" y="12557"/>
                  <a:pt x="9593" y="12596"/>
                  <a:pt x="9550" y="12601"/>
                </a:cubicBezTo>
                <a:cubicBezTo>
                  <a:pt x="9525" y="12601"/>
                  <a:pt x="9517" y="12601"/>
                  <a:pt x="9550" y="12601"/>
                </a:cubicBezTo>
                <a:cubicBezTo>
                  <a:pt x="9597" y="12601"/>
                  <a:pt x="9660" y="12606"/>
                  <a:pt x="9699" y="12626"/>
                </a:cubicBezTo>
                <a:cubicBezTo>
                  <a:pt x="9745" y="12650"/>
                  <a:pt x="9816" y="12703"/>
                  <a:pt x="9847" y="12750"/>
                </a:cubicBezTo>
                <a:cubicBezTo>
                  <a:pt x="9875" y="12793"/>
                  <a:pt x="9891" y="12898"/>
                  <a:pt x="9872" y="12948"/>
                </a:cubicBezTo>
                <a:cubicBezTo>
                  <a:pt x="9858" y="12984"/>
                  <a:pt x="9792" y="13109"/>
                  <a:pt x="9748" y="13122"/>
                </a:cubicBezTo>
                <a:cubicBezTo>
                  <a:pt x="9690" y="13139"/>
                  <a:pt x="9641" y="13146"/>
                  <a:pt x="9575" y="13146"/>
                </a:cubicBezTo>
                <a:cubicBezTo>
                  <a:pt x="9559" y="13146"/>
                  <a:pt x="9490" y="13131"/>
                  <a:pt x="9475" y="13122"/>
                </a:cubicBezTo>
                <a:cubicBezTo>
                  <a:pt x="9417" y="13089"/>
                  <a:pt x="9465" y="13056"/>
                  <a:pt x="9500" y="13047"/>
                </a:cubicBezTo>
              </a:path>
              <a:path w="15231" h="5359">
                <a:moveTo>
                  <a:pt x="10145" y="12700"/>
                </a:moveTo>
                <a:cubicBezTo>
                  <a:pt x="10251" y="12700"/>
                  <a:pt x="10305" y="12680"/>
                  <a:pt x="10393" y="12675"/>
                </a:cubicBezTo>
                <a:cubicBezTo>
                  <a:pt x="10410" y="12675"/>
                  <a:pt x="10426" y="12675"/>
                  <a:pt x="10443" y="12675"/>
                </a:cubicBezTo>
              </a:path>
              <a:path w="15231" h="5359">
                <a:moveTo>
                  <a:pt x="10170" y="12898"/>
                </a:moveTo>
                <a:cubicBezTo>
                  <a:pt x="10241" y="12927"/>
                  <a:pt x="10270" y="12948"/>
                  <a:pt x="10344" y="12948"/>
                </a:cubicBezTo>
                <a:cubicBezTo>
                  <a:pt x="10394" y="12948"/>
                  <a:pt x="10446" y="13017"/>
                  <a:pt x="10468" y="12973"/>
                </a:cubicBezTo>
                <a:cubicBezTo>
                  <a:pt x="10468" y="12965"/>
                  <a:pt x="10468" y="12956"/>
                  <a:pt x="10468" y="12948"/>
                </a:cubicBezTo>
              </a:path>
              <a:path w="15231" h="5359">
                <a:moveTo>
                  <a:pt x="11212" y="12551"/>
                </a:moveTo>
                <a:cubicBezTo>
                  <a:pt x="11212" y="12773"/>
                  <a:pt x="11196" y="13017"/>
                  <a:pt x="11237" y="13221"/>
                </a:cubicBezTo>
                <a:cubicBezTo>
                  <a:pt x="11237" y="13266"/>
                  <a:pt x="11233" y="13279"/>
                  <a:pt x="11261" y="13295"/>
                </a:cubicBezTo>
              </a:path>
              <a:path w="15231" h="5359">
                <a:moveTo>
                  <a:pt x="11559" y="12601"/>
                </a:moveTo>
                <a:cubicBezTo>
                  <a:pt x="11604" y="12573"/>
                  <a:pt x="11670" y="12524"/>
                  <a:pt x="11733" y="12551"/>
                </a:cubicBezTo>
                <a:cubicBezTo>
                  <a:pt x="11769" y="12566"/>
                  <a:pt x="11821" y="12641"/>
                  <a:pt x="11832" y="12675"/>
                </a:cubicBezTo>
                <a:cubicBezTo>
                  <a:pt x="11847" y="12721"/>
                  <a:pt x="11811" y="12778"/>
                  <a:pt x="11807" y="12824"/>
                </a:cubicBezTo>
                <a:cubicBezTo>
                  <a:pt x="11802" y="12885"/>
                  <a:pt x="11746" y="12923"/>
                  <a:pt x="11733" y="12973"/>
                </a:cubicBezTo>
                <a:cubicBezTo>
                  <a:pt x="11716" y="13036"/>
                  <a:pt x="11694" y="13063"/>
                  <a:pt x="11658" y="13122"/>
                </a:cubicBezTo>
                <a:cubicBezTo>
                  <a:pt x="11633" y="13163"/>
                  <a:pt x="11614" y="13225"/>
                  <a:pt x="11609" y="13271"/>
                </a:cubicBezTo>
                <a:cubicBezTo>
                  <a:pt x="11609" y="13295"/>
                  <a:pt x="11609" y="13304"/>
                  <a:pt x="11609" y="13320"/>
                </a:cubicBezTo>
                <a:cubicBezTo>
                  <a:pt x="11684" y="13320"/>
                  <a:pt x="11744" y="13316"/>
                  <a:pt x="11807" y="13295"/>
                </a:cubicBezTo>
                <a:cubicBezTo>
                  <a:pt x="11871" y="13274"/>
                  <a:pt x="11921" y="13303"/>
                  <a:pt x="11981" y="13271"/>
                </a:cubicBezTo>
                <a:cubicBezTo>
                  <a:pt x="12025" y="13247"/>
                  <a:pt x="12046" y="13230"/>
                  <a:pt x="12080" y="13196"/>
                </a:cubicBezTo>
              </a:path>
              <a:path w="15231" h="5359">
                <a:moveTo>
                  <a:pt x="11981" y="12303"/>
                </a:moveTo>
                <a:cubicBezTo>
                  <a:pt x="12018" y="12265"/>
                  <a:pt x="12027" y="12254"/>
                  <a:pt x="12080" y="12254"/>
                </a:cubicBezTo>
                <a:cubicBezTo>
                  <a:pt x="12144" y="12254"/>
                  <a:pt x="12116" y="12233"/>
                  <a:pt x="12179" y="12254"/>
                </a:cubicBezTo>
                <a:cubicBezTo>
                  <a:pt x="12211" y="12265"/>
                  <a:pt x="12218" y="12271"/>
                  <a:pt x="12229" y="12303"/>
                </a:cubicBezTo>
                <a:cubicBezTo>
                  <a:pt x="12193" y="12339"/>
                  <a:pt x="12184" y="12368"/>
                  <a:pt x="12154" y="12402"/>
                </a:cubicBezTo>
                <a:cubicBezTo>
                  <a:pt x="12128" y="12430"/>
                  <a:pt x="12114" y="12487"/>
                  <a:pt x="12105" y="12526"/>
                </a:cubicBezTo>
                <a:cubicBezTo>
                  <a:pt x="12092" y="12579"/>
                  <a:pt x="12124" y="12563"/>
                  <a:pt x="12129" y="12601"/>
                </a:cubicBezTo>
                <a:cubicBezTo>
                  <a:pt x="12132" y="12627"/>
                  <a:pt x="12170" y="12670"/>
                  <a:pt x="12179" y="12675"/>
                </a:cubicBezTo>
                <a:cubicBezTo>
                  <a:pt x="12228" y="12700"/>
                  <a:pt x="12291" y="12662"/>
                  <a:pt x="12328" y="12650"/>
                </a:cubicBezTo>
                <a:cubicBezTo>
                  <a:pt x="12356" y="12650"/>
                  <a:pt x="12367" y="12648"/>
                  <a:pt x="12378" y="12626"/>
                </a:cubicBezTo>
              </a:path>
              <a:path w="15231" h="5359">
                <a:moveTo>
                  <a:pt x="12626" y="12601"/>
                </a:moveTo>
                <a:cubicBezTo>
                  <a:pt x="12601" y="12690"/>
                  <a:pt x="12601" y="12756"/>
                  <a:pt x="12601" y="12849"/>
                </a:cubicBezTo>
                <a:cubicBezTo>
                  <a:pt x="12601" y="12916"/>
                  <a:pt x="12606" y="12985"/>
                  <a:pt x="12626" y="13047"/>
                </a:cubicBezTo>
                <a:cubicBezTo>
                  <a:pt x="12646" y="13109"/>
                  <a:pt x="12644" y="13170"/>
                  <a:pt x="12675" y="13221"/>
                </a:cubicBezTo>
              </a:path>
              <a:path w="15231" h="5359">
                <a:moveTo>
                  <a:pt x="12477" y="12849"/>
                </a:moveTo>
                <a:cubicBezTo>
                  <a:pt x="12477" y="12832"/>
                  <a:pt x="12477" y="12816"/>
                  <a:pt x="12477" y="12799"/>
                </a:cubicBezTo>
                <a:cubicBezTo>
                  <a:pt x="12575" y="12799"/>
                  <a:pt x="12659" y="12790"/>
                  <a:pt x="12750" y="12774"/>
                </a:cubicBezTo>
                <a:cubicBezTo>
                  <a:pt x="12816" y="12762"/>
                  <a:pt x="12824" y="12771"/>
                  <a:pt x="12898" y="12750"/>
                </a:cubicBezTo>
              </a:path>
              <a:path w="15231" h="5359">
                <a:moveTo>
                  <a:pt x="13395" y="12402"/>
                </a:moveTo>
                <a:cubicBezTo>
                  <a:pt x="13395" y="12449"/>
                  <a:pt x="13417" y="12481"/>
                  <a:pt x="13419" y="12526"/>
                </a:cubicBezTo>
                <a:cubicBezTo>
                  <a:pt x="13425" y="12647"/>
                  <a:pt x="13410" y="12758"/>
                  <a:pt x="13395" y="12874"/>
                </a:cubicBezTo>
                <a:cubicBezTo>
                  <a:pt x="13391" y="12902"/>
                  <a:pt x="13387" y="13187"/>
                  <a:pt x="13419" y="13171"/>
                </a:cubicBezTo>
                <a:cubicBezTo>
                  <a:pt x="13441" y="13149"/>
                  <a:pt x="13450" y="13144"/>
                  <a:pt x="13444" y="13122"/>
                </a:cubicBezTo>
              </a:path>
              <a:path w="15231" h="5359">
                <a:moveTo>
                  <a:pt x="13692" y="12601"/>
                </a:moveTo>
                <a:cubicBezTo>
                  <a:pt x="13676" y="12715"/>
                  <a:pt x="13656" y="12838"/>
                  <a:pt x="13643" y="12948"/>
                </a:cubicBezTo>
                <a:cubicBezTo>
                  <a:pt x="13632" y="13036"/>
                  <a:pt x="13641" y="13122"/>
                  <a:pt x="13692" y="13196"/>
                </a:cubicBezTo>
                <a:cubicBezTo>
                  <a:pt x="13716" y="13231"/>
                  <a:pt x="13775" y="13287"/>
                  <a:pt x="13816" y="13295"/>
                </a:cubicBezTo>
                <a:cubicBezTo>
                  <a:pt x="13867" y="13306"/>
                  <a:pt x="13913" y="13263"/>
                  <a:pt x="13940" y="13221"/>
                </a:cubicBezTo>
                <a:cubicBezTo>
                  <a:pt x="13980" y="13158"/>
                  <a:pt x="14007" y="13071"/>
                  <a:pt x="14015" y="12998"/>
                </a:cubicBezTo>
                <a:cubicBezTo>
                  <a:pt x="14024" y="12923"/>
                  <a:pt x="14010" y="12819"/>
                  <a:pt x="13990" y="12750"/>
                </a:cubicBezTo>
                <a:cubicBezTo>
                  <a:pt x="13975" y="12699"/>
                  <a:pt x="13919" y="12594"/>
                  <a:pt x="13866" y="12576"/>
                </a:cubicBezTo>
                <a:cubicBezTo>
                  <a:pt x="13793" y="12552"/>
                  <a:pt x="13768" y="12558"/>
                  <a:pt x="13692" y="12576"/>
                </a:cubicBezTo>
                <a:cubicBezTo>
                  <a:pt x="13684" y="12576"/>
                  <a:pt x="13675" y="12576"/>
                  <a:pt x="13667" y="12576"/>
                </a:cubicBezTo>
              </a:path>
              <a:path w="15231" h="5359">
                <a:moveTo>
                  <a:pt x="13990" y="12229"/>
                </a:moveTo>
                <a:cubicBezTo>
                  <a:pt x="14081" y="12204"/>
                  <a:pt x="14114" y="12189"/>
                  <a:pt x="14188" y="12254"/>
                </a:cubicBezTo>
                <a:cubicBezTo>
                  <a:pt x="14239" y="12299"/>
                  <a:pt x="14244" y="12300"/>
                  <a:pt x="14213" y="12353"/>
                </a:cubicBezTo>
                <a:cubicBezTo>
                  <a:pt x="14184" y="12404"/>
                  <a:pt x="14171" y="12458"/>
                  <a:pt x="14139" y="12502"/>
                </a:cubicBezTo>
                <a:cubicBezTo>
                  <a:pt x="14164" y="12536"/>
                  <a:pt x="14173" y="12575"/>
                  <a:pt x="14213" y="12601"/>
                </a:cubicBezTo>
                <a:cubicBezTo>
                  <a:pt x="14279" y="12643"/>
                  <a:pt x="14362" y="12638"/>
                  <a:pt x="14436" y="12675"/>
                </a:cubicBezTo>
              </a:path>
              <a:path w="15231" h="5359">
                <a:moveTo>
                  <a:pt x="14585" y="13047"/>
                </a:moveTo>
                <a:cubicBezTo>
                  <a:pt x="14676" y="13047"/>
                  <a:pt x="14767" y="13047"/>
                  <a:pt x="14858" y="13047"/>
                </a:cubicBezTo>
              </a:path>
              <a:path w="15231" h="5359">
                <a:moveTo>
                  <a:pt x="15205" y="12675"/>
                </a:moveTo>
                <a:cubicBezTo>
                  <a:pt x="15205" y="12783"/>
                  <a:pt x="15185" y="12870"/>
                  <a:pt x="15180" y="12973"/>
                </a:cubicBezTo>
                <a:cubicBezTo>
                  <a:pt x="15176" y="13055"/>
                  <a:pt x="15205" y="13135"/>
                  <a:pt x="15205" y="13221"/>
                </a:cubicBezTo>
                <a:cubicBezTo>
                  <a:pt x="15205" y="13266"/>
                  <a:pt x="15230" y="13298"/>
                  <a:pt x="15230" y="13345"/>
                </a:cubicBezTo>
                <a:cubicBezTo>
                  <a:pt x="15263" y="13302"/>
                  <a:pt x="15261" y="13284"/>
                  <a:pt x="15280" y="13221"/>
                </a:cubicBezTo>
              </a:path>
              <a:path w="15231" h="5359">
                <a:moveTo>
                  <a:pt x="15429" y="12675"/>
                </a:moveTo>
                <a:cubicBezTo>
                  <a:pt x="15403" y="12719"/>
                  <a:pt x="15404" y="12746"/>
                  <a:pt x="15404" y="12799"/>
                </a:cubicBezTo>
                <a:cubicBezTo>
                  <a:pt x="15404" y="12842"/>
                  <a:pt x="15448" y="12869"/>
                  <a:pt x="15478" y="12898"/>
                </a:cubicBezTo>
                <a:cubicBezTo>
                  <a:pt x="15527" y="12947"/>
                  <a:pt x="15562" y="12948"/>
                  <a:pt x="15627" y="12948"/>
                </a:cubicBezTo>
                <a:cubicBezTo>
                  <a:pt x="15662" y="12948"/>
                  <a:pt x="15679" y="12943"/>
                  <a:pt x="15701" y="12923"/>
                </a:cubicBezTo>
              </a:path>
              <a:path w="15231" h="5359">
                <a:moveTo>
                  <a:pt x="15751" y="12502"/>
                </a:moveTo>
                <a:cubicBezTo>
                  <a:pt x="15715" y="12573"/>
                  <a:pt x="15686" y="12648"/>
                  <a:pt x="15677" y="12725"/>
                </a:cubicBezTo>
                <a:cubicBezTo>
                  <a:pt x="15664" y="12835"/>
                  <a:pt x="15689" y="12944"/>
                  <a:pt x="15701" y="13047"/>
                </a:cubicBezTo>
                <a:cubicBezTo>
                  <a:pt x="15709" y="13115"/>
                  <a:pt x="15720" y="13182"/>
                  <a:pt x="15726" y="13246"/>
                </a:cubicBezTo>
                <a:cubicBezTo>
                  <a:pt x="15731" y="13291"/>
                  <a:pt x="15742" y="13274"/>
                  <a:pt x="15751" y="13246"/>
                </a:cubicBezTo>
              </a:path>
              <a:path w="15231" h="5359">
                <a:moveTo>
                  <a:pt x="15900" y="12303"/>
                </a:moveTo>
                <a:cubicBezTo>
                  <a:pt x="15944" y="12251"/>
                  <a:pt x="15944" y="12262"/>
                  <a:pt x="15999" y="12229"/>
                </a:cubicBezTo>
                <a:cubicBezTo>
                  <a:pt x="16070" y="12276"/>
                  <a:pt x="16115" y="12263"/>
                  <a:pt x="16123" y="12353"/>
                </a:cubicBezTo>
                <a:cubicBezTo>
                  <a:pt x="16125" y="12379"/>
                  <a:pt x="16088" y="12454"/>
                  <a:pt x="16073" y="12477"/>
                </a:cubicBezTo>
                <a:cubicBezTo>
                  <a:pt x="16043" y="12523"/>
                  <a:pt x="16024" y="12518"/>
                  <a:pt x="16024" y="12576"/>
                </a:cubicBezTo>
                <a:cubicBezTo>
                  <a:pt x="16024" y="12629"/>
                  <a:pt x="16035" y="12637"/>
                  <a:pt x="16073" y="12675"/>
                </a:cubicBezTo>
                <a:cubicBezTo>
                  <a:pt x="16124" y="12726"/>
                  <a:pt x="16185" y="12700"/>
                  <a:pt x="16247" y="12725"/>
                </a:cubicBezTo>
                <a:cubicBezTo>
                  <a:pt x="16277" y="12755"/>
                  <a:pt x="16291" y="12766"/>
                  <a:pt x="16321" y="12774"/>
                </a:cubicBezTo>
              </a:path>
              <a:path w="15231" h="5359">
                <a:moveTo>
                  <a:pt x="12402" y="14139"/>
                </a:moveTo>
                <a:cubicBezTo>
                  <a:pt x="12449" y="14173"/>
                  <a:pt x="12490" y="14163"/>
                  <a:pt x="12551" y="14163"/>
                </a:cubicBezTo>
                <a:cubicBezTo>
                  <a:pt x="12603" y="14163"/>
                  <a:pt x="12680" y="14167"/>
                  <a:pt x="12725" y="14188"/>
                </a:cubicBezTo>
                <a:cubicBezTo>
                  <a:pt x="12753" y="14201"/>
                  <a:pt x="12804" y="14284"/>
                  <a:pt x="12799" y="14312"/>
                </a:cubicBezTo>
                <a:cubicBezTo>
                  <a:pt x="12789" y="14373"/>
                  <a:pt x="12746" y="14436"/>
                  <a:pt x="12700" y="14486"/>
                </a:cubicBezTo>
                <a:cubicBezTo>
                  <a:pt x="12631" y="14560"/>
                  <a:pt x="12553" y="14632"/>
                  <a:pt x="12502" y="14709"/>
                </a:cubicBezTo>
                <a:cubicBezTo>
                  <a:pt x="12480" y="14742"/>
                  <a:pt x="12486" y="14746"/>
                  <a:pt x="12526" y="14759"/>
                </a:cubicBezTo>
                <a:cubicBezTo>
                  <a:pt x="12624" y="14792"/>
                  <a:pt x="12703" y="14781"/>
                  <a:pt x="12799" y="14734"/>
                </a:cubicBezTo>
                <a:cubicBezTo>
                  <a:pt x="12880" y="14695"/>
                  <a:pt x="12944" y="14647"/>
                  <a:pt x="12998" y="14585"/>
                </a:cubicBezTo>
              </a:path>
              <a:path w="15231" h="5359">
                <a:moveTo>
                  <a:pt x="13097" y="14486"/>
                </a:moveTo>
                <a:cubicBezTo>
                  <a:pt x="13131" y="14451"/>
                  <a:pt x="13146" y="14430"/>
                  <a:pt x="13171" y="14387"/>
                </a:cubicBezTo>
              </a:path>
              <a:path w="15231" h="5359">
                <a:moveTo>
                  <a:pt x="13419" y="14114"/>
                </a:moveTo>
                <a:cubicBezTo>
                  <a:pt x="13419" y="14257"/>
                  <a:pt x="13428" y="14371"/>
                  <a:pt x="13444" y="14511"/>
                </a:cubicBezTo>
                <a:cubicBezTo>
                  <a:pt x="13450" y="14565"/>
                  <a:pt x="13483" y="14610"/>
                  <a:pt x="13494" y="14635"/>
                </a:cubicBezTo>
                <a:cubicBezTo>
                  <a:pt x="13494" y="14643"/>
                  <a:pt x="13494" y="14652"/>
                  <a:pt x="13494" y="14660"/>
                </a:cubicBezTo>
              </a:path>
              <a:path w="15231" h="5359">
                <a:moveTo>
                  <a:pt x="13667" y="14114"/>
                </a:moveTo>
                <a:cubicBezTo>
                  <a:pt x="13728" y="14088"/>
                  <a:pt x="13777" y="14079"/>
                  <a:pt x="13841" y="14114"/>
                </a:cubicBezTo>
                <a:cubicBezTo>
                  <a:pt x="13895" y="14143"/>
                  <a:pt x="13891" y="14185"/>
                  <a:pt x="13891" y="14238"/>
                </a:cubicBezTo>
                <a:cubicBezTo>
                  <a:pt x="13891" y="14328"/>
                  <a:pt x="13835" y="14361"/>
                  <a:pt x="13791" y="14436"/>
                </a:cubicBezTo>
                <a:cubicBezTo>
                  <a:pt x="13764" y="14482"/>
                  <a:pt x="13767" y="14510"/>
                  <a:pt x="13767" y="14560"/>
                </a:cubicBezTo>
                <a:cubicBezTo>
                  <a:pt x="13767" y="14606"/>
                  <a:pt x="13824" y="14627"/>
                  <a:pt x="13866" y="14635"/>
                </a:cubicBezTo>
                <a:cubicBezTo>
                  <a:pt x="13936" y="14635"/>
                  <a:pt x="13971" y="14626"/>
                  <a:pt x="14015" y="14585"/>
                </a:cubicBezTo>
              </a:path>
              <a:path w="15231" h="5359">
                <a:moveTo>
                  <a:pt x="14238" y="14312"/>
                </a:moveTo>
                <a:cubicBezTo>
                  <a:pt x="14272" y="14280"/>
                  <a:pt x="14288" y="14263"/>
                  <a:pt x="14312" y="14238"/>
                </a:cubicBezTo>
              </a:path>
              <a:path w="15231" h="5359">
                <a:moveTo>
                  <a:pt x="14560" y="14039"/>
                </a:moveTo>
                <a:cubicBezTo>
                  <a:pt x="14560" y="14209"/>
                  <a:pt x="14565" y="14369"/>
                  <a:pt x="14585" y="14536"/>
                </a:cubicBezTo>
                <a:cubicBezTo>
                  <a:pt x="14592" y="14597"/>
                  <a:pt x="14569" y="14619"/>
                  <a:pt x="14635" y="14635"/>
                </a:cubicBezTo>
              </a:path>
              <a:path w="15231" h="5359">
                <a:moveTo>
                  <a:pt x="14858" y="14139"/>
                </a:moveTo>
                <a:cubicBezTo>
                  <a:pt x="14817" y="14254"/>
                  <a:pt x="14784" y="14303"/>
                  <a:pt x="14833" y="14412"/>
                </a:cubicBezTo>
                <a:cubicBezTo>
                  <a:pt x="14857" y="14464"/>
                  <a:pt x="14934" y="14548"/>
                  <a:pt x="14982" y="14585"/>
                </a:cubicBezTo>
                <a:cubicBezTo>
                  <a:pt x="15026" y="14618"/>
                  <a:pt x="15113" y="14628"/>
                  <a:pt x="15156" y="14585"/>
                </a:cubicBezTo>
                <a:cubicBezTo>
                  <a:pt x="15208" y="14533"/>
                  <a:pt x="15205" y="14453"/>
                  <a:pt x="15205" y="14387"/>
                </a:cubicBezTo>
                <a:cubicBezTo>
                  <a:pt x="15205" y="14298"/>
                  <a:pt x="15215" y="14220"/>
                  <a:pt x="15180" y="14139"/>
                </a:cubicBezTo>
                <a:cubicBezTo>
                  <a:pt x="15148" y="14065"/>
                  <a:pt x="15083" y="14043"/>
                  <a:pt x="15007" y="14039"/>
                </a:cubicBezTo>
                <a:cubicBezTo>
                  <a:pt x="14990" y="14039"/>
                  <a:pt x="14974" y="14039"/>
                  <a:pt x="14957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9240" y="5322960"/>
            <a:ext cx="911520" cy="330120"/>
          </a:xfrm>
          <a:custGeom>
            <a:avLst/>
            <a:gdLst/>
            <a:ahLst/>
            <a:rect l="l" t="t" r="r" b="b"/>
            <a:pathLst>
              <a:path w="2531" h="918">
                <a:moveTo>
                  <a:pt x="8558" y="15032"/>
                </a:moveTo>
                <a:cubicBezTo>
                  <a:pt x="8558" y="15055"/>
                  <a:pt x="8578" y="15107"/>
                  <a:pt x="8582" y="15106"/>
                </a:cubicBezTo>
                <a:cubicBezTo>
                  <a:pt x="8590" y="15098"/>
                  <a:pt x="8599" y="15089"/>
                  <a:pt x="8607" y="15081"/>
                </a:cubicBezTo>
                <a:cubicBezTo>
                  <a:pt x="8596" y="15037"/>
                  <a:pt x="8583" y="15026"/>
                  <a:pt x="8558" y="15007"/>
                </a:cubicBezTo>
                <a:cubicBezTo>
                  <a:pt x="8508" y="14969"/>
                  <a:pt x="8493" y="14979"/>
                  <a:pt x="8434" y="15007"/>
                </a:cubicBezTo>
                <a:cubicBezTo>
                  <a:pt x="8358" y="15043"/>
                  <a:pt x="8315" y="15028"/>
                  <a:pt x="8260" y="15106"/>
                </a:cubicBezTo>
                <a:cubicBezTo>
                  <a:pt x="8207" y="15181"/>
                  <a:pt x="8176" y="15212"/>
                  <a:pt x="8136" y="15304"/>
                </a:cubicBezTo>
                <a:cubicBezTo>
                  <a:pt x="8112" y="15359"/>
                  <a:pt x="8094" y="15441"/>
                  <a:pt x="8111" y="15503"/>
                </a:cubicBezTo>
                <a:cubicBezTo>
                  <a:pt x="8130" y="15572"/>
                  <a:pt x="8177" y="15617"/>
                  <a:pt x="8235" y="15652"/>
                </a:cubicBezTo>
                <a:cubicBezTo>
                  <a:pt x="8314" y="15700"/>
                  <a:pt x="8367" y="15668"/>
                  <a:pt x="8458" y="15652"/>
                </a:cubicBezTo>
              </a:path>
              <a:path w="2531" h="918">
                <a:moveTo>
                  <a:pt x="8756" y="15180"/>
                </a:moveTo>
                <a:cubicBezTo>
                  <a:pt x="8743" y="15230"/>
                  <a:pt x="8731" y="15244"/>
                  <a:pt x="8731" y="15304"/>
                </a:cubicBezTo>
                <a:cubicBezTo>
                  <a:pt x="8731" y="15385"/>
                  <a:pt x="8720" y="15462"/>
                  <a:pt x="8756" y="15528"/>
                </a:cubicBezTo>
                <a:cubicBezTo>
                  <a:pt x="8792" y="15594"/>
                  <a:pt x="8806" y="15621"/>
                  <a:pt x="8880" y="15627"/>
                </a:cubicBezTo>
                <a:cubicBezTo>
                  <a:pt x="8949" y="15633"/>
                  <a:pt x="8971" y="15593"/>
                  <a:pt x="9004" y="15553"/>
                </a:cubicBezTo>
                <a:cubicBezTo>
                  <a:pt x="9049" y="15498"/>
                  <a:pt x="9075" y="15450"/>
                  <a:pt x="9079" y="15379"/>
                </a:cubicBezTo>
                <a:cubicBezTo>
                  <a:pt x="9082" y="15322"/>
                  <a:pt x="9059" y="15228"/>
                  <a:pt x="9029" y="15180"/>
                </a:cubicBezTo>
                <a:cubicBezTo>
                  <a:pt x="9007" y="15145"/>
                  <a:pt x="8921" y="15092"/>
                  <a:pt x="8880" y="15106"/>
                </a:cubicBezTo>
                <a:cubicBezTo>
                  <a:pt x="8827" y="15124"/>
                  <a:pt x="8814" y="15161"/>
                  <a:pt x="8781" y="15205"/>
                </a:cubicBezTo>
                <a:cubicBezTo>
                  <a:pt x="8758" y="15235"/>
                  <a:pt x="8738" y="15311"/>
                  <a:pt x="8756" y="15354"/>
                </a:cubicBezTo>
                <a:cubicBezTo>
                  <a:pt x="8779" y="15377"/>
                  <a:pt x="8783" y="15385"/>
                  <a:pt x="8806" y="15379"/>
                </a:cubicBezTo>
              </a:path>
              <a:path w="2531" h="918">
                <a:moveTo>
                  <a:pt x="9426" y="15081"/>
                </a:moveTo>
                <a:cubicBezTo>
                  <a:pt x="9388" y="15053"/>
                  <a:pt x="9375" y="15056"/>
                  <a:pt x="9327" y="15056"/>
                </a:cubicBezTo>
                <a:cubicBezTo>
                  <a:pt x="9300" y="15056"/>
                  <a:pt x="9280" y="15081"/>
                  <a:pt x="9277" y="15106"/>
                </a:cubicBezTo>
                <a:cubicBezTo>
                  <a:pt x="9272" y="15148"/>
                  <a:pt x="9288" y="15194"/>
                  <a:pt x="9302" y="15230"/>
                </a:cubicBezTo>
                <a:cubicBezTo>
                  <a:pt x="9333" y="15308"/>
                  <a:pt x="9388" y="15357"/>
                  <a:pt x="9426" y="15429"/>
                </a:cubicBezTo>
                <a:cubicBezTo>
                  <a:pt x="9442" y="15460"/>
                  <a:pt x="9523" y="15591"/>
                  <a:pt x="9451" y="15627"/>
                </a:cubicBezTo>
                <a:cubicBezTo>
                  <a:pt x="9398" y="15654"/>
                  <a:pt x="9317" y="15610"/>
                  <a:pt x="9277" y="15602"/>
                </a:cubicBezTo>
                <a:cubicBezTo>
                  <a:pt x="9227" y="15592"/>
                  <a:pt x="9183" y="15592"/>
                  <a:pt x="9178" y="15528"/>
                </a:cubicBezTo>
                <a:cubicBezTo>
                  <a:pt x="9178" y="15511"/>
                  <a:pt x="9178" y="15495"/>
                  <a:pt x="9178" y="15478"/>
                </a:cubicBezTo>
              </a:path>
              <a:path w="2531" h="918">
                <a:moveTo>
                  <a:pt x="9847" y="15131"/>
                </a:moveTo>
                <a:cubicBezTo>
                  <a:pt x="9840" y="15241"/>
                  <a:pt x="9823" y="15343"/>
                  <a:pt x="9823" y="15453"/>
                </a:cubicBezTo>
                <a:cubicBezTo>
                  <a:pt x="9823" y="15535"/>
                  <a:pt x="9841" y="15580"/>
                  <a:pt x="9847" y="15652"/>
                </a:cubicBezTo>
                <a:cubicBezTo>
                  <a:pt x="9847" y="15677"/>
                  <a:pt x="9847" y="15685"/>
                  <a:pt x="9847" y="15701"/>
                </a:cubicBezTo>
              </a:path>
              <a:path w="2531" h="918">
                <a:moveTo>
                  <a:pt x="9699" y="14908"/>
                </a:moveTo>
                <a:cubicBezTo>
                  <a:pt x="9794" y="14793"/>
                  <a:pt x="9763" y="14796"/>
                  <a:pt x="9872" y="14808"/>
                </a:cubicBezTo>
                <a:cubicBezTo>
                  <a:pt x="9925" y="14814"/>
                  <a:pt x="9985" y="14834"/>
                  <a:pt x="10021" y="14883"/>
                </a:cubicBezTo>
                <a:cubicBezTo>
                  <a:pt x="10057" y="14933"/>
                  <a:pt x="10088" y="14960"/>
                  <a:pt x="10046" y="15007"/>
                </a:cubicBezTo>
                <a:cubicBezTo>
                  <a:pt x="10004" y="15054"/>
                  <a:pt x="9984" y="15076"/>
                  <a:pt x="9922" y="15081"/>
                </a:cubicBezTo>
                <a:cubicBezTo>
                  <a:pt x="9873" y="15085"/>
                  <a:pt x="9822" y="15081"/>
                  <a:pt x="9773" y="15081"/>
                </a:cubicBezTo>
                <a:cubicBezTo>
                  <a:pt x="9808" y="15072"/>
                  <a:pt x="9854" y="15035"/>
                  <a:pt x="9897" y="15056"/>
                </a:cubicBezTo>
                <a:cubicBezTo>
                  <a:pt x="9936" y="15076"/>
                  <a:pt x="9957" y="15106"/>
                  <a:pt x="9996" y="15131"/>
                </a:cubicBezTo>
                <a:cubicBezTo>
                  <a:pt x="10068" y="15177"/>
                  <a:pt x="10081" y="15201"/>
                  <a:pt x="10120" y="15280"/>
                </a:cubicBezTo>
                <a:cubicBezTo>
                  <a:pt x="10142" y="15325"/>
                  <a:pt x="10165" y="15402"/>
                  <a:pt x="10145" y="15453"/>
                </a:cubicBezTo>
                <a:cubicBezTo>
                  <a:pt x="10121" y="15514"/>
                  <a:pt x="10061" y="15508"/>
                  <a:pt x="10021" y="15528"/>
                </a:cubicBezTo>
                <a:cubicBezTo>
                  <a:pt x="9951" y="15563"/>
                  <a:pt x="9933" y="15548"/>
                  <a:pt x="9872" y="15528"/>
                </a:cubicBezTo>
                <a:cubicBezTo>
                  <a:pt x="9830" y="15514"/>
                  <a:pt x="9844" y="15515"/>
                  <a:pt x="9872" y="15478"/>
                </a:cubicBezTo>
              </a:path>
              <a:path w="2531" h="918">
                <a:moveTo>
                  <a:pt x="10368" y="15329"/>
                </a:moveTo>
                <a:cubicBezTo>
                  <a:pt x="10459" y="15329"/>
                  <a:pt x="10550" y="15329"/>
                  <a:pt x="10641" y="15329"/>
                </a:cubicBezTo>
              </a:path>
              <a:path w="2531" h="918">
                <a:moveTo>
                  <a:pt x="10418" y="15528"/>
                </a:moveTo>
                <a:cubicBezTo>
                  <a:pt x="10495" y="15549"/>
                  <a:pt x="10564" y="15568"/>
                  <a:pt x="10641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3040" y="5429160"/>
            <a:ext cx="303120" cy="304920"/>
          </a:xfrm>
          <a:custGeom>
            <a:avLst/>
            <a:gdLst/>
            <a:ahLst/>
            <a:rect l="l" t="t" r="r" b="b"/>
            <a:pathLst>
              <a:path w="844" h="845">
                <a:moveTo>
                  <a:pt x="11063" y="15602"/>
                </a:moveTo>
                <a:cubicBezTo>
                  <a:pt x="11090" y="15666"/>
                  <a:pt x="11080" y="15695"/>
                  <a:pt x="11137" y="15652"/>
                </a:cubicBezTo>
              </a:path>
              <a:path w="844" h="845">
                <a:moveTo>
                  <a:pt x="11385" y="15106"/>
                </a:moveTo>
                <a:cubicBezTo>
                  <a:pt x="11466" y="15089"/>
                  <a:pt x="11546" y="15057"/>
                  <a:pt x="11609" y="15131"/>
                </a:cubicBezTo>
                <a:cubicBezTo>
                  <a:pt x="11666" y="15197"/>
                  <a:pt x="11666" y="15279"/>
                  <a:pt x="11683" y="15354"/>
                </a:cubicBezTo>
                <a:cubicBezTo>
                  <a:pt x="11701" y="15433"/>
                  <a:pt x="11695" y="15556"/>
                  <a:pt x="11633" y="15627"/>
                </a:cubicBezTo>
                <a:cubicBezTo>
                  <a:pt x="11592" y="15674"/>
                  <a:pt x="11533" y="15707"/>
                  <a:pt x="11485" y="15751"/>
                </a:cubicBezTo>
                <a:cubicBezTo>
                  <a:pt x="11444" y="15789"/>
                  <a:pt x="11426" y="15782"/>
                  <a:pt x="11385" y="15751"/>
                </a:cubicBezTo>
                <a:cubicBezTo>
                  <a:pt x="11399" y="15723"/>
                  <a:pt x="11440" y="15752"/>
                  <a:pt x="11485" y="15776"/>
                </a:cubicBezTo>
                <a:cubicBezTo>
                  <a:pt x="11550" y="15811"/>
                  <a:pt x="11617" y="15842"/>
                  <a:pt x="11683" y="15875"/>
                </a:cubicBezTo>
                <a:cubicBezTo>
                  <a:pt x="11719" y="15893"/>
                  <a:pt x="11818" y="15938"/>
                  <a:pt x="11857" y="15925"/>
                </a:cubicBezTo>
                <a:cubicBezTo>
                  <a:pt x="11881" y="15900"/>
                  <a:pt x="11889" y="15891"/>
                  <a:pt x="11906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59280"/>
            <a:ext cx="1778040" cy="492120"/>
          </a:xfrm>
          <a:custGeom>
            <a:avLst/>
            <a:gdLst/>
            <a:ahLst/>
            <a:rect l="l" t="t" r="r" b="b"/>
            <a:pathLst>
              <a:path w="4937" h="1365">
                <a:moveTo>
                  <a:pt x="9624" y="16545"/>
                </a:moveTo>
                <a:cubicBezTo>
                  <a:pt x="9598" y="16672"/>
                  <a:pt x="9599" y="16787"/>
                  <a:pt x="9599" y="16917"/>
                </a:cubicBezTo>
                <a:cubicBezTo>
                  <a:pt x="9599" y="17041"/>
                  <a:pt x="9599" y="17165"/>
                  <a:pt x="9599" y="17289"/>
                </a:cubicBezTo>
              </a:path>
              <a:path w="4937" h="1365">
                <a:moveTo>
                  <a:pt x="9525" y="16421"/>
                </a:moveTo>
                <a:cubicBezTo>
                  <a:pt x="9564" y="16342"/>
                  <a:pt x="9594" y="16292"/>
                  <a:pt x="9699" y="16321"/>
                </a:cubicBezTo>
                <a:cubicBezTo>
                  <a:pt x="9771" y="16341"/>
                  <a:pt x="9875" y="16390"/>
                  <a:pt x="9922" y="16446"/>
                </a:cubicBezTo>
                <a:cubicBezTo>
                  <a:pt x="9976" y="16511"/>
                  <a:pt x="9980" y="16577"/>
                  <a:pt x="9947" y="16644"/>
                </a:cubicBezTo>
                <a:cubicBezTo>
                  <a:pt x="9923" y="16693"/>
                  <a:pt x="9835" y="16729"/>
                  <a:pt x="9773" y="16743"/>
                </a:cubicBezTo>
                <a:cubicBezTo>
                  <a:pt x="9730" y="16753"/>
                  <a:pt x="9669" y="16743"/>
                  <a:pt x="9624" y="16743"/>
                </a:cubicBezTo>
                <a:cubicBezTo>
                  <a:pt x="9658" y="16760"/>
                  <a:pt x="9693" y="16764"/>
                  <a:pt x="9748" y="16768"/>
                </a:cubicBezTo>
                <a:cubicBezTo>
                  <a:pt x="9822" y="16773"/>
                  <a:pt x="9833" y="16781"/>
                  <a:pt x="9897" y="16818"/>
                </a:cubicBezTo>
                <a:cubicBezTo>
                  <a:pt x="9974" y="16863"/>
                  <a:pt x="9972" y="16920"/>
                  <a:pt x="10021" y="16991"/>
                </a:cubicBezTo>
                <a:cubicBezTo>
                  <a:pt x="10063" y="17051"/>
                  <a:pt x="10045" y="17086"/>
                  <a:pt x="9996" y="17140"/>
                </a:cubicBezTo>
                <a:cubicBezTo>
                  <a:pt x="9961" y="17178"/>
                  <a:pt x="9875" y="17187"/>
                  <a:pt x="9823" y="17190"/>
                </a:cubicBezTo>
                <a:cubicBezTo>
                  <a:pt x="9779" y="17192"/>
                  <a:pt x="9672" y="17185"/>
                  <a:pt x="9649" y="17140"/>
                </a:cubicBezTo>
                <a:cubicBezTo>
                  <a:pt x="9649" y="17132"/>
                  <a:pt x="9649" y="17123"/>
                  <a:pt x="9649" y="17115"/>
                </a:cubicBezTo>
              </a:path>
              <a:path w="4937" h="1365">
                <a:moveTo>
                  <a:pt x="10269" y="16793"/>
                </a:moveTo>
                <a:cubicBezTo>
                  <a:pt x="10352" y="16793"/>
                  <a:pt x="10434" y="16793"/>
                  <a:pt x="10517" y="16793"/>
                </a:cubicBezTo>
              </a:path>
              <a:path w="4937" h="1365">
                <a:moveTo>
                  <a:pt x="10269" y="16991"/>
                </a:moveTo>
                <a:cubicBezTo>
                  <a:pt x="10360" y="17037"/>
                  <a:pt x="10394" y="17049"/>
                  <a:pt x="10492" y="17016"/>
                </a:cubicBezTo>
              </a:path>
              <a:path w="4937" h="1365">
                <a:moveTo>
                  <a:pt x="11038" y="16644"/>
                </a:moveTo>
                <a:cubicBezTo>
                  <a:pt x="11046" y="16661"/>
                  <a:pt x="11055" y="16677"/>
                  <a:pt x="11063" y="16694"/>
                </a:cubicBezTo>
                <a:cubicBezTo>
                  <a:pt x="11078" y="16664"/>
                  <a:pt x="11082" y="16604"/>
                  <a:pt x="11038" y="16570"/>
                </a:cubicBezTo>
                <a:cubicBezTo>
                  <a:pt x="10992" y="16535"/>
                  <a:pt x="10935" y="16535"/>
                  <a:pt x="10889" y="16570"/>
                </a:cubicBezTo>
                <a:cubicBezTo>
                  <a:pt x="10803" y="16636"/>
                  <a:pt x="10779" y="16710"/>
                  <a:pt x="10765" y="16818"/>
                </a:cubicBezTo>
                <a:cubicBezTo>
                  <a:pt x="10755" y="16900"/>
                  <a:pt x="10791" y="17023"/>
                  <a:pt x="10840" y="17090"/>
                </a:cubicBezTo>
                <a:cubicBezTo>
                  <a:pt x="10901" y="17173"/>
                  <a:pt x="10970" y="17205"/>
                  <a:pt x="11063" y="17239"/>
                </a:cubicBezTo>
              </a:path>
              <a:path w="4937" h="1365">
                <a:moveTo>
                  <a:pt x="11336" y="16669"/>
                </a:moveTo>
                <a:cubicBezTo>
                  <a:pt x="11289" y="16716"/>
                  <a:pt x="11267" y="16758"/>
                  <a:pt x="11237" y="16818"/>
                </a:cubicBezTo>
                <a:cubicBezTo>
                  <a:pt x="11194" y="16904"/>
                  <a:pt x="11223" y="16955"/>
                  <a:pt x="11237" y="17041"/>
                </a:cubicBezTo>
                <a:cubicBezTo>
                  <a:pt x="11246" y="17097"/>
                  <a:pt x="11284" y="17176"/>
                  <a:pt x="11336" y="17214"/>
                </a:cubicBezTo>
                <a:cubicBezTo>
                  <a:pt x="11385" y="17249"/>
                  <a:pt x="11441" y="17252"/>
                  <a:pt x="11485" y="17214"/>
                </a:cubicBezTo>
                <a:cubicBezTo>
                  <a:pt x="11551" y="17157"/>
                  <a:pt x="11616" y="17028"/>
                  <a:pt x="11609" y="16942"/>
                </a:cubicBezTo>
                <a:cubicBezTo>
                  <a:pt x="11602" y="16861"/>
                  <a:pt x="11569" y="16767"/>
                  <a:pt x="11534" y="16694"/>
                </a:cubicBezTo>
                <a:cubicBezTo>
                  <a:pt x="11504" y="16631"/>
                  <a:pt x="11477" y="16611"/>
                  <a:pt x="11410" y="16594"/>
                </a:cubicBezTo>
                <a:cubicBezTo>
                  <a:pt x="11378" y="16586"/>
                  <a:pt x="11327" y="16644"/>
                  <a:pt x="11311" y="16669"/>
                </a:cubicBezTo>
                <a:cubicBezTo>
                  <a:pt x="11283" y="16712"/>
                  <a:pt x="11267" y="16817"/>
                  <a:pt x="11286" y="16867"/>
                </a:cubicBezTo>
                <a:cubicBezTo>
                  <a:pt x="11303" y="16910"/>
                  <a:pt x="11356" y="16957"/>
                  <a:pt x="11385" y="16991"/>
                </a:cubicBezTo>
              </a:path>
              <a:path w="4937" h="1365">
                <a:moveTo>
                  <a:pt x="11956" y="16669"/>
                </a:moveTo>
                <a:cubicBezTo>
                  <a:pt x="11938" y="16642"/>
                  <a:pt x="11891" y="16573"/>
                  <a:pt x="11857" y="16644"/>
                </a:cubicBezTo>
                <a:cubicBezTo>
                  <a:pt x="11827" y="16706"/>
                  <a:pt x="11840" y="16699"/>
                  <a:pt x="11857" y="16768"/>
                </a:cubicBezTo>
                <a:cubicBezTo>
                  <a:pt x="11867" y="16807"/>
                  <a:pt x="11890" y="16853"/>
                  <a:pt x="11906" y="16892"/>
                </a:cubicBezTo>
                <a:cubicBezTo>
                  <a:pt x="11930" y="16953"/>
                  <a:pt x="11975" y="17006"/>
                  <a:pt x="12005" y="17066"/>
                </a:cubicBezTo>
                <a:cubicBezTo>
                  <a:pt x="12025" y="17105"/>
                  <a:pt x="12050" y="17192"/>
                  <a:pt x="12030" y="17239"/>
                </a:cubicBezTo>
                <a:cubicBezTo>
                  <a:pt x="12011" y="17283"/>
                  <a:pt x="11971" y="17289"/>
                  <a:pt x="11931" y="17289"/>
                </a:cubicBezTo>
                <a:cubicBezTo>
                  <a:pt x="11886" y="17289"/>
                  <a:pt x="11848" y="17245"/>
                  <a:pt x="11832" y="17214"/>
                </a:cubicBezTo>
                <a:cubicBezTo>
                  <a:pt x="11807" y="17165"/>
                  <a:pt x="11799" y="17148"/>
                  <a:pt x="11832" y="17115"/>
                </a:cubicBezTo>
              </a:path>
              <a:path w="4937" h="1365">
                <a:moveTo>
                  <a:pt x="12204" y="16321"/>
                </a:moveTo>
                <a:cubicBezTo>
                  <a:pt x="12279" y="16299"/>
                  <a:pt x="12325" y="16297"/>
                  <a:pt x="12402" y="16297"/>
                </a:cubicBezTo>
                <a:cubicBezTo>
                  <a:pt x="12410" y="16297"/>
                  <a:pt x="12419" y="16297"/>
                  <a:pt x="12427" y="16297"/>
                </a:cubicBezTo>
              </a:path>
              <a:path w="4937" h="1365">
                <a:moveTo>
                  <a:pt x="12650" y="16123"/>
                </a:moveTo>
                <a:cubicBezTo>
                  <a:pt x="12629" y="16203"/>
                  <a:pt x="12626" y="16263"/>
                  <a:pt x="12626" y="16346"/>
                </a:cubicBezTo>
                <a:cubicBezTo>
                  <a:pt x="12626" y="16386"/>
                  <a:pt x="12618" y="16493"/>
                  <a:pt x="12650" y="16520"/>
                </a:cubicBezTo>
                <a:cubicBezTo>
                  <a:pt x="12658" y="16520"/>
                  <a:pt x="12667" y="16520"/>
                  <a:pt x="12675" y="16520"/>
                </a:cubicBezTo>
              </a:path>
              <a:path w="4937" h="1365">
                <a:moveTo>
                  <a:pt x="13122" y="15999"/>
                </a:moveTo>
                <a:cubicBezTo>
                  <a:pt x="13109" y="16062"/>
                  <a:pt x="13071" y="16112"/>
                  <a:pt x="13047" y="16173"/>
                </a:cubicBezTo>
                <a:cubicBezTo>
                  <a:pt x="12995" y="16306"/>
                  <a:pt x="12937" y="16429"/>
                  <a:pt x="12898" y="16570"/>
                </a:cubicBezTo>
                <a:cubicBezTo>
                  <a:pt x="12864" y="16693"/>
                  <a:pt x="12874" y="16816"/>
                  <a:pt x="12874" y="16942"/>
                </a:cubicBezTo>
                <a:cubicBezTo>
                  <a:pt x="12874" y="17031"/>
                  <a:pt x="12889" y="17133"/>
                  <a:pt x="12923" y="17214"/>
                </a:cubicBezTo>
                <a:cubicBezTo>
                  <a:pt x="12954" y="17286"/>
                  <a:pt x="12969" y="17323"/>
                  <a:pt x="13047" y="17338"/>
                </a:cubicBezTo>
              </a:path>
              <a:path w="4937" h="1365">
                <a:moveTo>
                  <a:pt x="13370" y="17041"/>
                </a:moveTo>
                <a:cubicBezTo>
                  <a:pt x="13370" y="17093"/>
                  <a:pt x="13396" y="17059"/>
                  <a:pt x="13419" y="17041"/>
                </a:cubicBezTo>
              </a:path>
              <a:path w="4937" h="1365">
                <a:moveTo>
                  <a:pt x="13692" y="16396"/>
                </a:moveTo>
                <a:cubicBezTo>
                  <a:pt x="13724" y="16369"/>
                  <a:pt x="13786" y="16309"/>
                  <a:pt x="13841" y="16346"/>
                </a:cubicBezTo>
                <a:cubicBezTo>
                  <a:pt x="13925" y="16402"/>
                  <a:pt x="13968" y="16555"/>
                  <a:pt x="13965" y="16644"/>
                </a:cubicBezTo>
                <a:cubicBezTo>
                  <a:pt x="13963" y="16730"/>
                  <a:pt x="13929" y="16838"/>
                  <a:pt x="13891" y="16917"/>
                </a:cubicBezTo>
                <a:cubicBezTo>
                  <a:pt x="13872" y="16956"/>
                  <a:pt x="13810" y="17022"/>
                  <a:pt x="13767" y="17041"/>
                </a:cubicBezTo>
                <a:cubicBezTo>
                  <a:pt x="13742" y="17041"/>
                  <a:pt x="13734" y="17041"/>
                  <a:pt x="13717" y="17041"/>
                </a:cubicBezTo>
                <a:cubicBezTo>
                  <a:pt x="13717" y="17002"/>
                  <a:pt x="13701" y="16971"/>
                  <a:pt x="13742" y="16966"/>
                </a:cubicBezTo>
                <a:cubicBezTo>
                  <a:pt x="13784" y="16961"/>
                  <a:pt x="13830" y="16977"/>
                  <a:pt x="13866" y="16991"/>
                </a:cubicBezTo>
                <a:cubicBezTo>
                  <a:pt x="13942" y="17022"/>
                  <a:pt x="13957" y="17085"/>
                  <a:pt x="14039" y="17090"/>
                </a:cubicBezTo>
                <a:cubicBezTo>
                  <a:pt x="14102" y="17090"/>
                  <a:pt x="14126" y="17079"/>
                  <a:pt x="14139" y="17016"/>
                </a:cubicBezTo>
              </a:path>
              <a:path w="4937" h="1365">
                <a:moveTo>
                  <a:pt x="14238" y="16123"/>
                </a:moveTo>
                <a:cubicBezTo>
                  <a:pt x="14331" y="16169"/>
                  <a:pt x="14323" y="16324"/>
                  <a:pt x="14362" y="16421"/>
                </a:cubicBezTo>
                <a:cubicBezTo>
                  <a:pt x="14420" y="16567"/>
                  <a:pt x="14450" y="16709"/>
                  <a:pt x="14461" y="16867"/>
                </a:cubicBezTo>
                <a:cubicBezTo>
                  <a:pt x="14470" y="16996"/>
                  <a:pt x="14436" y="17120"/>
                  <a:pt x="14387" y="17239"/>
                </a:cubicBezTo>
                <a:cubicBezTo>
                  <a:pt x="14365" y="17292"/>
                  <a:pt x="14316" y="17342"/>
                  <a:pt x="14263" y="17363"/>
                </a:cubicBezTo>
                <a:cubicBezTo>
                  <a:pt x="14232" y="17376"/>
                  <a:pt x="14190" y="17332"/>
                  <a:pt x="14188" y="17314"/>
                </a:cubicBezTo>
                <a:cubicBezTo>
                  <a:pt x="14188" y="17306"/>
                  <a:pt x="14188" y="17297"/>
                  <a:pt x="14188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0880" y="5813280"/>
            <a:ext cx="1019160" cy="438120"/>
          </a:xfrm>
          <a:custGeom>
            <a:avLst/>
            <a:gdLst/>
            <a:ahLst/>
            <a:rect l="l" t="t" r="r" b="b"/>
            <a:pathLst>
              <a:path w="2829" h="1216">
                <a:moveTo>
                  <a:pt x="14808" y="16619"/>
                </a:moveTo>
                <a:cubicBezTo>
                  <a:pt x="14815" y="16619"/>
                  <a:pt x="15005" y="16603"/>
                  <a:pt x="15032" y="16644"/>
                </a:cubicBezTo>
                <a:cubicBezTo>
                  <a:pt x="15032" y="16672"/>
                  <a:pt x="15030" y="16683"/>
                  <a:pt x="15007" y="16694"/>
                </a:cubicBezTo>
              </a:path>
              <a:path w="2829" h="1216">
                <a:moveTo>
                  <a:pt x="14808" y="17016"/>
                </a:moveTo>
                <a:cubicBezTo>
                  <a:pt x="14889" y="17116"/>
                  <a:pt x="14937" y="17116"/>
                  <a:pt x="15056" y="17165"/>
                </a:cubicBezTo>
                <a:cubicBezTo>
                  <a:pt x="15104" y="17189"/>
                  <a:pt x="15119" y="17197"/>
                  <a:pt x="15156" y="17190"/>
                </a:cubicBezTo>
              </a:path>
              <a:path w="2829" h="1216">
                <a:moveTo>
                  <a:pt x="15304" y="16148"/>
                </a:moveTo>
                <a:cubicBezTo>
                  <a:pt x="15353" y="16196"/>
                  <a:pt x="15359" y="16197"/>
                  <a:pt x="15429" y="16197"/>
                </a:cubicBezTo>
                <a:cubicBezTo>
                  <a:pt x="15520" y="16197"/>
                  <a:pt x="15587" y="16208"/>
                  <a:pt x="15677" y="16222"/>
                </a:cubicBezTo>
                <a:cubicBezTo>
                  <a:pt x="15708" y="16227"/>
                  <a:pt x="15744" y="16222"/>
                  <a:pt x="15776" y="16222"/>
                </a:cubicBezTo>
                <a:cubicBezTo>
                  <a:pt x="15776" y="16308"/>
                  <a:pt x="15786" y="16391"/>
                  <a:pt x="15751" y="16470"/>
                </a:cubicBezTo>
                <a:cubicBezTo>
                  <a:pt x="15718" y="16544"/>
                  <a:pt x="15689" y="16661"/>
                  <a:pt x="15677" y="16743"/>
                </a:cubicBezTo>
                <a:cubicBezTo>
                  <a:pt x="15664" y="16831"/>
                  <a:pt x="15670" y="16929"/>
                  <a:pt x="15652" y="17016"/>
                </a:cubicBezTo>
                <a:cubicBezTo>
                  <a:pt x="15644" y="17056"/>
                  <a:pt x="15590" y="17159"/>
                  <a:pt x="15652" y="17190"/>
                </a:cubicBezTo>
                <a:cubicBezTo>
                  <a:pt x="15677" y="17190"/>
                  <a:pt x="15685" y="17190"/>
                  <a:pt x="15677" y="17165"/>
                </a:cubicBezTo>
              </a:path>
              <a:path w="2829" h="1216">
                <a:moveTo>
                  <a:pt x="16297" y="16346"/>
                </a:moveTo>
                <a:cubicBezTo>
                  <a:pt x="16287" y="16244"/>
                  <a:pt x="16290" y="16267"/>
                  <a:pt x="16222" y="16222"/>
                </a:cubicBezTo>
                <a:cubicBezTo>
                  <a:pt x="16196" y="16204"/>
                  <a:pt x="16135" y="16176"/>
                  <a:pt x="16098" y="16197"/>
                </a:cubicBezTo>
                <a:cubicBezTo>
                  <a:pt x="16035" y="16232"/>
                  <a:pt x="16010" y="16308"/>
                  <a:pt x="15999" y="16371"/>
                </a:cubicBezTo>
                <a:cubicBezTo>
                  <a:pt x="15983" y="16465"/>
                  <a:pt x="16067" y="16602"/>
                  <a:pt x="16098" y="16694"/>
                </a:cubicBezTo>
                <a:cubicBezTo>
                  <a:pt x="16132" y="16797"/>
                  <a:pt x="16185" y="16888"/>
                  <a:pt x="16222" y="16991"/>
                </a:cubicBezTo>
                <a:cubicBezTo>
                  <a:pt x="16252" y="17075"/>
                  <a:pt x="16247" y="17151"/>
                  <a:pt x="16247" y="17239"/>
                </a:cubicBezTo>
                <a:cubicBezTo>
                  <a:pt x="16247" y="17304"/>
                  <a:pt x="16242" y="17280"/>
                  <a:pt x="16197" y="17314"/>
                </a:cubicBezTo>
                <a:cubicBezTo>
                  <a:pt x="16154" y="17303"/>
                  <a:pt x="16132" y="17273"/>
                  <a:pt x="16098" y="17239"/>
                </a:cubicBezTo>
                <a:cubicBezTo>
                  <a:pt x="16057" y="17198"/>
                  <a:pt x="16012" y="17126"/>
                  <a:pt x="15999" y="17066"/>
                </a:cubicBezTo>
                <a:cubicBezTo>
                  <a:pt x="15982" y="16988"/>
                  <a:pt x="15999" y="16890"/>
                  <a:pt x="16024" y="16818"/>
                </a:cubicBezTo>
                <a:cubicBezTo>
                  <a:pt x="16048" y="16750"/>
                  <a:pt x="16090" y="16683"/>
                  <a:pt x="16123" y="16619"/>
                </a:cubicBezTo>
                <a:cubicBezTo>
                  <a:pt x="16168" y="16529"/>
                  <a:pt x="16211" y="16436"/>
                  <a:pt x="16247" y="16346"/>
                </a:cubicBezTo>
                <a:cubicBezTo>
                  <a:pt x="16277" y="16272"/>
                  <a:pt x="16281" y="16321"/>
                  <a:pt x="16297" y="16272"/>
                </a:cubicBezTo>
              </a:path>
              <a:path w="2829" h="1216">
                <a:moveTo>
                  <a:pt x="16421" y="17214"/>
                </a:moveTo>
                <a:cubicBezTo>
                  <a:pt x="16421" y="17290"/>
                  <a:pt x="16478" y="17186"/>
                  <a:pt x="16495" y="17165"/>
                </a:cubicBezTo>
              </a:path>
              <a:path w="2829" h="1216">
                <a:moveTo>
                  <a:pt x="16793" y="16346"/>
                </a:moveTo>
                <a:cubicBezTo>
                  <a:pt x="16857" y="16322"/>
                  <a:pt x="16898" y="16321"/>
                  <a:pt x="16966" y="16321"/>
                </a:cubicBezTo>
                <a:cubicBezTo>
                  <a:pt x="17049" y="16321"/>
                  <a:pt x="17131" y="16321"/>
                  <a:pt x="17214" y="16321"/>
                </a:cubicBezTo>
              </a:path>
              <a:path w="2829" h="1216">
                <a:moveTo>
                  <a:pt x="16818" y="16396"/>
                </a:moveTo>
                <a:cubicBezTo>
                  <a:pt x="16783" y="16461"/>
                  <a:pt x="16743" y="16502"/>
                  <a:pt x="16743" y="16570"/>
                </a:cubicBezTo>
                <a:cubicBezTo>
                  <a:pt x="16743" y="16593"/>
                  <a:pt x="16770" y="16657"/>
                  <a:pt x="16793" y="16669"/>
                </a:cubicBezTo>
                <a:cubicBezTo>
                  <a:pt x="16825" y="16685"/>
                  <a:pt x="16857" y="16682"/>
                  <a:pt x="16892" y="16694"/>
                </a:cubicBezTo>
                <a:cubicBezTo>
                  <a:pt x="16936" y="16709"/>
                  <a:pt x="16978" y="16730"/>
                  <a:pt x="17016" y="16743"/>
                </a:cubicBezTo>
                <a:cubicBezTo>
                  <a:pt x="17053" y="16755"/>
                  <a:pt x="17090" y="16780"/>
                  <a:pt x="17115" y="16818"/>
                </a:cubicBezTo>
                <a:cubicBezTo>
                  <a:pt x="17144" y="16862"/>
                  <a:pt x="17181" y="16939"/>
                  <a:pt x="17190" y="16991"/>
                </a:cubicBezTo>
                <a:cubicBezTo>
                  <a:pt x="17204" y="17069"/>
                  <a:pt x="17174" y="17123"/>
                  <a:pt x="17140" y="17190"/>
                </a:cubicBezTo>
                <a:cubicBezTo>
                  <a:pt x="17111" y="17247"/>
                  <a:pt x="17100" y="17296"/>
                  <a:pt x="17041" y="17314"/>
                </a:cubicBezTo>
                <a:cubicBezTo>
                  <a:pt x="17015" y="17322"/>
                  <a:pt x="16926" y="17382"/>
                  <a:pt x="16892" y="17363"/>
                </a:cubicBezTo>
                <a:cubicBezTo>
                  <a:pt x="16833" y="17330"/>
                  <a:pt x="16833" y="17297"/>
                  <a:pt x="16793" y="17239"/>
                </a:cubicBezTo>
                <a:cubicBezTo>
                  <a:pt x="16755" y="17184"/>
                  <a:pt x="16769" y="17178"/>
                  <a:pt x="16793" y="17115"/>
                </a:cubicBezTo>
              </a:path>
              <a:path w="2829" h="1216">
                <a:moveTo>
                  <a:pt x="17413" y="16197"/>
                </a:moveTo>
                <a:cubicBezTo>
                  <a:pt x="17400" y="16229"/>
                  <a:pt x="17348" y="16305"/>
                  <a:pt x="17363" y="16346"/>
                </a:cubicBezTo>
                <a:cubicBezTo>
                  <a:pt x="17378" y="16388"/>
                  <a:pt x="17395" y="16471"/>
                  <a:pt x="17438" y="16495"/>
                </a:cubicBezTo>
                <a:cubicBezTo>
                  <a:pt x="17460" y="16507"/>
                  <a:pt x="17505" y="16531"/>
                  <a:pt x="17537" y="16520"/>
                </a:cubicBezTo>
                <a:cubicBezTo>
                  <a:pt x="17582" y="16504"/>
                  <a:pt x="17633" y="16469"/>
                  <a:pt x="17636" y="16421"/>
                </a:cubicBezTo>
                <a:cubicBezTo>
                  <a:pt x="17641" y="16358"/>
                  <a:pt x="17626" y="16323"/>
                  <a:pt x="17611" y="16272"/>
                </a:cubicBezTo>
                <a:cubicBezTo>
                  <a:pt x="17601" y="16240"/>
                  <a:pt x="17575" y="16189"/>
                  <a:pt x="17537" y="16173"/>
                </a:cubicBezTo>
                <a:cubicBezTo>
                  <a:pt x="17503" y="16158"/>
                  <a:pt x="17479" y="16148"/>
                  <a:pt x="17438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6880" y="4848120"/>
            <a:ext cx="1743120" cy="144720"/>
          </a:xfrm>
          <a:custGeom>
            <a:avLst/>
            <a:gdLst/>
            <a:ahLst/>
            <a:rect l="l" t="t" r="r" b="b"/>
            <a:pathLst>
              <a:path w="4838" h="398">
                <a:moveTo>
                  <a:pt x="16247" y="13469"/>
                </a:moveTo>
                <a:cubicBezTo>
                  <a:pt x="16105" y="13510"/>
                  <a:pt x="16023" y="13519"/>
                  <a:pt x="15875" y="13519"/>
                </a:cubicBezTo>
                <a:cubicBezTo>
                  <a:pt x="15726" y="13519"/>
                  <a:pt x="15581" y="13543"/>
                  <a:pt x="15429" y="13543"/>
                </a:cubicBezTo>
                <a:cubicBezTo>
                  <a:pt x="15000" y="13543"/>
                  <a:pt x="14566" y="13531"/>
                  <a:pt x="14139" y="13568"/>
                </a:cubicBezTo>
                <a:cubicBezTo>
                  <a:pt x="13834" y="13594"/>
                  <a:pt x="13526" y="13624"/>
                  <a:pt x="13221" y="13643"/>
                </a:cubicBezTo>
                <a:cubicBezTo>
                  <a:pt x="12988" y="13657"/>
                  <a:pt x="12759" y="13701"/>
                  <a:pt x="12526" y="13717"/>
                </a:cubicBezTo>
                <a:cubicBezTo>
                  <a:pt x="12336" y="13730"/>
                  <a:pt x="12144" y="13744"/>
                  <a:pt x="11956" y="13767"/>
                </a:cubicBezTo>
                <a:cubicBezTo>
                  <a:pt x="11830" y="13782"/>
                  <a:pt x="11706" y="13817"/>
                  <a:pt x="11584" y="13841"/>
                </a:cubicBezTo>
                <a:cubicBezTo>
                  <a:pt x="11525" y="13852"/>
                  <a:pt x="11468" y="13853"/>
                  <a:pt x="11410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Application of the Law of Cosine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1.  You travel 45 miles east from town A to town B.  Then, you turn and go 72 miles NW to town C.  Finally, you travel from C back to A which is 30 miles.  What angle is created by the two paths connected at town B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2200" y="3483000"/>
            <a:ext cx="1793880" cy="1455840"/>
          </a:xfrm>
          <a:custGeom>
            <a:avLst/>
            <a:gdLst/>
            <a:ahLst/>
            <a:rect l="l" t="t" r="r" b="b"/>
            <a:pathLst>
              <a:path w="4987" h="4044">
                <a:moveTo>
                  <a:pt x="1191" y="12923"/>
                </a:moveTo>
                <a:cubicBezTo>
                  <a:pt x="1203" y="12885"/>
                  <a:pt x="1215" y="12902"/>
                  <a:pt x="1215" y="12849"/>
                </a:cubicBezTo>
                <a:cubicBezTo>
                  <a:pt x="1173" y="12849"/>
                  <a:pt x="1156" y="12855"/>
                  <a:pt x="1141" y="12898"/>
                </a:cubicBezTo>
                <a:cubicBezTo>
                  <a:pt x="1141" y="12923"/>
                  <a:pt x="1141" y="12931"/>
                  <a:pt x="1141" y="12948"/>
                </a:cubicBezTo>
                <a:cubicBezTo>
                  <a:pt x="1173" y="12948"/>
                  <a:pt x="1207" y="12940"/>
                  <a:pt x="1215" y="12923"/>
                </a:cubicBezTo>
                <a:cubicBezTo>
                  <a:pt x="1223" y="12906"/>
                  <a:pt x="1259" y="12882"/>
                  <a:pt x="1240" y="12849"/>
                </a:cubicBezTo>
                <a:cubicBezTo>
                  <a:pt x="1232" y="12841"/>
                  <a:pt x="1223" y="12832"/>
                  <a:pt x="1215" y="12824"/>
                </a:cubicBezTo>
                <a:cubicBezTo>
                  <a:pt x="1184" y="12824"/>
                  <a:pt x="1149" y="12832"/>
                  <a:pt x="1141" y="12849"/>
                </a:cubicBezTo>
                <a:cubicBezTo>
                  <a:pt x="1141" y="12874"/>
                  <a:pt x="1141" y="12882"/>
                  <a:pt x="1166" y="12874"/>
                </a:cubicBezTo>
              </a:path>
              <a:path w="4987" h="4044">
                <a:moveTo>
                  <a:pt x="1042" y="13395"/>
                </a:moveTo>
                <a:cubicBezTo>
                  <a:pt x="992" y="13452"/>
                  <a:pt x="962" y="13502"/>
                  <a:pt x="943" y="13568"/>
                </a:cubicBezTo>
                <a:cubicBezTo>
                  <a:pt x="932" y="13606"/>
                  <a:pt x="905" y="13632"/>
                  <a:pt x="893" y="13667"/>
                </a:cubicBezTo>
                <a:cubicBezTo>
                  <a:pt x="878" y="13710"/>
                  <a:pt x="893" y="13731"/>
                  <a:pt x="893" y="13667"/>
                </a:cubicBezTo>
                <a:cubicBezTo>
                  <a:pt x="893" y="13614"/>
                  <a:pt x="929" y="13584"/>
                  <a:pt x="943" y="13543"/>
                </a:cubicBezTo>
                <a:cubicBezTo>
                  <a:pt x="964" y="13483"/>
                  <a:pt x="981" y="13400"/>
                  <a:pt x="1017" y="13345"/>
                </a:cubicBezTo>
                <a:cubicBezTo>
                  <a:pt x="1043" y="13306"/>
                  <a:pt x="1075" y="13246"/>
                  <a:pt x="1091" y="13196"/>
                </a:cubicBezTo>
                <a:cubicBezTo>
                  <a:pt x="1105" y="13154"/>
                  <a:pt x="1156" y="13116"/>
                  <a:pt x="1166" y="13097"/>
                </a:cubicBezTo>
                <a:cubicBezTo>
                  <a:pt x="1166" y="13072"/>
                  <a:pt x="1166" y="13064"/>
                  <a:pt x="1191" y="13072"/>
                </a:cubicBezTo>
                <a:cubicBezTo>
                  <a:pt x="1209" y="13146"/>
                  <a:pt x="1215" y="13144"/>
                  <a:pt x="1215" y="13246"/>
                </a:cubicBezTo>
                <a:cubicBezTo>
                  <a:pt x="1215" y="13304"/>
                  <a:pt x="1265" y="13390"/>
                  <a:pt x="1290" y="13444"/>
                </a:cubicBezTo>
                <a:cubicBezTo>
                  <a:pt x="1316" y="13499"/>
                  <a:pt x="1322" y="13546"/>
                  <a:pt x="1364" y="13593"/>
                </a:cubicBezTo>
                <a:cubicBezTo>
                  <a:pt x="1393" y="13625"/>
                  <a:pt x="1404" y="13639"/>
                  <a:pt x="1414" y="13667"/>
                </a:cubicBezTo>
                <a:cubicBezTo>
                  <a:pt x="1374" y="13654"/>
                  <a:pt x="1404" y="13656"/>
                  <a:pt x="1364" y="13643"/>
                </a:cubicBezTo>
              </a:path>
              <a:path w="4987" h="4044">
                <a:moveTo>
                  <a:pt x="967" y="13444"/>
                </a:moveTo>
                <a:cubicBezTo>
                  <a:pt x="1042" y="13444"/>
                  <a:pt x="1116" y="13444"/>
                  <a:pt x="1191" y="13444"/>
                </a:cubicBezTo>
              </a:path>
              <a:path w="4987" h="4044">
                <a:moveTo>
                  <a:pt x="1240" y="12849"/>
                </a:moveTo>
                <a:cubicBezTo>
                  <a:pt x="1265" y="12849"/>
                  <a:pt x="1273" y="12849"/>
                  <a:pt x="1265" y="12874"/>
                </a:cubicBezTo>
                <a:cubicBezTo>
                  <a:pt x="1306" y="12860"/>
                  <a:pt x="1315" y="12851"/>
                  <a:pt x="1364" y="12849"/>
                </a:cubicBezTo>
                <a:cubicBezTo>
                  <a:pt x="1514" y="12843"/>
                  <a:pt x="1675" y="12838"/>
                  <a:pt x="1811" y="12824"/>
                </a:cubicBezTo>
                <a:cubicBezTo>
                  <a:pt x="1915" y="12813"/>
                  <a:pt x="2012" y="12841"/>
                  <a:pt x="2108" y="12849"/>
                </a:cubicBezTo>
                <a:cubicBezTo>
                  <a:pt x="2431" y="12875"/>
                  <a:pt x="2787" y="12856"/>
                  <a:pt x="3101" y="12824"/>
                </a:cubicBezTo>
                <a:cubicBezTo>
                  <a:pt x="3550" y="12779"/>
                  <a:pt x="4029" y="12843"/>
                  <a:pt x="4465" y="12799"/>
                </a:cubicBezTo>
                <a:cubicBezTo>
                  <a:pt x="4549" y="12790"/>
                  <a:pt x="4783" y="12799"/>
                  <a:pt x="4787" y="12799"/>
                </a:cubicBezTo>
                <a:cubicBezTo>
                  <a:pt x="4824" y="12799"/>
                  <a:pt x="4799" y="12789"/>
                  <a:pt x="4787" y="12824"/>
                </a:cubicBezTo>
                <a:cubicBezTo>
                  <a:pt x="4817" y="12803"/>
                  <a:pt x="4815" y="12801"/>
                  <a:pt x="4837" y="12774"/>
                </a:cubicBezTo>
                <a:cubicBezTo>
                  <a:pt x="4862" y="12774"/>
                  <a:pt x="4870" y="12774"/>
                  <a:pt x="4862" y="12750"/>
                </a:cubicBezTo>
                <a:cubicBezTo>
                  <a:pt x="4830" y="12724"/>
                  <a:pt x="4842" y="12680"/>
                  <a:pt x="4787" y="12700"/>
                </a:cubicBezTo>
                <a:cubicBezTo>
                  <a:pt x="4758" y="12711"/>
                  <a:pt x="4720" y="12760"/>
                  <a:pt x="4713" y="12774"/>
                </a:cubicBezTo>
                <a:cubicBezTo>
                  <a:pt x="4713" y="12799"/>
                  <a:pt x="4713" y="12807"/>
                  <a:pt x="4713" y="12824"/>
                </a:cubicBezTo>
                <a:cubicBezTo>
                  <a:pt x="4765" y="12819"/>
                  <a:pt x="4797" y="12836"/>
                  <a:pt x="4837" y="12799"/>
                </a:cubicBezTo>
                <a:cubicBezTo>
                  <a:pt x="4866" y="12772"/>
                  <a:pt x="4876" y="12735"/>
                  <a:pt x="4887" y="12700"/>
                </a:cubicBezTo>
                <a:cubicBezTo>
                  <a:pt x="4887" y="12692"/>
                  <a:pt x="4887" y="12683"/>
                  <a:pt x="4887" y="12675"/>
                </a:cubicBezTo>
                <a:cubicBezTo>
                  <a:pt x="4840" y="12684"/>
                  <a:pt x="4825" y="12662"/>
                  <a:pt x="4787" y="12700"/>
                </a:cubicBezTo>
                <a:cubicBezTo>
                  <a:pt x="4777" y="12710"/>
                  <a:pt x="4714" y="12789"/>
                  <a:pt x="4713" y="12799"/>
                </a:cubicBezTo>
                <a:cubicBezTo>
                  <a:pt x="4709" y="12838"/>
                  <a:pt x="4740" y="12865"/>
                  <a:pt x="4762" y="12874"/>
                </a:cubicBezTo>
                <a:cubicBezTo>
                  <a:pt x="4816" y="12896"/>
                  <a:pt x="4856" y="12860"/>
                  <a:pt x="4887" y="12824"/>
                </a:cubicBezTo>
                <a:cubicBezTo>
                  <a:pt x="4904" y="12804"/>
                  <a:pt x="4913" y="12756"/>
                  <a:pt x="4911" y="12725"/>
                </a:cubicBezTo>
                <a:cubicBezTo>
                  <a:pt x="4906" y="12643"/>
                  <a:pt x="4841" y="12746"/>
                  <a:pt x="4837" y="12750"/>
                </a:cubicBezTo>
              </a:path>
              <a:path w="4987" h="4044">
                <a:moveTo>
                  <a:pt x="4837" y="13196"/>
                </a:moveTo>
                <a:cubicBezTo>
                  <a:pt x="4837" y="13361"/>
                  <a:pt x="4837" y="13527"/>
                  <a:pt x="4837" y="13692"/>
                </a:cubicBezTo>
                <a:cubicBezTo>
                  <a:pt x="4808" y="13654"/>
                  <a:pt x="4812" y="13641"/>
                  <a:pt x="4812" y="13593"/>
                </a:cubicBezTo>
                <a:cubicBezTo>
                  <a:pt x="4812" y="13532"/>
                  <a:pt x="4824" y="13508"/>
                  <a:pt x="4837" y="13444"/>
                </a:cubicBezTo>
                <a:cubicBezTo>
                  <a:pt x="4845" y="13403"/>
                  <a:pt x="4858" y="13361"/>
                  <a:pt x="4862" y="13320"/>
                </a:cubicBezTo>
                <a:cubicBezTo>
                  <a:pt x="4867" y="13269"/>
                  <a:pt x="4898" y="13237"/>
                  <a:pt x="4911" y="13196"/>
                </a:cubicBezTo>
                <a:cubicBezTo>
                  <a:pt x="4925" y="13153"/>
                  <a:pt x="4951" y="13132"/>
                  <a:pt x="4986" y="13097"/>
                </a:cubicBezTo>
                <a:cubicBezTo>
                  <a:pt x="5019" y="13064"/>
                  <a:pt x="5040" y="13072"/>
                  <a:pt x="5085" y="13072"/>
                </a:cubicBezTo>
                <a:cubicBezTo>
                  <a:pt x="5136" y="13072"/>
                  <a:pt x="5147" y="13072"/>
                  <a:pt x="5159" y="13122"/>
                </a:cubicBezTo>
                <a:cubicBezTo>
                  <a:pt x="5146" y="13174"/>
                  <a:pt x="5122" y="13163"/>
                  <a:pt x="5085" y="13196"/>
                </a:cubicBezTo>
                <a:cubicBezTo>
                  <a:pt x="5054" y="13223"/>
                  <a:pt x="5023" y="13259"/>
                  <a:pt x="4986" y="13271"/>
                </a:cubicBezTo>
                <a:cubicBezTo>
                  <a:pt x="4959" y="13280"/>
                  <a:pt x="4939" y="13288"/>
                  <a:pt x="4911" y="13295"/>
                </a:cubicBezTo>
                <a:cubicBezTo>
                  <a:pt x="4971" y="13295"/>
                  <a:pt x="5010" y="13305"/>
                  <a:pt x="5060" y="13320"/>
                </a:cubicBezTo>
                <a:cubicBezTo>
                  <a:pt x="5092" y="13330"/>
                  <a:pt x="5142" y="13357"/>
                  <a:pt x="5159" y="13395"/>
                </a:cubicBezTo>
                <a:cubicBezTo>
                  <a:pt x="5177" y="13435"/>
                  <a:pt x="5160" y="13515"/>
                  <a:pt x="5135" y="13543"/>
                </a:cubicBezTo>
                <a:cubicBezTo>
                  <a:pt x="5113" y="13568"/>
                  <a:pt x="5067" y="13591"/>
                  <a:pt x="5035" y="13593"/>
                </a:cubicBezTo>
                <a:cubicBezTo>
                  <a:pt x="4964" y="13598"/>
                  <a:pt x="4918" y="13587"/>
                  <a:pt x="4862" y="13568"/>
                </a:cubicBezTo>
                <a:cubicBezTo>
                  <a:pt x="4836" y="13559"/>
                  <a:pt x="4790" y="13568"/>
                  <a:pt x="4762" y="13568"/>
                </a:cubicBezTo>
              </a:path>
              <a:path w="4987" h="4044">
                <a:moveTo>
                  <a:pt x="2282" y="13171"/>
                </a:moveTo>
                <a:cubicBezTo>
                  <a:pt x="2260" y="13223"/>
                  <a:pt x="2257" y="13241"/>
                  <a:pt x="2257" y="13295"/>
                </a:cubicBezTo>
                <a:cubicBezTo>
                  <a:pt x="2202" y="13313"/>
                  <a:pt x="2244" y="13320"/>
                  <a:pt x="2282" y="13320"/>
                </a:cubicBezTo>
                <a:cubicBezTo>
                  <a:pt x="2307" y="13320"/>
                  <a:pt x="2315" y="13320"/>
                  <a:pt x="2332" y="13320"/>
                </a:cubicBezTo>
                <a:cubicBezTo>
                  <a:pt x="2345" y="13362"/>
                  <a:pt x="2380" y="13345"/>
                  <a:pt x="2431" y="13345"/>
                </a:cubicBezTo>
                <a:cubicBezTo>
                  <a:pt x="2464" y="13345"/>
                  <a:pt x="2497" y="13345"/>
                  <a:pt x="2530" y="13345"/>
                </a:cubicBezTo>
              </a:path>
              <a:path w="4987" h="4044">
                <a:moveTo>
                  <a:pt x="2530" y="13072"/>
                </a:moveTo>
                <a:cubicBezTo>
                  <a:pt x="2530" y="13165"/>
                  <a:pt x="2571" y="13621"/>
                  <a:pt x="2505" y="13643"/>
                </a:cubicBezTo>
                <a:cubicBezTo>
                  <a:pt x="2512" y="13613"/>
                  <a:pt x="2523" y="13598"/>
                  <a:pt x="2530" y="13568"/>
                </a:cubicBezTo>
              </a:path>
              <a:path w="4987" h="4044">
                <a:moveTo>
                  <a:pt x="2828" y="13072"/>
                </a:moveTo>
                <a:cubicBezTo>
                  <a:pt x="2867" y="13082"/>
                  <a:pt x="2882" y="13097"/>
                  <a:pt x="2927" y="13097"/>
                </a:cubicBezTo>
                <a:cubicBezTo>
                  <a:pt x="2986" y="13097"/>
                  <a:pt x="3021" y="13078"/>
                  <a:pt x="3076" y="13072"/>
                </a:cubicBezTo>
                <a:cubicBezTo>
                  <a:pt x="3121" y="13067"/>
                  <a:pt x="3136" y="13088"/>
                  <a:pt x="3150" y="13047"/>
                </a:cubicBezTo>
              </a:path>
              <a:path w="4987" h="4044">
                <a:moveTo>
                  <a:pt x="2853" y="13047"/>
                </a:moveTo>
                <a:cubicBezTo>
                  <a:pt x="2829" y="13089"/>
                  <a:pt x="2822" y="13136"/>
                  <a:pt x="2803" y="13171"/>
                </a:cubicBezTo>
                <a:cubicBezTo>
                  <a:pt x="2780" y="13213"/>
                  <a:pt x="2778" y="13220"/>
                  <a:pt x="2778" y="13271"/>
                </a:cubicBezTo>
                <a:cubicBezTo>
                  <a:pt x="2812" y="13260"/>
                  <a:pt x="2809" y="13236"/>
                  <a:pt x="2853" y="13221"/>
                </a:cubicBezTo>
                <a:cubicBezTo>
                  <a:pt x="2898" y="13206"/>
                  <a:pt x="2919" y="13235"/>
                  <a:pt x="2952" y="13246"/>
                </a:cubicBezTo>
                <a:cubicBezTo>
                  <a:pt x="2990" y="13259"/>
                  <a:pt x="3028" y="13243"/>
                  <a:pt x="3051" y="13295"/>
                </a:cubicBezTo>
                <a:cubicBezTo>
                  <a:pt x="3064" y="13325"/>
                  <a:pt x="3090" y="13364"/>
                  <a:pt x="3101" y="13395"/>
                </a:cubicBezTo>
                <a:cubicBezTo>
                  <a:pt x="3117" y="13441"/>
                  <a:pt x="3099" y="13509"/>
                  <a:pt x="3076" y="13543"/>
                </a:cubicBezTo>
                <a:cubicBezTo>
                  <a:pt x="3056" y="13572"/>
                  <a:pt x="3006" y="13608"/>
                  <a:pt x="2977" y="13618"/>
                </a:cubicBezTo>
                <a:cubicBezTo>
                  <a:pt x="2927" y="13635"/>
                  <a:pt x="2890" y="13605"/>
                  <a:pt x="2853" y="13593"/>
                </a:cubicBezTo>
                <a:cubicBezTo>
                  <a:pt x="2823" y="13583"/>
                  <a:pt x="2789" y="13591"/>
                  <a:pt x="2778" y="13568"/>
                </a:cubicBezTo>
                <a:cubicBezTo>
                  <a:pt x="2778" y="13543"/>
                  <a:pt x="2778" y="13535"/>
                  <a:pt x="2803" y="13543"/>
                </a:cubicBezTo>
              </a:path>
              <a:path w="4987" h="4044">
                <a:moveTo>
                  <a:pt x="3274" y="13419"/>
                </a:moveTo>
                <a:cubicBezTo>
                  <a:pt x="3274" y="13471"/>
                  <a:pt x="3292" y="13554"/>
                  <a:pt x="3249" y="13568"/>
                </a:cubicBezTo>
                <a:cubicBezTo>
                  <a:pt x="3259" y="13529"/>
                  <a:pt x="3274" y="13514"/>
                  <a:pt x="3274" y="13469"/>
                </a:cubicBezTo>
                <a:cubicBezTo>
                  <a:pt x="3274" y="13422"/>
                  <a:pt x="3316" y="13411"/>
                  <a:pt x="3324" y="13395"/>
                </a:cubicBezTo>
                <a:cubicBezTo>
                  <a:pt x="3343" y="13358"/>
                  <a:pt x="3346" y="13326"/>
                  <a:pt x="3398" y="13320"/>
                </a:cubicBezTo>
                <a:cubicBezTo>
                  <a:pt x="3429" y="13317"/>
                  <a:pt x="3466" y="13330"/>
                  <a:pt x="3473" y="13345"/>
                </a:cubicBezTo>
                <a:cubicBezTo>
                  <a:pt x="3497" y="13392"/>
                  <a:pt x="3473" y="13514"/>
                  <a:pt x="3473" y="13568"/>
                </a:cubicBezTo>
                <a:cubicBezTo>
                  <a:pt x="3496" y="13536"/>
                  <a:pt x="3531" y="13481"/>
                  <a:pt x="3547" y="13444"/>
                </a:cubicBezTo>
                <a:cubicBezTo>
                  <a:pt x="3555" y="13427"/>
                  <a:pt x="3590" y="13384"/>
                  <a:pt x="3621" y="13370"/>
                </a:cubicBezTo>
                <a:cubicBezTo>
                  <a:pt x="3651" y="13357"/>
                  <a:pt x="3731" y="13365"/>
                  <a:pt x="3746" y="13395"/>
                </a:cubicBezTo>
                <a:cubicBezTo>
                  <a:pt x="3760" y="13422"/>
                  <a:pt x="3746" y="13619"/>
                  <a:pt x="3746" y="13568"/>
                </a:cubicBezTo>
                <a:cubicBezTo>
                  <a:pt x="3746" y="13560"/>
                  <a:pt x="3746" y="13551"/>
                  <a:pt x="3746" y="13543"/>
                </a:cubicBezTo>
              </a:path>
              <a:path w="4987" h="4044">
                <a:moveTo>
                  <a:pt x="3969" y="13370"/>
                </a:moveTo>
                <a:cubicBezTo>
                  <a:pt x="3969" y="13417"/>
                  <a:pt x="3949" y="13449"/>
                  <a:pt x="3944" y="13494"/>
                </a:cubicBezTo>
                <a:cubicBezTo>
                  <a:pt x="3941" y="13526"/>
                  <a:pt x="3944" y="13561"/>
                  <a:pt x="3944" y="13593"/>
                </a:cubicBezTo>
                <a:cubicBezTo>
                  <a:pt x="3906" y="13580"/>
                  <a:pt x="3919" y="13564"/>
                  <a:pt x="3919" y="13519"/>
                </a:cubicBezTo>
              </a:path>
              <a:path w="4987" h="4044">
                <a:moveTo>
                  <a:pt x="3919" y="13097"/>
                </a:moveTo>
                <a:cubicBezTo>
                  <a:pt x="3927" y="13089"/>
                  <a:pt x="3936" y="13080"/>
                  <a:pt x="3944" y="13072"/>
                </a:cubicBezTo>
              </a:path>
              <a:path w="4987" h="4044">
                <a:moveTo>
                  <a:pt x="4837" y="12700"/>
                </a:moveTo>
                <a:cubicBezTo>
                  <a:pt x="4820" y="12683"/>
                  <a:pt x="4804" y="12667"/>
                  <a:pt x="4787" y="12650"/>
                </a:cubicBezTo>
                <a:cubicBezTo>
                  <a:pt x="4778" y="12641"/>
                  <a:pt x="4723" y="12614"/>
                  <a:pt x="4713" y="12601"/>
                </a:cubicBezTo>
                <a:cubicBezTo>
                  <a:pt x="4693" y="12575"/>
                  <a:pt x="4651" y="12518"/>
                  <a:pt x="4638" y="12502"/>
                </a:cubicBezTo>
                <a:cubicBezTo>
                  <a:pt x="4617" y="12475"/>
                  <a:pt x="4608" y="12421"/>
                  <a:pt x="4589" y="12402"/>
                </a:cubicBezTo>
                <a:cubicBezTo>
                  <a:pt x="4573" y="12386"/>
                  <a:pt x="4531" y="12347"/>
                  <a:pt x="4514" y="12328"/>
                </a:cubicBezTo>
                <a:cubicBezTo>
                  <a:pt x="4487" y="12298"/>
                  <a:pt x="4463" y="12253"/>
                  <a:pt x="4440" y="12229"/>
                </a:cubicBezTo>
                <a:cubicBezTo>
                  <a:pt x="4420" y="12208"/>
                  <a:pt x="4386" y="12182"/>
                  <a:pt x="4366" y="12154"/>
                </a:cubicBezTo>
                <a:cubicBezTo>
                  <a:pt x="4336" y="12112"/>
                  <a:pt x="4300" y="12069"/>
                  <a:pt x="4266" y="12030"/>
                </a:cubicBezTo>
                <a:cubicBezTo>
                  <a:pt x="4209" y="11963"/>
                  <a:pt x="4189" y="11906"/>
                  <a:pt x="4142" y="11832"/>
                </a:cubicBezTo>
                <a:cubicBezTo>
                  <a:pt x="4115" y="11789"/>
                  <a:pt x="4072" y="11751"/>
                  <a:pt x="4043" y="11708"/>
                </a:cubicBezTo>
                <a:cubicBezTo>
                  <a:pt x="4013" y="11664"/>
                  <a:pt x="3975" y="11627"/>
                  <a:pt x="3944" y="11584"/>
                </a:cubicBezTo>
                <a:cubicBezTo>
                  <a:pt x="3913" y="11541"/>
                  <a:pt x="3876" y="11503"/>
                  <a:pt x="3845" y="11460"/>
                </a:cubicBezTo>
                <a:cubicBezTo>
                  <a:pt x="3807" y="11409"/>
                  <a:pt x="3802" y="11363"/>
                  <a:pt x="3770" y="11311"/>
                </a:cubicBezTo>
                <a:cubicBezTo>
                  <a:pt x="3743" y="11268"/>
                  <a:pt x="3700" y="11230"/>
                  <a:pt x="3671" y="11187"/>
                </a:cubicBezTo>
                <a:cubicBezTo>
                  <a:pt x="3641" y="11143"/>
                  <a:pt x="3624" y="11104"/>
                  <a:pt x="3597" y="11063"/>
                </a:cubicBezTo>
                <a:cubicBezTo>
                  <a:pt x="3565" y="11015"/>
                  <a:pt x="3527" y="10955"/>
                  <a:pt x="3497" y="10914"/>
                </a:cubicBezTo>
                <a:cubicBezTo>
                  <a:pt x="3462" y="10865"/>
                  <a:pt x="3423" y="10815"/>
                  <a:pt x="3398" y="10765"/>
                </a:cubicBezTo>
                <a:cubicBezTo>
                  <a:pt x="3370" y="10710"/>
                  <a:pt x="3358" y="10628"/>
                  <a:pt x="3324" y="10567"/>
                </a:cubicBezTo>
                <a:cubicBezTo>
                  <a:pt x="3309" y="10540"/>
                  <a:pt x="3268" y="10474"/>
                  <a:pt x="3249" y="10418"/>
                </a:cubicBezTo>
                <a:cubicBezTo>
                  <a:pt x="3230" y="10361"/>
                  <a:pt x="3221" y="10335"/>
                  <a:pt x="3200" y="10294"/>
                </a:cubicBezTo>
                <a:cubicBezTo>
                  <a:pt x="3184" y="10263"/>
                  <a:pt x="3130" y="10206"/>
                  <a:pt x="3125" y="10195"/>
                </a:cubicBezTo>
                <a:cubicBezTo>
                  <a:pt x="3106" y="10153"/>
                  <a:pt x="3099" y="10090"/>
                  <a:pt x="3076" y="10046"/>
                </a:cubicBezTo>
                <a:cubicBezTo>
                  <a:pt x="3067" y="10028"/>
                  <a:pt x="3020" y="9966"/>
                  <a:pt x="3001" y="9922"/>
                </a:cubicBezTo>
                <a:cubicBezTo>
                  <a:pt x="2987" y="9890"/>
                  <a:pt x="2980" y="9864"/>
                  <a:pt x="2952" y="9823"/>
                </a:cubicBezTo>
                <a:cubicBezTo>
                  <a:pt x="2944" y="9811"/>
                  <a:pt x="2917" y="9760"/>
                  <a:pt x="2902" y="9748"/>
                </a:cubicBezTo>
                <a:cubicBezTo>
                  <a:pt x="2877" y="9748"/>
                  <a:pt x="2869" y="9748"/>
                  <a:pt x="2853" y="9748"/>
                </a:cubicBezTo>
                <a:cubicBezTo>
                  <a:pt x="2855" y="9747"/>
                  <a:pt x="2870" y="9791"/>
                  <a:pt x="2902" y="9748"/>
                </a:cubicBezTo>
                <a:cubicBezTo>
                  <a:pt x="2914" y="9732"/>
                  <a:pt x="2911" y="9702"/>
                  <a:pt x="2927" y="9674"/>
                </a:cubicBezTo>
                <a:cubicBezTo>
                  <a:pt x="2868" y="9687"/>
                  <a:pt x="2836" y="9679"/>
                  <a:pt x="2803" y="9699"/>
                </a:cubicBezTo>
                <a:cubicBezTo>
                  <a:pt x="2782" y="9712"/>
                  <a:pt x="2754" y="9745"/>
                  <a:pt x="2753" y="9773"/>
                </a:cubicBezTo>
                <a:cubicBezTo>
                  <a:pt x="2750" y="9845"/>
                  <a:pt x="2798" y="9858"/>
                  <a:pt x="2828" y="9897"/>
                </a:cubicBezTo>
                <a:cubicBezTo>
                  <a:pt x="2848" y="9874"/>
                  <a:pt x="2893" y="9854"/>
                  <a:pt x="2902" y="9823"/>
                </a:cubicBezTo>
                <a:cubicBezTo>
                  <a:pt x="2915" y="9779"/>
                  <a:pt x="2937" y="9788"/>
                  <a:pt x="2877" y="9748"/>
                </a:cubicBezTo>
                <a:cubicBezTo>
                  <a:pt x="2862" y="9738"/>
                  <a:pt x="2820" y="9752"/>
                  <a:pt x="2803" y="9748"/>
                </a:cubicBezTo>
                <a:cubicBezTo>
                  <a:pt x="2806" y="9785"/>
                  <a:pt x="2828" y="9847"/>
                  <a:pt x="2828" y="9847"/>
                </a:cubicBezTo>
                <a:cubicBezTo>
                  <a:pt x="2828" y="9864"/>
                  <a:pt x="2828" y="9880"/>
                  <a:pt x="2828" y="9897"/>
                </a:cubicBezTo>
                <a:cubicBezTo>
                  <a:pt x="2846" y="9877"/>
                  <a:pt x="2908" y="9854"/>
                  <a:pt x="2927" y="9823"/>
                </a:cubicBezTo>
                <a:cubicBezTo>
                  <a:pt x="2977" y="9743"/>
                  <a:pt x="2924" y="9739"/>
                  <a:pt x="2902" y="9699"/>
                </a:cubicBezTo>
                <a:cubicBezTo>
                  <a:pt x="2886" y="9717"/>
                  <a:pt x="2868" y="9739"/>
                  <a:pt x="2853" y="9773"/>
                </a:cubicBezTo>
              </a:path>
              <a:path w="4987" h="4044">
                <a:moveTo>
                  <a:pt x="3795" y="10567"/>
                </a:moveTo>
                <a:cubicBezTo>
                  <a:pt x="3960" y="10567"/>
                  <a:pt x="4301" y="10413"/>
                  <a:pt x="4242" y="10567"/>
                </a:cubicBezTo>
                <a:cubicBezTo>
                  <a:pt x="4224" y="10613"/>
                  <a:pt x="4205" y="10674"/>
                  <a:pt x="4192" y="10716"/>
                </a:cubicBezTo>
                <a:cubicBezTo>
                  <a:pt x="4181" y="10750"/>
                  <a:pt x="4177" y="10784"/>
                  <a:pt x="4167" y="10815"/>
                </a:cubicBezTo>
                <a:cubicBezTo>
                  <a:pt x="4155" y="10850"/>
                  <a:pt x="4146" y="10903"/>
                  <a:pt x="4142" y="10939"/>
                </a:cubicBezTo>
                <a:cubicBezTo>
                  <a:pt x="4137" y="10984"/>
                  <a:pt x="4118" y="11016"/>
                  <a:pt x="4118" y="11063"/>
                </a:cubicBezTo>
                <a:cubicBezTo>
                  <a:pt x="4118" y="11107"/>
                  <a:pt x="4136" y="11058"/>
                  <a:pt x="4142" y="11038"/>
                </a:cubicBezTo>
              </a:path>
              <a:path w="4987" h="4044">
                <a:moveTo>
                  <a:pt x="4440" y="10641"/>
                </a:moveTo>
                <a:cubicBezTo>
                  <a:pt x="4506" y="10584"/>
                  <a:pt x="4527" y="10567"/>
                  <a:pt x="4614" y="10567"/>
                </a:cubicBezTo>
                <a:cubicBezTo>
                  <a:pt x="4663" y="10567"/>
                  <a:pt x="4713" y="10567"/>
                  <a:pt x="4762" y="10567"/>
                </a:cubicBezTo>
                <a:cubicBezTo>
                  <a:pt x="4762" y="10618"/>
                  <a:pt x="4758" y="10654"/>
                  <a:pt x="4738" y="10691"/>
                </a:cubicBezTo>
                <a:cubicBezTo>
                  <a:pt x="4718" y="10727"/>
                  <a:pt x="4705" y="10743"/>
                  <a:pt x="4688" y="10765"/>
                </a:cubicBezTo>
                <a:cubicBezTo>
                  <a:pt x="4661" y="10801"/>
                  <a:pt x="4641" y="10833"/>
                  <a:pt x="4614" y="10864"/>
                </a:cubicBezTo>
                <a:cubicBezTo>
                  <a:pt x="4569" y="10915"/>
                  <a:pt x="4523" y="10963"/>
                  <a:pt x="4490" y="11013"/>
                </a:cubicBezTo>
                <a:cubicBezTo>
                  <a:pt x="4481" y="11027"/>
                  <a:pt x="4405" y="11085"/>
                  <a:pt x="4440" y="11112"/>
                </a:cubicBezTo>
                <a:cubicBezTo>
                  <a:pt x="4477" y="11141"/>
                  <a:pt x="4523" y="11120"/>
                  <a:pt x="4564" y="11137"/>
                </a:cubicBezTo>
                <a:cubicBezTo>
                  <a:pt x="4611" y="11156"/>
                  <a:pt x="4628" y="11162"/>
                  <a:pt x="4688" y="11162"/>
                </a:cubicBezTo>
                <a:cubicBezTo>
                  <a:pt x="4734" y="11162"/>
                  <a:pt x="4746" y="11142"/>
                  <a:pt x="4787" y="11137"/>
                </a:cubicBezTo>
                <a:cubicBezTo>
                  <a:pt x="4815" y="11137"/>
                  <a:pt x="4826" y="11135"/>
                  <a:pt x="4837" y="11112"/>
                </a:cubicBezTo>
              </a:path>
              <a:path w="4987" h="4044">
                <a:moveTo>
                  <a:pt x="4986" y="10889"/>
                </a:moveTo>
                <a:cubicBezTo>
                  <a:pt x="4959" y="10952"/>
                  <a:pt x="4948" y="11018"/>
                  <a:pt x="4936" y="11088"/>
                </a:cubicBezTo>
                <a:cubicBezTo>
                  <a:pt x="4936" y="11116"/>
                  <a:pt x="4939" y="11126"/>
                  <a:pt x="4961" y="11137"/>
                </a:cubicBezTo>
                <a:cubicBezTo>
                  <a:pt x="4961" y="11087"/>
                  <a:pt x="4972" y="11079"/>
                  <a:pt x="4986" y="11038"/>
                </a:cubicBezTo>
                <a:cubicBezTo>
                  <a:pt x="4997" y="11006"/>
                  <a:pt x="5001" y="10969"/>
                  <a:pt x="5011" y="10939"/>
                </a:cubicBezTo>
                <a:cubicBezTo>
                  <a:pt x="5022" y="10905"/>
                  <a:pt x="5045" y="10908"/>
                  <a:pt x="5060" y="10864"/>
                </a:cubicBezTo>
                <a:cubicBezTo>
                  <a:pt x="5072" y="10828"/>
                  <a:pt x="5091" y="10840"/>
                  <a:pt x="5135" y="10840"/>
                </a:cubicBezTo>
                <a:cubicBezTo>
                  <a:pt x="5199" y="10840"/>
                  <a:pt x="5209" y="10889"/>
                  <a:pt x="5209" y="10939"/>
                </a:cubicBezTo>
                <a:cubicBezTo>
                  <a:pt x="5209" y="10989"/>
                  <a:pt x="5209" y="11038"/>
                  <a:pt x="5209" y="11088"/>
                </a:cubicBezTo>
                <a:cubicBezTo>
                  <a:pt x="5209" y="11042"/>
                  <a:pt x="5229" y="11029"/>
                  <a:pt x="5234" y="10988"/>
                </a:cubicBezTo>
                <a:cubicBezTo>
                  <a:pt x="5237" y="10963"/>
                  <a:pt x="5259" y="10942"/>
                  <a:pt x="5283" y="10914"/>
                </a:cubicBezTo>
                <a:cubicBezTo>
                  <a:pt x="5309" y="10884"/>
                  <a:pt x="5348" y="10851"/>
                  <a:pt x="5383" y="10840"/>
                </a:cubicBezTo>
                <a:cubicBezTo>
                  <a:pt x="5425" y="10826"/>
                  <a:pt x="5477" y="10840"/>
                  <a:pt x="5507" y="10864"/>
                </a:cubicBezTo>
                <a:cubicBezTo>
                  <a:pt x="5529" y="10881"/>
                  <a:pt x="5547" y="10935"/>
                  <a:pt x="5531" y="10964"/>
                </a:cubicBezTo>
                <a:cubicBezTo>
                  <a:pt x="5509" y="11005"/>
                  <a:pt x="5507" y="11013"/>
                  <a:pt x="5507" y="11063"/>
                </a:cubicBezTo>
                <a:cubicBezTo>
                  <a:pt x="5507" y="11078"/>
                  <a:pt x="5499" y="11188"/>
                  <a:pt x="5531" y="11112"/>
                </a:cubicBezTo>
                <a:cubicBezTo>
                  <a:pt x="5531" y="11088"/>
                  <a:pt x="5531" y="11080"/>
                  <a:pt x="5556" y="11088"/>
                </a:cubicBezTo>
              </a:path>
              <a:path w="4987" h="4044">
                <a:moveTo>
                  <a:pt x="5879" y="10864"/>
                </a:moveTo>
                <a:cubicBezTo>
                  <a:pt x="5860" y="10931"/>
                  <a:pt x="5829" y="10995"/>
                  <a:pt x="5829" y="11063"/>
                </a:cubicBezTo>
                <a:cubicBezTo>
                  <a:pt x="5829" y="11130"/>
                  <a:pt x="5838" y="11155"/>
                  <a:pt x="5854" y="11187"/>
                </a:cubicBezTo>
                <a:cubicBezTo>
                  <a:pt x="5874" y="11228"/>
                  <a:pt x="5854" y="11145"/>
                  <a:pt x="5854" y="11112"/>
                </a:cubicBezTo>
                <a:cubicBezTo>
                  <a:pt x="5854" y="11104"/>
                  <a:pt x="5854" y="11096"/>
                  <a:pt x="5854" y="11088"/>
                </a:cubicBezTo>
              </a:path>
              <a:path w="4987" h="4044">
                <a:moveTo>
                  <a:pt x="5804" y="10567"/>
                </a:moveTo>
                <a:cubicBezTo>
                  <a:pt x="5815" y="10600"/>
                  <a:pt x="5840" y="10592"/>
                  <a:pt x="5804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840" y="3214800"/>
            <a:ext cx="1305000" cy="1446120"/>
          </a:xfrm>
          <a:custGeom>
            <a:avLst/>
            <a:gdLst/>
            <a:ahLst/>
            <a:rect l="l" t="t" r="r" b="b"/>
            <a:pathLst>
              <a:path w="3623" h="4019">
                <a:moveTo>
                  <a:pt x="3398" y="8954"/>
                </a:moveTo>
                <a:cubicBezTo>
                  <a:pt x="3434" y="9037"/>
                  <a:pt x="3404" y="9027"/>
                  <a:pt x="3398" y="9004"/>
                </a:cubicBezTo>
                <a:cubicBezTo>
                  <a:pt x="3384" y="8954"/>
                  <a:pt x="3388" y="8937"/>
                  <a:pt x="3324" y="8930"/>
                </a:cubicBezTo>
                <a:cubicBezTo>
                  <a:pt x="3261" y="8923"/>
                  <a:pt x="3262" y="8979"/>
                  <a:pt x="3225" y="9004"/>
                </a:cubicBezTo>
                <a:cubicBezTo>
                  <a:pt x="3174" y="9038"/>
                  <a:pt x="3178" y="9017"/>
                  <a:pt x="3125" y="9079"/>
                </a:cubicBezTo>
                <a:cubicBezTo>
                  <a:pt x="3048" y="9169"/>
                  <a:pt x="3064" y="9158"/>
                  <a:pt x="3026" y="9252"/>
                </a:cubicBezTo>
                <a:cubicBezTo>
                  <a:pt x="3001" y="9314"/>
                  <a:pt x="2985" y="9340"/>
                  <a:pt x="3026" y="9376"/>
                </a:cubicBezTo>
                <a:cubicBezTo>
                  <a:pt x="3073" y="9417"/>
                  <a:pt x="3135" y="9444"/>
                  <a:pt x="3200" y="9451"/>
                </a:cubicBezTo>
                <a:cubicBezTo>
                  <a:pt x="3293" y="9461"/>
                  <a:pt x="3483" y="9488"/>
                  <a:pt x="3497" y="9401"/>
                </a:cubicBezTo>
                <a:cubicBezTo>
                  <a:pt x="3497" y="9418"/>
                  <a:pt x="3497" y="9434"/>
                  <a:pt x="3497" y="9451"/>
                </a:cubicBezTo>
              </a:path>
              <a:path w="3623" h="4019">
                <a:moveTo>
                  <a:pt x="2927" y="9674"/>
                </a:moveTo>
                <a:cubicBezTo>
                  <a:pt x="2927" y="9707"/>
                  <a:pt x="2927" y="9723"/>
                  <a:pt x="2927" y="9748"/>
                </a:cubicBezTo>
                <a:cubicBezTo>
                  <a:pt x="2891" y="9792"/>
                  <a:pt x="2892" y="9729"/>
                  <a:pt x="2853" y="9823"/>
                </a:cubicBezTo>
                <a:cubicBezTo>
                  <a:pt x="2836" y="9864"/>
                  <a:pt x="2821" y="9896"/>
                  <a:pt x="2803" y="9922"/>
                </a:cubicBezTo>
                <a:cubicBezTo>
                  <a:pt x="2766" y="9975"/>
                  <a:pt x="2770" y="9993"/>
                  <a:pt x="2729" y="10046"/>
                </a:cubicBezTo>
                <a:cubicBezTo>
                  <a:pt x="2712" y="10067"/>
                  <a:pt x="2656" y="10113"/>
                  <a:pt x="2629" y="10145"/>
                </a:cubicBezTo>
                <a:cubicBezTo>
                  <a:pt x="2582" y="10200"/>
                  <a:pt x="2600" y="10211"/>
                  <a:pt x="2555" y="10269"/>
                </a:cubicBezTo>
                <a:cubicBezTo>
                  <a:pt x="2535" y="10295"/>
                  <a:pt x="2465" y="10379"/>
                  <a:pt x="2431" y="10418"/>
                </a:cubicBezTo>
                <a:cubicBezTo>
                  <a:pt x="2411" y="10441"/>
                  <a:pt x="2378" y="10487"/>
                  <a:pt x="2356" y="10517"/>
                </a:cubicBezTo>
                <a:cubicBezTo>
                  <a:pt x="2328" y="10555"/>
                  <a:pt x="2272" y="10615"/>
                  <a:pt x="2257" y="10641"/>
                </a:cubicBezTo>
                <a:cubicBezTo>
                  <a:pt x="2223" y="10700"/>
                  <a:pt x="2194" y="10759"/>
                  <a:pt x="2158" y="10815"/>
                </a:cubicBezTo>
                <a:cubicBezTo>
                  <a:pt x="2126" y="10864"/>
                  <a:pt x="2092" y="10915"/>
                  <a:pt x="2059" y="10964"/>
                </a:cubicBezTo>
                <a:cubicBezTo>
                  <a:pt x="2025" y="11015"/>
                  <a:pt x="2009" y="11067"/>
                  <a:pt x="1984" y="11112"/>
                </a:cubicBezTo>
                <a:cubicBezTo>
                  <a:pt x="1957" y="11162"/>
                  <a:pt x="1917" y="11213"/>
                  <a:pt x="1885" y="11261"/>
                </a:cubicBezTo>
                <a:cubicBezTo>
                  <a:pt x="1852" y="11311"/>
                  <a:pt x="1816" y="11357"/>
                  <a:pt x="1786" y="11410"/>
                </a:cubicBezTo>
                <a:cubicBezTo>
                  <a:pt x="1768" y="11442"/>
                  <a:pt x="1727" y="11497"/>
                  <a:pt x="1712" y="11534"/>
                </a:cubicBezTo>
                <a:cubicBezTo>
                  <a:pt x="1689" y="11591"/>
                  <a:pt x="1666" y="11626"/>
                  <a:pt x="1637" y="11683"/>
                </a:cubicBezTo>
                <a:cubicBezTo>
                  <a:pt x="1614" y="11727"/>
                  <a:pt x="1588" y="11766"/>
                  <a:pt x="1563" y="11807"/>
                </a:cubicBezTo>
                <a:cubicBezTo>
                  <a:pt x="1530" y="11860"/>
                  <a:pt x="1510" y="11898"/>
                  <a:pt x="1488" y="11956"/>
                </a:cubicBezTo>
                <a:cubicBezTo>
                  <a:pt x="1471" y="12002"/>
                  <a:pt x="1457" y="12063"/>
                  <a:pt x="1439" y="12105"/>
                </a:cubicBezTo>
                <a:cubicBezTo>
                  <a:pt x="1419" y="12150"/>
                  <a:pt x="1381" y="12182"/>
                  <a:pt x="1364" y="12229"/>
                </a:cubicBezTo>
                <a:cubicBezTo>
                  <a:pt x="1343" y="12288"/>
                  <a:pt x="1295" y="12342"/>
                  <a:pt x="1265" y="12402"/>
                </a:cubicBezTo>
                <a:cubicBezTo>
                  <a:pt x="1249" y="12434"/>
                  <a:pt x="1231" y="12469"/>
                  <a:pt x="1215" y="12502"/>
                </a:cubicBezTo>
                <a:cubicBezTo>
                  <a:pt x="1201" y="12531"/>
                  <a:pt x="1177" y="12571"/>
                  <a:pt x="1166" y="12601"/>
                </a:cubicBezTo>
                <a:cubicBezTo>
                  <a:pt x="1155" y="12630"/>
                  <a:pt x="1150" y="12673"/>
                  <a:pt x="1141" y="12700"/>
                </a:cubicBezTo>
                <a:cubicBezTo>
                  <a:pt x="1129" y="12734"/>
                  <a:pt x="1097" y="12761"/>
                  <a:pt x="1091" y="12774"/>
                </a:cubicBezTo>
                <a:cubicBezTo>
                  <a:pt x="1076" y="12805"/>
                  <a:pt x="1075" y="12824"/>
                  <a:pt x="1067" y="12849"/>
                </a:cubicBezTo>
                <a:cubicBezTo>
                  <a:pt x="1067" y="12857"/>
                  <a:pt x="1067" y="12866"/>
                  <a:pt x="1067" y="12874"/>
                </a:cubicBezTo>
                <a:cubicBezTo>
                  <a:pt x="1109" y="12856"/>
                  <a:pt x="1131" y="12895"/>
                  <a:pt x="1166" y="12849"/>
                </a:cubicBezTo>
                <a:cubicBezTo>
                  <a:pt x="1166" y="12824"/>
                  <a:pt x="1166" y="12816"/>
                  <a:pt x="1166" y="12799"/>
                </a:cubicBezTo>
                <a:cubicBezTo>
                  <a:pt x="1123" y="12819"/>
                  <a:pt x="1105" y="12779"/>
                  <a:pt x="1067" y="12824"/>
                </a:cubicBezTo>
                <a:cubicBezTo>
                  <a:pt x="1044" y="12852"/>
                  <a:pt x="1060" y="12853"/>
                  <a:pt x="1042" y="12898"/>
                </a:cubicBezTo>
                <a:cubicBezTo>
                  <a:pt x="1042" y="12906"/>
                  <a:pt x="1042" y="12915"/>
                  <a:pt x="1042" y="12923"/>
                </a:cubicBezTo>
                <a:cubicBezTo>
                  <a:pt x="1078" y="12930"/>
                  <a:pt x="1080" y="12923"/>
                  <a:pt x="1116" y="12923"/>
                </a:cubicBezTo>
                <a:cubicBezTo>
                  <a:pt x="1141" y="12923"/>
                  <a:pt x="1149" y="12923"/>
                  <a:pt x="1166" y="12923"/>
                </a:cubicBezTo>
                <a:cubicBezTo>
                  <a:pt x="1150" y="12878"/>
                  <a:pt x="1169" y="12867"/>
                  <a:pt x="1141" y="12824"/>
                </a:cubicBezTo>
                <a:cubicBezTo>
                  <a:pt x="1121" y="12783"/>
                  <a:pt x="1123" y="12767"/>
                  <a:pt x="1091" y="12774"/>
                </a:cubicBezTo>
                <a:cubicBezTo>
                  <a:pt x="1079" y="12805"/>
                  <a:pt x="1047" y="12838"/>
                  <a:pt x="1042" y="12849"/>
                </a:cubicBezTo>
                <a:cubicBezTo>
                  <a:pt x="1042" y="12857"/>
                  <a:pt x="1042" y="12866"/>
                  <a:pt x="1042" y="12874"/>
                </a:cubicBezTo>
                <a:cubicBezTo>
                  <a:pt x="1093" y="12891"/>
                  <a:pt x="1098" y="12901"/>
                  <a:pt x="1116" y="12898"/>
                </a:cubicBezTo>
                <a:cubicBezTo>
                  <a:pt x="1171" y="12888"/>
                  <a:pt x="1212" y="12865"/>
                  <a:pt x="1215" y="12799"/>
                </a:cubicBezTo>
                <a:cubicBezTo>
                  <a:pt x="1217" y="12754"/>
                  <a:pt x="1186" y="12739"/>
                  <a:pt x="1166" y="12725"/>
                </a:cubicBezTo>
                <a:cubicBezTo>
                  <a:pt x="1155" y="12717"/>
                  <a:pt x="1110" y="12713"/>
                  <a:pt x="1091" y="12700"/>
                </a:cubicBezTo>
                <a:cubicBezTo>
                  <a:pt x="1067" y="12675"/>
                  <a:pt x="1059" y="12666"/>
                  <a:pt x="1042" y="12650"/>
                </a:cubicBezTo>
              </a:path>
              <a:path w="3623" h="4019">
                <a:moveTo>
                  <a:pt x="719" y="10765"/>
                </a:moveTo>
                <a:cubicBezTo>
                  <a:pt x="775" y="10765"/>
                  <a:pt x="753" y="10745"/>
                  <a:pt x="794" y="10740"/>
                </a:cubicBezTo>
                <a:cubicBezTo>
                  <a:pt x="838" y="10734"/>
                  <a:pt x="830" y="10744"/>
                  <a:pt x="868" y="10716"/>
                </a:cubicBezTo>
                <a:cubicBezTo>
                  <a:pt x="895" y="10725"/>
                  <a:pt x="914" y="10733"/>
                  <a:pt x="918" y="10765"/>
                </a:cubicBezTo>
                <a:cubicBezTo>
                  <a:pt x="922" y="10800"/>
                  <a:pt x="909" y="10840"/>
                  <a:pt x="893" y="10864"/>
                </a:cubicBezTo>
                <a:cubicBezTo>
                  <a:pt x="882" y="10881"/>
                  <a:pt x="852" y="10958"/>
                  <a:pt x="843" y="10964"/>
                </a:cubicBezTo>
                <a:cubicBezTo>
                  <a:pt x="819" y="10980"/>
                  <a:pt x="824" y="10979"/>
                  <a:pt x="794" y="10988"/>
                </a:cubicBezTo>
                <a:cubicBezTo>
                  <a:pt x="832" y="10976"/>
                  <a:pt x="815" y="10964"/>
                  <a:pt x="868" y="10964"/>
                </a:cubicBezTo>
                <a:cubicBezTo>
                  <a:pt x="905" y="10964"/>
                  <a:pt x="902" y="10992"/>
                  <a:pt x="918" y="11013"/>
                </a:cubicBezTo>
                <a:cubicBezTo>
                  <a:pt x="945" y="11049"/>
                  <a:pt x="962" y="11089"/>
                  <a:pt x="967" y="11137"/>
                </a:cubicBezTo>
                <a:cubicBezTo>
                  <a:pt x="970" y="11170"/>
                  <a:pt x="939" y="11214"/>
                  <a:pt x="918" y="11237"/>
                </a:cubicBezTo>
                <a:cubicBezTo>
                  <a:pt x="878" y="11281"/>
                  <a:pt x="858" y="11264"/>
                  <a:pt x="819" y="11286"/>
                </a:cubicBezTo>
                <a:cubicBezTo>
                  <a:pt x="811" y="11294"/>
                  <a:pt x="802" y="11303"/>
                  <a:pt x="794" y="11311"/>
                </a:cubicBezTo>
                <a:cubicBezTo>
                  <a:pt x="790" y="11300"/>
                  <a:pt x="707" y="11260"/>
                  <a:pt x="719" y="11237"/>
                </a:cubicBezTo>
                <a:cubicBezTo>
                  <a:pt x="727" y="11237"/>
                  <a:pt x="736" y="11237"/>
                  <a:pt x="744" y="11237"/>
                </a:cubicBezTo>
              </a:path>
              <a:path w="3623" h="4019">
                <a:moveTo>
                  <a:pt x="1116" y="10765"/>
                </a:moveTo>
                <a:cubicBezTo>
                  <a:pt x="1116" y="10837"/>
                  <a:pt x="1095" y="10874"/>
                  <a:pt x="1091" y="10939"/>
                </a:cubicBezTo>
                <a:cubicBezTo>
                  <a:pt x="1087" y="11003"/>
                  <a:pt x="1105" y="11066"/>
                  <a:pt x="1141" y="11112"/>
                </a:cubicBezTo>
                <a:cubicBezTo>
                  <a:pt x="1194" y="11112"/>
                  <a:pt x="1202" y="11101"/>
                  <a:pt x="1240" y="11063"/>
                </a:cubicBezTo>
                <a:cubicBezTo>
                  <a:pt x="1291" y="11012"/>
                  <a:pt x="1286" y="10965"/>
                  <a:pt x="1290" y="10889"/>
                </a:cubicBezTo>
                <a:cubicBezTo>
                  <a:pt x="1293" y="10836"/>
                  <a:pt x="1284" y="10786"/>
                  <a:pt x="1265" y="10740"/>
                </a:cubicBezTo>
                <a:cubicBezTo>
                  <a:pt x="1232" y="10660"/>
                  <a:pt x="1224" y="10677"/>
                  <a:pt x="1191" y="10641"/>
                </a:cubicBezTo>
                <a:cubicBezTo>
                  <a:pt x="1183" y="10625"/>
                  <a:pt x="1174" y="10608"/>
                  <a:pt x="1166" y="10592"/>
                </a:cubicBezTo>
                <a:cubicBezTo>
                  <a:pt x="1116" y="10617"/>
                  <a:pt x="1096" y="10637"/>
                  <a:pt x="1091" y="10691"/>
                </a:cubicBezTo>
                <a:cubicBezTo>
                  <a:pt x="1091" y="10716"/>
                  <a:pt x="1091" y="10724"/>
                  <a:pt x="1116" y="10716"/>
                </a:cubicBezTo>
              </a:path>
              <a:path w="3623" h="4019">
                <a:moveTo>
                  <a:pt x="1414" y="10567"/>
                </a:moveTo>
                <a:cubicBezTo>
                  <a:pt x="1414" y="10661"/>
                  <a:pt x="1413" y="10737"/>
                  <a:pt x="1439" y="10815"/>
                </a:cubicBezTo>
                <a:cubicBezTo>
                  <a:pt x="1441" y="10821"/>
                  <a:pt x="1439" y="10906"/>
                  <a:pt x="1439" y="10840"/>
                </a:cubicBezTo>
                <a:cubicBezTo>
                  <a:pt x="1439" y="10749"/>
                  <a:pt x="1423" y="10643"/>
                  <a:pt x="1463" y="10567"/>
                </a:cubicBezTo>
                <a:cubicBezTo>
                  <a:pt x="1497" y="10503"/>
                  <a:pt x="1498" y="10536"/>
                  <a:pt x="1513" y="10492"/>
                </a:cubicBezTo>
                <a:cubicBezTo>
                  <a:pt x="1546" y="10503"/>
                  <a:pt x="1560" y="10544"/>
                  <a:pt x="1563" y="10592"/>
                </a:cubicBezTo>
                <a:cubicBezTo>
                  <a:pt x="1566" y="10633"/>
                  <a:pt x="1563" y="10675"/>
                  <a:pt x="1563" y="10716"/>
                </a:cubicBezTo>
                <a:cubicBezTo>
                  <a:pt x="1607" y="10701"/>
                  <a:pt x="1588" y="10645"/>
                  <a:pt x="1588" y="10592"/>
                </a:cubicBezTo>
                <a:cubicBezTo>
                  <a:pt x="1588" y="10573"/>
                  <a:pt x="1601" y="10526"/>
                  <a:pt x="1612" y="10492"/>
                </a:cubicBezTo>
                <a:cubicBezTo>
                  <a:pt x="1633" y="10430"/>
                  <a:pt x="1629" y="10418"/>
                  <a:pt x="1687" y="10418"/>
                </a:cubicBezTo>
                <a:cubicBezTo>
                  <a:pt x="1713" y="10427"/>
                  <a:pt x="1731" y="10479"/>
                  <a:pt x="1736" y="10492"/>
                </a:cubicBezTo>
                <a:cubicBezTo>
                  <a:pt x="1746" y="10516"/>
                  <a:pt x="1756" y="10614"/>
                  <a:pt x="1761" y="10641"/>
                </a:cubicBezTo>
                <a:cubicBezTo>
                  <a:pt x="1761" y="10691"/>
                  <a:pt x="1761" y="10708"/>
                  <a:pt x="1761" y="10641"/>
                </a:cubicBezTo>
              </a:path>
              <a:path w="3623" h="4019">
                <a:moveTo>
                  <a:pt x="1811" y="10368"/>
                </a:moveTo>
                <a:cubicBezTo>
                  <a:pt x="1821" y="10391"/>
                  <a:pt x="1856" y="10576"/>
                  <a:pt x="1811" y="10443"/>
                </a:cubicBezTo>
                <a:cubicBezTo>
                  <a:pt x="1811" y="10435"/>
                  <a:pt x="1811" y="10426"/>
                  <a:pt x="1811" y="10418"/>
                </a:cubicBezTo>
              </a:path>
              <a:path w="3623" h="4019">
                <a:moveTo>
                  <a:pt x="1712" y="9996"/>
                </a:moveTo>
                <a:cubicBezTo>
                  <a:pt x="1712" y="9988"/>
                  <a:pt x="1712" y="9979"/>
                  <a:pt x="1712" y="9971"/>
                </a:cubicBezTo>
              </a:path>
              <a:path w="3623" h="4019">
                <a:moveTo>
                  <a:pt x="4341" y="12229"/>
                </a:moveTo>
                <a:cubicBezTo>
                  <a:pt x="4341" y="12221"/>
                  <a:pt x="4341" y="12212"/>
                  <a:pt x="4341" y="12204"/>
                </a:cubicBezTo>
                <a:cubicBezTo>
                  <a:pt x="4328" y="12244"/>
                  <a:pt x="4329" y="12214"/>
                  <a:pt x="4316" y="12254"/>
                </a:cubicBezTo>
                <a:cubicBezTo>
                  <a:pt x="4284" y="12262"/>
                  <a:pt x="4233" y="12291"/>
                  <a:pt x="4217" y="12328"/>
                </a:cubicBezTo>
                <a:cubicBezTo>
                  <a:pt x="4191" y="12386"/>
                  <a:pt x="4132" y="12421"/>
                  <a:pt x="4093" y="12477"/>
                </a:cubicBezTo>
                <a:cubicBezTo>
                  <a:pt x="4067" y="12514"/>
                  <a:pt x="4047" y="12583"/>
                  <a:pt x="4043" y="12626"/>
                </a:cubicBezTo>
                <a:cubicBezTo>
                  <a:pt x="4038" y="12676"/>
                  <a:pt x="4055" y="12686"/>
                  <a:pt x="4068" y="12725"/>
                </a:cubicBezTo>
                <a:cubicBezTo>
                  <a:pt x="4077" y="12753"/>
                  <a:pt x="4086" y="12770"/>
                  <a:pt x="4093" y="12799"/>
                </a:cubicBezTo>
                <a:cubicBezTo>
                  <a:pt x="4129" y="12787"/>
                  <a:pt x="4129" y="12786"/>
                  <a:pt x="409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28960" y="3679920"/>
            <a:ext cx="2322360" cy="588960"/>
          </a:xfrm>
          <a:custGeom>
            <a:avLst/>
            <a:gdLst/>
            <a:ahLst/>
            <a:rect l="l" t="t" r="r" b="b"/>
            <a:pathLst>
              <a:path w="6450" h="1638">
                <a:moveTo>
                  <a:pt x="8136" y="11137"/>
                </a:moveTo>
                <a:cubicBezTo>
                  <a:pt x="8174" y="11150"/>
                  <a:pt x="8157" y="11162"/>
                  <a:pt x="8210" y="11162"/>
                </a:cubicBezTo>
                <a:cubicBezTo>
                  <a:pt x="8257" y="11162"/>
                  <a:pt x="8320" y="11157"/>
                  <a:pt x="8359" y="11137"/>
                </a:cubicBezTo>
                <a:cubicBezTo>
                  <a:pt x="8413" y="11110"/>
                  <a:pt x="8467" y="11093"/>
                  <a:pt x="8533" y="11088"/>
                </a:cubicBezTo>
                <a:cubicBezTo>
                  <a:pt x="8578" y="11085"/>
                  <a:pt x="8609" y="11063"/>
                  <a:pt x="8657" y="11063"/>
                </a:cubicBezTo>
                <a:cubicBezTo>
                  <a:pt x="8709" y="11063"/>
                  <a:pt x="8706" y="11095"/>
                  <a:pt x="8706" y="11137"/>
                </a:cubicBezTo>
                <a:cubicBezTo>
                  <a:pt x="8706" y="11173"/>
                  <a:pt x="8669" y="11249"/>
                  <a:pt x="8657" y="11286"/>
                </a:cubicBezTo>
                <a:cubicBezTo>
                  <a:pt x="8634" y="11353"/>
                  <a:pt x="8603" y="11420"/>
                  <a:pt x="8582" y="11485"/>
                </a:cubicBezTo>
                <a:cubicBezTo>
                  <a:pt x="8561" y="11550"/>
                  <a:pt x="8554" y="11620"/>
                  <a:pt x="8533" y="11683"/>
                </a:cubicBezTo>
                <a:cubicBezTo>
                  <a:pt x="8515" y="11737"/>
                  <a:pt x="8508" y="11751"/>
                  <a:pt x="8508" y="11807"/>
                </a:cubicBezTo>
                <a:cubicBezTo>
                  <a:pt x="8508" y="11832"/>
                  <a:pt x="8508" y="11840"/>
                  <a:pt x="8508" y="11857"/>
                </a:cubicBezTo>
              </a:path>
              <a:path w="6450" h="1638">
                <a:moveTo>
                  <a:pt x="8756" y="11013"/>
                </a:moveTo>
                <a:cubicBezTo>
                  <a:pt x="8795" y="10996"/>
                  <a:pt x="8841" y="10967"/>
                  <a:pt x="8880" y="10964"/>
                </a:cubicBezTo>
                <a:cubicBezTo>
                  <a:pt x="8936" y="10960"/>
                  <a:pt x="8957" y="10944"/>
                  <a:pt x="9004" y="10939"/>
                </a:cubicBezTo>
                <a:cubicBezTo>
                  <a:pt x="9046" y="10934"/>
                  <a:pt x="9057" y="10947"/>
                  <a:pt x="9079" y="10964"/>
                </a:cubicBezTo>
                <a:cubicBezTo>
                  <a:pt x="9111" y="10988"/>
                  <a:pt x="9115" y="11051"/>
                  <a:pt x="9103" y="11088"/>
                </a:cubicBezTo>
                <a:cubicBezTo>
                  <a:pt x="9079" y="11163"/>
                  <a:pt x="9044" y="11216"/>
                  <a:pt x="9004" y="11286"/>
                </a:cubicBezTo>
                <a:cubicBezTo>
                  <a:pt x="8955" y="11371"/>
                  <a:pt x="8934" y="11479"/>
                  <a:pt x="8880" y="11559"/>
                </a:cubicBezTo>
                <a:cubicBezTo>
                  <a:pt x="8838" y="11621"/>
                  <a:pt x="8800" y="11658"/>
                  <a:pt x="8781" y="11733"/>
                </a:cubicBezTo>
                <a:cubicBezTo>
                  <a:pt x="8781" y="11741"/>
                  <a:pt x="8781" y="11749"/>
                  <a:pt x="8781" y="11757"/>
                </a:cubicBezTo>
                <a:cubicBezTo>
                  <a:pt x="8835" y="11757"/>
                  <a:pt x="8875" y="11737"/>
                  <a:pt x="8930" y="11733"/>
                </a:cubicBezTo>
                <a:cubicBezTo>
                  <a:pt x="8975" y="11730"/>
                  <a:pt x="8989" y="11753"/>
                  <a:pt x="9029" y="11757"/>
                </a:cubicBezTo>
                <a:cubicBezTo>
                  <a:pt x="9081" y="11763"/>
                  <a:pt x="9112" y="11793"/>
                  <a:pt x="9153" y="11807"/>
                </a:cubicBezTo>
                <a:cubicBezTo>
                  <a:pt x="9194" y="11821"/>
                  <a:pt x="9232" y="11832"/>
                  <a:pt x="9277" y="11832"/>
                </a:cubicBezTo>
                <a:cubicBezTo>
                  <a:pt x="9329" y="11832"/>
                  <a:pt x="9330" y="11818"/>
                  <a:pt x="9351" y="11807"/>
                </a:cubicBezTo>
                <a:cubicBezTo>
                  <a:pt x="9359" y="11807"/>
                  <a:pt x="9368" y="11807"/>
                  <a:pt x="9376" y="11807"/>
                </a:cubicBezTo>
              </a:path>
              <a:path w="6450" h="1638">
                <a:moveTo>
                  <a:pt x="9277" y="10691"/>
                </a:moveTo>
                <a:cubicBezTo>
                  <a:pt x="9277" y="10674"/>
                  <a:pt x="9277" y="10658"/>
                  <a:pt x="9277" y="10641"/>
                </a:cubicBezTo>
                <a:cubicBezTo>
                  <a:pt x="9335" y="10641"/>
                  <a:pt x="9393" y="10641"/>
                  <a:pt x="9451" y="10641"/>
                </a:cubicBezTo>
                <a:cubicBezTo>
                  <a:pt x="9451" y="10683"/>
                  <a:pt x="9464" y="10757"/>
                  <a:pt x="9426" y="10790"/>
                </a:cubicBezTo>
                <a:cubicBezTo>
                  <a:pt x="9401" y="10790"/>
                  <a:pt x="9393" y="10790"/>
                  <a:pt x="9401" y="10815"/>
                </a:cubicBezTo>
                <a:cubicBezTo>
                  <a:pt x="9414" y="10853"/>
                  <a:pt x="9430" y="10840"/>
                  <a:pt x="9475" y="10840"/>
                </a:cubicBezTo>
                <a:cubicBezTo>
                  <a:pt x="9500" y="10840"/>
                  <a:pt x="9525" y="10840"/>
                  <a:pt x="9550" y="10840"/>
                </a:cubicBezTo>
              </a:path>
              <a:path w="6450" h="1638">
                <a:moveTo>
                  <a:pt x="10046" y="10815"/>
                </a:moveTo>
                <a:cubicBezTo>
                  <a:pt x="10072" y="10875"/>
                  <a:pt x="10071" y="10898"/>
                  <a:pt x="10071" y="10964"/>
                </a:cubicBezTo>
                <a:cubicBezTo>
                  <a:pt x="10071" y="11037"/>
                  <a:pt x="10054" y="11092"/>
                  <a:pt x="10046" y="11162"/>
                </a:cubicBezTo>
                <a:cubicBezTo>
                  <a:pt x="10031" y="11292"/>
                  <a:pt x="10040" y="11437"/>
                  <a:pt x="10071" y="11559"/>
                </a:cubicBezTo>
                <a:cubicBezTo>
                  <a:pt x="10082" y="11604"/>
                  <a:pt x="10065" y="11593"/>
                  <a:pt x="10096" y="11633"/>
                </a:cubicBezTo>
                <a:cubicBezTo>
                  <a:pt x="10115" y="11566"/>
                  <a:pt x="10096" y="11575"/>
                  <a:pt x="10096" y="11509"/>
                </a:cubicBezTo>
              </a:path>
              <a:path w="6450" h="1638">
                <a:moveTo>
                  <a:pt x="9823" y="11162"/>
                </a:moveTo>
                <a:cubicBezTo>
                  <a:pt x="9878" y="11162"/>
                  <a:pt x="9894" y="11173"/>
                  <a:pt x="9947" y="11187"/>
                </a:cubicBezTo>
                <a:cubicBezTo>
                  <a:pt x="10006" y="11202"/>
                  <a:pt x="10087" y="11202"/>
                  <a:pt x="10145" y="11212"/>
                </a:cubicBezTo>
                <a:cubicBezTo>
                  <a:pt x="10203" y="11222"/>
                  <a:pt x="10257" y="11187"/>
                  <a:pt x="10319" y="11187"/>
                </a:cubicBezTo>
                <a:cubicBezTo>
                  <a:pt x="10327" y="11187"/>
                  <a:pt x="10336" y="11187"/>
                  <a:pt x="10344" y="11187"/>
                </a:cubicBezTo>
              </a:path>
              <a:path w="6450" h="1638">
                <a:moveTo>
                  <a:pt x="10393" y="10492"/>
                </a:moveTo>
                <a:cubicBezTo>
                  <a:pt x="10393" y="10649"/>
                  <a:pt x="10332" y="10973"/>
                  <a:pt x="10418" y="11112"/>
                </a:cubicBezTo>
                <a:cubicBezTo>
                  <a:pt x="10430" y="11131"/>
                  <a:pt x="10459" y="11134"/>
                  <a:pt x="10492" y="11137"/>
                </a:cubicBezTo>
                <a:cubicBezTo>
                  <a:pt x="10536" y="11141"/>
                  <a:pt x="10553" y="11094"/>
                  <a:pt x="10567" y="11088"/>
                </a:cubicBezTo>
                <a:cubicBezTo>
                  <a:pt x="10594" y="11076"/>
                  <a:pt x="10630" y="11053"/>
                  <a:pt x="10641" y="11038"/>
                </a:cubicBezTo>
                <a:cubicBezTo>
                  <a:pt x="10668" y="11001"/>
                  <a:pt x="10703" y="10928"/>
                  <a:pt x="10716" y="10889"/>
                </a:cubicBezTo>
                <a:cubicBezTo>
                  <a:pt x="10738" y="10824"/>
                  <a:pt x="10716" y="10709"/>
                  <a:pt x="10716" y="10641"/>
                </a:cubicBezTo>
                <a:cubicBezTo>
                  <a:pt x="10716" y="10769"/>
                  <a:pt x="10724" y="10888"/>
                  <a:pt x="10740" y="11013"/>
                </a:cubicBezTo>
                <a:cubicBezTo>
                  <a:pt x="10751" y="11095"/>
                  <a:pt x="10755" y="11184"/>
                  <a:pt x="10765" y="11261"/>
                </a:cubicBezTo>
                <a:cubicBezTo>
                  <a:pt x="10780" y="11381"/>
                  <a:pt x="10750" y="11491"/>
                  <a:pt x="10790" y="11609"/>
                </a:cubicBezTo>
                <a:cubicBezTo>
                  <a:pt x="10802" y="11644"/>
                  <a:pt x="10815" y="11744"/>
                  <a:pt x="10815" y="11708"/>
                </a:cubicBezTo>
                <a:cubicBezTo>
                  <a:pt x="10815" y="11700"/>
                  <a:pt x="10815" y="11691"/>
                  <a:pt x="10815" y="11683"/>
                </a:cubicBezTo>
              </a:path>
              <a:path w="6450" h="1638">
                <a:moveTo>
                  <a:pt x="11361" y="10567"/>
                </a:moveTo>
                <a:cubicBezTo>
                  <a:pt x="11353" y="10550"/>
                  <a:pt x="11344" y="10534"/>
                  <a:pt x="11336" y="10517"/>
                </a:cubicBezTo>
                <a:cubicBezTo>
                  <a:pt x="11288" y="10536"/>
                  <a:pt x="11269" y="10567"/>
                  <a:pt x="11212" y="10567"/>
                </a:cubicBezTo>
                <a:cubicBezTo>
                  <a:pt x="11143" y="10567"/>
                  <a:pt x="10962" y="10543"/>
                  <a:pt x="10939" y="10592"/>
                </a:cubicBezTo>
                <a:cubicBezTo>
                  <a:pt x="10910" y="10653"/>
                  <a:pt x="10914" y="10698"/>
                  <a:pt x="10914" y="10765"/>
                </a:cubicBezTo>
                <a:cubicBezTo>
                  <a:pt x="10914" y="10833"/>
                  <a:pt x="10923" y="10876"/>
                  <a:pt x="10939" y="10939"/>
                </a:cubicBezTo>
                <a:cubicBezTo>
                  <a:pt x="10949" y="10978"/>
                  <a:pt x="10957" y="11002"/>
                  <a:pt x="10988" y="11013"/>
                </a:cubicBezTo>
                <a:cubicBezTo>
                  <a:pt x="10988" y="10968"/>
                  <a:pt x="11008" y="10955"/>
                  <a:pt x="11013" y="10914"/>
                </a:cubicBezTo>
                <a:cubicBezTo>
                  <a:pt x="11018" y="10867"/>
                  <a:pt x="11040" y="10857"/>
                  <a:pt x="11063" y="10840"/>
                </a:cubicBezTo>
                <a:cubicBezTo>
                  <a:pt x="11101" y="10812"/>
                  <a:pt x="11113" y="10815"/>
                  <a:pt x="11162" y="10815"/>
                </a:cubicBezTo>
                <a:cubicBezTo>
                  <a:pt x="11199" y="10815"/>
                  <a:pt x="11307" y="10846"/>
                  <a:pt x="11336" y="10864"/>
                </a:cubicBezTo>
                <a:cubicBezTo>
                  <a:pt x="11389" y="10896"/>
                  <a:pt x="11473" y="10968"/>
                  <a:pt x="11509" y="11013"/>
                </a:cubicBezTo>
                <a:cubicBezTo>
                  <a:pt x="11542" y="11054"/>
                  <a:pt x="11571" y="11163"/>
                  <a:pt x="11559" y="11212"/>
                </a:cubicBezTo>
                <a:cubicBezTo>
                  <a:pt x="11542" y="11279"/>
                  <a:pt x="11516" y="11294"/>
                  <a:pt x="11460" y="11336"/>
                </a:cubicBezTo>
                <a:cubicBezTo>
                  <a:pt x="11418" y="11368"/>
                  <a:pt x="11381" y="11408"/>
                  <a:pt x="11336" y="11435"/>
                </a:cubicBezTo>
                <a:cubicBezTo>
                  <a:pt x="11279" y="11469"/>
                  <a:pt x="11225" y="11460"/>
                  <a:pt x="11162" y="11460"/>
                </a:cubicBezTo>
                <a:cubicBezTo>
                  <a:pt x="11108" y="11460"/>
                  <a:pt x="11081" y="11435"/>
                  <a:pt x="11063" y="11410"/>
                </a:cubicBezTo>
                <a:cubicBezTo>
                  <a:pt x="11041" y="11388"/>
                  <a:pt x="11032" y="11383"/>
                  <a:pt x="11038" y="11361"/>
                </a:cubicBezTo>
              </a:path>
              <a:path w="6450" h="1638">
                <a:moveTo>
                  <a:pt x="11460" y="10344"/>
                </a:moveTo>
                <a:cubicBezTo>
                  <a:pt x="11522" y="10344"/>
                  <a:pt x="11739" y="10309"/>
                  <a:pt x="11757" y="10368"/>
                </a:cubicBezTo>
                <a:cubicBezTo>
                  <a:pt x="11763" y="10388"/>
                  <a:pt x="11731" y="10472"/>
                  <a:pt x="11708" y="10492"/>
                </a:cubicBezTo>
                <a:cubicBezTo>
                  <a:pt x="11675" y="10520"/>
                  <a:pt x="11683" y="10492"/>
                  <a:pt x="11683" y="10567"/>
                </a:cubicBezTo>
                <a:cubicBezTo>
                  <a:pt x="11799" y="10567"/>
                  <a:pt x="11914" y="10567"/>
                  <a:pt x="12030" y="10567"/>
                </a:cubicBezTo>
              </a:path>
              <a:path w="6450" h="1638">
                <a:moveTo>
                  <a:pt x="12030" y="10889"/>
                </a:moveTo>
                <a:cubicBezTo>
                  <a:pt x="12136" y="10889"/>
                  <a:pt x="12236" y="10895"/>
                  <a:pt x="12328" y="10914"/>
                </a:cubicBezTo>
                <a:cubicBezTo>
                  <a:pt x="12364" y="10921"/>
                  <a:pt x="12414" y="10914"/>
                  <a:pt x="12452" y="10914"/>
                </a:cubicBezTo>
              </a:path>
              <a:path w="6450" h="1638">
                <a:moveTo>
                  <a:pt x="12675" y="10418"/>
                </a:moveTo>
                <a:cubicBezTo>
                  <a:pt x="12710" y="10357"/>
                  <a:pt x="12708" y="10346"/>
                  <a:pt x="12774" y="10344"/>
                </a:cubicBezTo>
                <a:cubicBezTo>
                  <a:pt x="12843" y="10342"/>
                  <a:pt x="12970" y="10323"/>
                  <a:pt x="13022" y="10368"/>
                </a:cubicBezTo>
                <a:cubicBezTo>
                  <a:pt x="13044" y="10387"/>
                  <a:pt x="13101" y="10412"/>
                  <a:pt x="13122" y="10443"/>
                </a:cubicBezTo>
                <a:cubicBezTo>
                  <a:pt x="13163" y="10504"/>
                  <a:pt x="13138" y="10534"/>
                  <a:pt x="13122" y="10567"/>
                </a:cubicBezTo>
                <a:cubicBezTo>
                  <a:pt x="13093" y="10626"/>
                  <a:pt x="13073" y="10627"/>
                  <a:pt x="13022" y="10641"/>
                </a:cubicBezTo>
                <a:cubicBezTo>
                  <a:pt x="12991" y="10650"/>
                  <a:pt x="13022" y="10615"/>
                  <a:pt x="13022" y="10691"/>
                </a:cubicBezTo>
                <a:cubicBezTo>
                  <a:pt x="13063" y="10697"/>
                  <a:pt x="13111" y="10699"/>
                  <a:pt x="13146" y="10716"/>
                </a:cubicBezTo>
                <a:cubicBezTo>
                  <a:pt x="13185" y="10735"/>
                  <a:pt x="13234" y="10762"/>
                  <a:pt x="13271" y="10790"/>
                </a:cubicBezTo>
                <a:cubicBezTo>
                  <a:pt x="13311" y="10821"/>
                  <a:pt x="13345" y="10873"/>
                  <a:pt x="13370" y="10914"/>
                </a:cubicBezTo>
                <a:cubicBezTo>
                  <a:pt x="13401" y="10965"/>
                  <a:pt x="13433" y="10999"/>
                  <a:pt x="13419" y="11063"/>
                </a:cubicBezTo>
                <a:cubicBezTo>
                  <a:pt x="13411" y="11100"/>
                  <a:pt x="13397" y="11132"/>
                  <a:pt x="13370" y="11162"/>
                </a:cubicBezTo>
                <a:cubicBezTo>
                  <a:pt x="13322" y="11216"/>
                  <a:pt x="13273" y="11212"/>
                  <a:pt x="13221" y="11237"/>
                </a:cubicBezTo>
                <a:cubicBezTo>
                  <a:pt x="13150" y="11271"/>
                  <a:pt x="13108" y="11306"/>
                  <a:pt x="13022" y="11311"/>
                </a:cubicBezTo>
                <a:cubicBezTo>
                  <a:pt x="12969" y="11314"/>
                  <a:pt x="12943" y="11319"/>
                  <a:pt x="12923" y="11286"/>
                </a:cubicBezTo>
                <a:cubicBezTo>
                  <a:pt x="12923" y="11278"/>
                  <a:pt x="12923" y="11269"/>
                  <a:pt x="12923" y="11261"/>
                </a:cubicBezTo>
              </a:path>
              <a:path w="6450" h="1638">
                <a:moveTo>
                  <a:pt x="13767" y="10418"/>
                </a:moveTo>
                <a:cubicBezTo>
                  <a:pt x="13750" y="10401"/>
                  <a:pt x="13734" y="10385"/>
                  <a:pt x="13717" y="10368"/>
                </a:cubicBezTo>
                <a:cubicBezTo>
                  <a:pt x="13687" y="10420"/>
                  <a:pt x="13648" y="10466"/>
                  <a:pt x="13618" y="10517"/>
                </a:cubicBezTo>
                <a:cubicBezTo>
                  <a:pt x="13582" y="10577"/>
                  <a:pt x="13552" y="10719"/>
                  <a:pt x="13543" y="10790"/>
                </a:cubicBezTo>
                <a:cubicBezTo>
                  <a:pt x="13527" y="10919"/>
                  <a:pt x="13510" y="11021"/>
                  <a:pt x="13568" y="11137"/>
                </a:cubicBezTo>
                <a:cubicBezTo>
                  <a:pt x="13605" y="11211"/>
                  <a:pt x="13661" y="11261"/>
                  <a:pt x="13742" y="11286"/>
                </a:cubicBezTo>
                <a:cubicBezTo>
                  <a:pt x="13793" y="11302"/>
                  <a:pt x="13835" y="11311"/>
                  <a:pt x="13891" y="11311"/>
                </a:cubicBezTo>
                <a:cubicBezTo>
                  <a:pt x="13946" y="11311"/>
                  <a:pt x="13979" y="11273"/>
                  <a:pt x="14015" y="11237"/>
                </a:cubicBezTo>
                <a:cubicBezTo>
                  <a:pt x="14062" y="11190"/>
                  <a:pt x="14078" y="11147"/>
                  <a:pt x="14089" y="11088"/>
                </a:cubicBezTo>
                <a:cubicBezTo>
                  <a:pt x="14115" y="10949"/>
                  <a:pt x="14084" y="10935"/>
                  <a:pt x="14064" y="10815"/>
                </a:cubicBezTo>
                <a:cubicBezTo>
                  <a:pt x="14052" y="10742"/>
                  <a:pt x="14021" y="10654"/>
                  <a:pt x="13990" y="10592"/>
                </a:cubicBezTo>
                <a:cubicBezTo>
                  <a:pt x="13981" y="10573"/>
                  <a:pt x="13877" y="10524"/>
                  <a:pt x="13866" y="10517"/>
                </a:cubicBezTo>
                <a:cubicBezTo>
                  <a:pt x="13838" y="10500"/>
                  <a:pt x="13848" y="10503"/>
                  <a:pt x="13816" y="10492"/>
                </a:cubicBezTo>
              </a:path>
              <a:path w="6450" h="1638">
                <a:moveTo>
                  <a:pt x="14188" y="10269"/>
                </a:moveTo>
                <a:cubicBezTo>
                  <a:pt x="14228" y="10210"/>
                  <a:pt x="14221" y="10220"/>
                  <a:pt x="14288" y="10220"/>
                </a:cubicBezTo>
                <a:cubicBezTo>
                  <a:pt x="14375" y="10220"/>
                  <a:pt x="14350" y="10228"/>
                  <a:pt x="14412" y="10269"/>
                </a:cubicBezTo>
                <a:cubicBezTo>
                  <a:pt x="14431" y="10282"/>
                  <a:pt x="14514" y="10269"/>
                  <a:pt x="14461" y="10344"/>
                </a:cubicBezTo>
                <a:cubicBezTo>
                  <a:pt x="14451" y="10358"/>
                  <a:pt x="14416" y="10412"/>
                  <a:pt x="14387" y="10418"/>
                </a:cubicBezTo>
                <a:cubicBezTo>
                  <a:pt x="14344" y="10428"/>
                  <a:pt x="14345" y="10443"/>
                  <a:pt x="14337" y="10492"/>
                </a:cubicBezTo>
                <a:cubicBezTo>
                  <a:pt x="14420" y="10492"/>
                  <a:pt x="14502" y="10492"/>
                  <a:pt x="1458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8080" y="4384800"/>
            <a:ext cx="1581120" cy="544320"/>
          </a:xfrm>
          <a:custGeom>
            <a:avLst/>
            <a:gdLst/>
            <a:ahLst/>
            <a:rect l="l" t="t" r="r" b="b"/>
            <a:pathLst>
              <a:path w="4392" h="1514">
                <a:moveTo>
                  <a:pt x="8855" y="12750"/>
                </a:moveTo>
                <a:cubicBezTo>
                  <a:pt x="8888" y="12739"/>
                  <a:pt x="8885" y="12710"/>
                  <a:pt x="8905" y="12700"/>
                </a:cubicBezTo>
                <a:cubicBezTo>
                  <a:pt x="8949" y="12678"/>
                  <a:pt x="9073" y="12698"/>
                  <a:pt x="9103" y="12725"/>
                </a:cubicBezTo>
                <a:cubicBezTo>
                  <a:pt x="9147" y="12764"/>
                  <a:pt x="9149" y="12739"/>
                  <a:pt x="9153" y="12799"/>
                </a:cubicBezTo>
                <a:cubicBezTo>
                  <a:pt x="9159" y="12880"/>
                  <a:pt x="9142" y="12908"/>
                  <a:pt x="9103" y="12973"/>
                </a:cubicBezTo>
                <a:cubicBezTo>
                  <a:pt x="9067" y="13034"/>
                  <a:pt x="9022" y="13090"/>
                  <a:pt x="8979" y="13146"/>
                </a:cubicBezTo>
                <a:cubicBezTo>
                  <a:pt x="8942" y="13193"/>
                  <a:pt x="8916" y="13247"/>
                  <a:pt x="8880" y="13295"/>
                </a:cubicBezTo>
                <a:cubicBezTo>
                  <a:pt x="8846" y="13340"/>
                  <a:pt x="8845" y="13300"/>
                  <a:pt x="8830" y="13345"/>
                </a:cubicBezTo>
                <a:cubicBezTo>
                  <a:pt x="8839" y="13372"/>
                  <a:pt x="8848" y="13391"/>
                  <a:pt x="8880" y="13395"/>
                </a:cubicBezTo>
                <a:cubicBezTo>
                  <a:pt x="9013" y="13412"/>
                  <a:pt x="9148" y="13398"/>
                  <a:pt x="9277" y="13419"/>
                </a:cubicBezTo>
                <a:cubicBezTo>
                  <a:pt x="9328" y="13427"/>
                  <a:pt x="9384" y="13435"/>
                  <a:pt x="9426" y="13444"/>
                </a:cubicBezTo>
                <a:cubicBezTo>
                  <a:pt x="9473" y="13453"/>
                  <a:pt x="9696" y="13460"/>
                  <a:pt x="9699" y="13419"/>
                </a:cubicBezTo>
                <a:cubicBezTo>
                  <a:pt x="9699" y="13395"/>
                  <a:pt x="9699" y="13386"/>
                  <a:pt x="9699" y="13370"/>
                </a:cubicBezTo>
              </a:path>
              <a:path w="4392" h="1514">
                <a:moveTo>
                  <a:pt x="9773" y="12576"/>
                </a:moveTo>
                <a:cubicBezTo>
                  <a:pt x="9741" y="12632"/>
                  <a:pt x="9726" y="12674"/>
                  <a:pt x="9699" y="12725"/>
                </a:cubicBezTo>
                <a:cubicBezTo>
                  <a:pt x="9653" y="12811"/>
                  <a:pt x="9649" y="12887"/>
                  <a:pt x="9624" y="12973"/>
                </a:cubicBezTo>
                <a:cubicBezTo>
                  <a:pt x="9600" y="13057"/>
                  <a:pt x="9599" y="13130"/>
                  <a:pt x="9599" y="13221"/>
                </a:cubicBezTo>
                <a:cubicBezTo>
                  <a:pt x="9599" y="13312"/>
                  <a:pt x="9635" y="13386"/>
                  <a:pt x="9674" y="13469"/>
                </a:cubicBezTo>
                <a:cubicBezTo>
                  <a:pt x="9702" y="13528"/>
                  <a:pt x="9734" y="13592"/>
                  <a:pt x="9773" y="13643"/>
                </a:cubicBezTo>
                <a:cubicBezTo>
                  <a:pt x="9791" y="13667"/>
                  <a:pt x="9829" y="13690"/>
                  <a:pt x="9847" y="13692"/>
                </a:cubicBezTo>
                <a:cubicBezTo>
                  <a:pt x="9889" y="13697"/>
                  <a:pt x="9889" y="13673"/>
                  <a:pt x="9897" y="13643"/>
                </a:cubicBezTo>
              </a:path>
              <a:path w="4392" h="1514">
                <a:moveTo>
                  <a:pt x="9947" y="12799"/>
                </a:moveTo>
                <a:cubicBezTo>
                  <a:pt x="9978" y="12775"/>
                  <a:pt x="10007" y="12754"/>
                  <a:pt x="10046" y="12750"/>
                </a:cubicBezTo>
                <a:cubicBezTo>
                  <a:pt x="10101" y="12744"/>
                  <a:pt x="10145" y="12743"/>
                  <a:pt x="10195" y="12725"/>
                </a:cubicBezTo>
                <a:cubicBezTo>
                  <a:pt x="10246" y="12707"/>
                  <a:pt x="10296" y="12680"/>
                  <a:pt x="10344" y="12675"/>
                </a:cubicBezTo>
                <a:cubicBezTo>
                  <a:pt x="10368" y="12672"/>
                  <a:pt x="10394" y="12675"/>
                  <a:pt x="10418" y="12675"/>
                </a:cubicBezTo>
                <a:cubicBezTo>
                  <a:pt x="10425" y="12696"/>
                  <a:pt x="10463" y="12714"/>
                  <a:pt x="10443" y="12750"/>
                </a:cubicBezTo>
                <a:cubicBezTo>
                  <a:pt x="10416" y="12798"/>
                  <a:pt x="10439" y="12824"/>
                  <a:pt x="10418" y="12874"/>
                </a:cubicBezTo>
                <a:cubicBezTo>
                  <a:pt x="10401" y="12914"/>
                  <a:pt x="10380" y="12950"/>
                  <a:pt x="10368" y="12998"/>
                </a:cubicBezTo>
                <a:cubicBezTo>
                  <a:pt x="10357" y="13043"/>
                  <a:pt x="10368" y="13232"/>
                  <a:pt x="10368" y="13196"/>
                </a:cubicBezTo>
              </a:path>
              <a:path w="4392" h="1514">
                <a:moveTo>
                  <a:pt x="10567" y="12551"/>
                </a:moveTo>
                <a:cubicBezTo>
                  <a:pt x="10595" y="12547"/>
                  <a:pt x="10662" y="12510"/>
                  <a:pt x="10691" y="12526"/>
                </a:cubicBezTo>
                <a:cubicBezTo>
                  <a:pt x="10728" y="12546"/>
                  <a:pt x="10794" y="12554"/>
                  <a:pt x="10815" y="12601"/>
                </a:cubicBezTo>
                <a:cubicBezTo>
                  <a:pt x="10823" y="12619"/>
                  <a:pt x="10870" y="12662"/>
                  <a:pt x="10864" y="12700"/>
                </a:cubicBezTo>
                <a:cubicBezTo>
                  <a:pt x="10855" y="12754"/>
                  <a:pt x="10786" y="12822"/>
                  <a:pt x="10765" y="12874"/>
                </a:cubicBezTo>
                <a:cubicBezTo>
                  <a:pt x="10744" y="12925"/>
                  <a:pt x="10733" y="12957"/>
                  <a:pt x="10691" y="12998"/>
                </a:cubicBezTo>
                <a:cubicBezTo>
                  <a:pt x="10679" y="13010"/>
                  <a:pt x="10641" y="13077"/>
                  <a:pt x="10666" y="13097"/>
                </a:cubicBezTo>
                <a:cubicBezTo>
                  <a:pt x="10686" y="13113"/>
                  <a:pt x="10815" y="13142"/>
                  <a:pt x="10840" y="13146"/>
                </a:cubicBezTo>
                <a:cubicBezTo>
                  <a:pt x="10915" y="13157"/>
                  <a:pt x="10990" y="13165"/>
                  <a:pt x="11063" y="13171"/>
                </a:cubicBezTo>
                <a:cubicBezTo>
                  <a:pt x="11107" y="13174"/>
                  <a:pt x="11125" y="13181"/>
                  <a:pt x="11137" y="13146"/>
                </a:cubicBezTo>
              </a:path>
              <a:path w="4392" h="1514">
                <a:moveTo>
                  <a:pt x="11013" y="12353"/>
                </a:moveTo>
                <a:cubicBezTo>
                  <a:pt x="11043" y="12353"/>
                  <a:pt x="11094" y="12359"/>
                  <a:pt x="11112" y="12378"/>
                </a:cubicBezTo>
                <a:cubicBezTo>
                  <a:pt x="11132" y="12400"/>
                  <a:pt x="11158" y="12448"/>
                  <a:pt x="11187" y="12477"/>
                </a:cubicBezTo>
                <a:cubicBezTo>
                  <a:pt x="11228" y="12518"/>
                  <a:pt x="11259" y="12575"/>
                  <a:pt x="11286" y="12626"/>
                </a:cubicBezTo>
                <a:cubicBezTo>
                  <a:pt x="11323" y="12695"/>
                  <a:pt x="11313" y="12777"/>
                  <a:pt x="11336" y="12849"/>
                </a:cubicBezTo>
                <a:cubicBezTo>
                  <a:pt x="11361" y="12926"/>
                  <a:pt x="11361" y="12990"/>
                  <a:pt x="11361" y="13072"/>
                </a:cubicBezTo>
                <a:cubicBezTo>
                  <a:pt x="11361" y="13156"/>
                  <a:pt x="11358" y="13287"/>
                  <a:pt x="11336" y="13370"/>
                </a:cubicBezTo>
                <a:cubicBezTo>
                  <a:pt x="11320" y="13431"/>
                  <a:pt x="11280" y="13483"/>
                  <a:pt x="11261" y="13543"/>
                </a:cubicBezTo>
                <a:cubicBezTo>
                  <a:pt x="11249" y="13583"/>
                  <a:pt x="11238" y="13609"/>
                  <a:pt x="11212" y="13643"/>
                </a:cubicBezTo>
              </a:path>
              <a:path w="4392" h="1514">
                <a:moveTo>
                  <a:pt x="11857" y="12328"/>
                </a:moveTo>
                <a:cubicBezTo>
                  <a:pt x="11849" y="12320"/>
                  <a:pt x="11840" y="12311"/>
                  <a:pt x="11832" y="12303"/>
                </a:cubicBezTo>
                <a:cubicBezTo>
                  <a:pt x="11808" y="12335"/>
                  <a:pt x="11802" y="12373"/>
                  <a:pt x="11782" y="12402"/>
                </a:cubicBezTo>
                <a:cubicBezTo>
                  <a:pt x="11753" y="12445"/>
                  <a:pt x="11695" y="12499"/>
                  <a:pt x="11683" y="12551"/>
                </a:cubicBezTo>
                <a:cubicBezTo>
                  <a:pt x="11666" y="12623"/>
                  <a:pt x="11653" y="12703"/>
                  <a:pt x="11633" y="12774"/>
                </a:cubicBezTo>
                <a:cubicBezTo>
                  <a:pt x="11613" y="12845"/>
                  <a:pt x="11609" y="12897"/>
                  <a:pt x="11609" y="12973"/>
                </a:cubicBezTo>
                <a:cubicBezTo>
                  <a:pt x="11609" y="13049"/>
                  <a:pt x="11617" y="13101"/>
                  <a:pt x="11633" y="13171"/>
                </a:cubicBezTo>
                <a:cubicBezTo>
                  <a:pt x="11643" y="13218"/>
                  <a:pt x="11652" y="13260"/>
                  <a:pt x="11683" y="13295"/>
                </a:cubicBezTo>
                <a:cubicBezTo>
                  <a:pt x="11706" y="13320"/>
                  <a:pt x="11744" y="13343"/>
                  <a:pt x="11757" y="13370"/>
                </a:cubicBezTo>
                <a:cubicBezTo>
                  <a:pt x="11775" y="13407"/>
                  <a:pt x="11765" y="13401"/>
                  <a:pt x="11807" y="13370"/>
                </a:cubicBezTo>
              </a:path>
              <a:path w="4392" h="1514">
                <a:moveTo>
                  <a:pt x="11956" y="12427"/>
                </a:moveTo>
                <a:cubicBezTo>
                  <a:pt x="11938" y="12468"/>
                  <a:pt x="11910" y="12511"/>
                  <a:pt x="11906" y="12551"/>
                </a:cubicBezTo>
                <a:cubicBezTo>
                  <a:pt x="11900" y="12603"/>
                  <a:pt x="11921" y="12615"/>
                  <a:pt x="11956" y="12650"/>
                </a:cubicBezTo>
                <a:cubicBezTo>
                  <a:pt x="11990" y="12683"/>
                  <a:pt x="12023" y="12703"/>
                  <a:pt x="12055" y="12725"/>
                </a:cubicBezTo>
                <a:cubicBezTo>
                  <a:pt x="12088" y="12747"/>
                  <a:pt x="12114" y="12770"/>
                  <a:pt x="12154" y="12774"/>
                </a:cubicBezTo>
                <a:cubicBezTo>
                  <a:pt x="12186" y="12777"/>
                  <a:pt x="12231" y="12746"/>
                  <a:pt x="12254" y="12725"/>
                </a:cubicBezTo>
                <a:cubicBezTo>
                  <a:pt x="12302" y="12681"/>
                  <a:pt x="12292" y="12646"/>
                  <a:pt x="12328" y="12601"/>
                </a:cubicBezTo>
                <a:cubicBezTo>
                  <a:pt x="12358" y="12564"/>
                  <a:pt x="12353" y="12549"/>
                  <a:pt x="12353" y="12502"/>
                </a:cubicBezTo>
                <a:cubicBezTo>
                  <a:pt x="12353" y="12477"/>
                  <a:pt x="12353" y="12452"/>
                  <a:pt x="12353" y="12427"/>
                </a:cubicBezTo>
                <a:cubicBezTo>
                  <a:pt x="12304" y="12443"/>
                  <a:pt x="12345" y="12456"/>
                  <a:pt x="12328" y="12502"/>
                </a:cubicBezTo>
                <a:cubicBezTo>
                  <a:pt x="12303" y="12571"/>
                  <a:pt x="12322" y="12632"/>
                  <a:pt x="12303" y="12700"/>
                </a:cubicBezTo>
                <a:cubicBezTo>
                  <a:pt x="12278" y="12792"/>
                  <a:pt x="12283" y="12830"/>
                  <a:pt x="12303" y="12923"/>
                </a:cubicBezTo>
                <a:cubicBezTo>
                  <a:pt x="12312" y="12966"/>
                  <a:pt x="12324" y="13008"/>
                  <a:pt x="12328" y="13047"/>
                </a:cubicBezTo>
                <a:cubicBezTo>
                  <a:pt x="12332" y="13086"/>
                  <a:pt x="12359" y="13135"/>
                  <a:pt x="12378" y="13097"/>
                </a:cubicBezTo>
              </a:path>
              <a:path w="4392" h="1514">
                <a:moveTo>
                  <a:pt x="12750" y="12353"/>
                </a:moveTo>
                <a:cubicBezTo>
                  <a:pt x="12711" y="12363"/>
                  <a:pt x="12687" y="12390"/>
                  <a:pt x="12650" y="12402"/>
                </a:cubicBezTo>
                <a:cubicBezTo>
                  <a:pt x="12612" y="12414"/>
                  <a:pt x="12604" y="12423"/>
                  <a:pt x="12576" y="12427"/>
                </a:cubicBezTo>
                <a:cubicBezTo>
                  <a:pt x="12531" y="12433"/>
                  <a:pt x="12510" y="12470"/>
                  <a:pt x="12477" y="12502"/>
                </a:cubicBezTo>
                <a:cubicBezTo>
                  <a:pt x="12447" y="12531"/>
                  <a:pt x="12436" y="12548"/>
                  <a:pt x="12427" y="12576"/>
                </a:cubicBezTo>
                <a:cubicBezTo>
                  <a:pt x="12446" y="12634"/>
                  <a:pt x="12460" y="12584"/>
                  <a:pt x="12477" y="12576"/>
                </a:cubicBezTo>
                <a:cubicBezTo>
                  <a:pt x="12541" y="12544"/>
                  <a:pt x="12640" y="12586"/>
                  <a:pt x="12700" y="12601"/>
                </a:cubicBezTo>
                <a:cubicBezTo>
                  <a:pt x="12732" y="12609"/>
                  <a:pt x="12783" y="12639"/>
                  <a:pt x="12799" y="12675"/>
                </a:cubicBezTo>
                <a:cubicBezTo>
                  <a:pt x="12814" y="12709"/>
                  <a:pt x="12838" y="12766"/>
                  <a:pt x="12849" y="12799"/>
                </a:cubicBezTo>
                <a:cubicBezTo>
                  <a:pt x="12865" y="12846"/>
                  <a:pt x="12811" y="12888"/>
                  <a:pt x="12799" y="12923"/>
                </a:cubicBezTo>
                <a:cubicBezTo>
                  <a:pt x="12787" y="12959"/>
                  <a:pt x="12764" y="12956"/>
                  <a:pt x="12725" y="12973"/>
                </a:cubicBezTo>
                <a:cubicBezTo>
                  <a:pt x="12664" y="12999"/>
                  <a:pt x="12642" y="12998"/>
                  <a:pt x="12576" y="12998"/>
                </a:cubicBezTo>
                <a:cubicBezTo>
                  <a:pt x="12533" y="12998"/>
                  <a:pt x="12516" y="12993"/>
                  <a:pt x="12502" y="12948"/>
                </a:cubicBezTo>
                <a:cubicBezTo>
                  <a:pt x="12502" y="12940"/>
                  <a:pt x="12502" y="12931"/>
                  <a:pt x="12502" y="12923"/>
                </a:cubicBezTo>
              </a:path>
              <a:path w="4392" h="1514">
                <a:moveTo>
                  <a:pt x="12948" y="12204"/>
                </a:moveTo>
                <a:cubicBezTo>
                  <a:pt x="13014" y="12185"/>
                  <a:pt x="13026" y="12192"/>
                  <a:pt x="13072" y="12254"/>
                </a:cubicBezTo>
                <a:cubicBezTo>
                  <a:pt x="13120" y="12318"/>
                  <a:pt x="13183" y="12422"/>
                  <a:pt x="13196" y="12502"/>
                </a:cubicBezTo>
                <a:cubicBezTo>
                  <a:pt x="13211" y="12592"/>
                  <a:pt x="13238" y="12706"/>
                  <a:pt x="13221" y="12799"/>
                </a:cubicBezTo>
                <a:cubicBezTo>
                  <a:pt x="13206" y="12881"/>
                  <a:pt x="13151" y="12946"/>
                  <a:pt x="13122" y="13022"/>
                </a:cubicBezTo>
                <a:cubicBezTo>
                  <a:pt x="13086" y="13116"/>
                  <a:pt x="13027" y="13115"/>
                  <a:pt x="12973" y="13196"/>
                </a:cubicBezTo>
                <a:cubicBezTo>
                  <a:pt x="12935" y="13253"/>
                  <a:pt x="12942" y="13271"/>
                  <a:pt x="1287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3759120"/>
            <a:ext cx="1428840" cy="536760"/>
          </a:xfrm>
          <a:custGeom>
            <a:avLst/>
            <a:gdLst/>
            <a:ahLst/>
            <a:rect l="l" t="t" r="r" b="b"/>
            <a:pathLst>
              <a:path w="3970" h="1489">
                <a:moveTo>
                  <a:pt x="14312" y="11633"/>
                </a:moveTo>
                <a:cubicBezTo>
                  <a:pt x="14411" y="11633"/>
                  <a:pt x="14511" y="11633"/>
                  <a:pt x="14610" y="11633"/>
                </a:cubicBezTo>
              </a:path>
              <a:path w="3970" h="1489">
                <a:moveTo>
                  <a:pt x="14362" y="11807"/>
                </a:moveTo>
                <a:cubicBezTo>
                  <a:pt x="14438" y="11828"/>
                  <a:pt x="14511" y="11838"/>
                  <a:pt x="14585" y="11857"/>
                </a:cubicBezTo>
                <a:cubicBezTo>
                  <a:pt x="14644" y="11872"/>
                  <a:pt x="14706" y="11900"/>
                  <a:pt x="14759" y="11906"/>
                </a:cubicBezTo>
                <a:cubicBezTo>
                  <a:pt x="14767" y="11906"/>
                  <a:pt x="14776" y="11906"/>
                  <a:pt x="14784" y="11906"/>
                </a:cubicBezTo>
              </a:path>
              <a:path w="3970" h="1489">
                <a:moveTo>
                  <a:pt x="15875" y="10517"/>
                </a:moveTo>
                <a:cubicBezTo>
                  <a:pt x="15823" y="10504"/>
                  <a:pt x="15796" y="10478"/>
                  <a:pt x="15751" y="10517"/>
                </a:cubicBezTo>
                <a:cubicBezTo>
                  <a:pt x="15707" y="10555"/>
                  <a:pt x="15659" y="10642"/>
                  <a:pt x="15627" y="10691"/>
                </a:cubicBezTo>
                <a:cubicBezTo>
                  <a:pt x="15559" y="10794"/>
                  <a:pt x="15538" y="10896"/>
                  <a:pt x="15503" y="11013"/>
                </a:cubicBezTo>
                <a:cubicBezTo>
                  <a:pt x="15456" y="11169"/>
                  <a:pt x="15537" y="11345"/>
                  <a:pt x="15652" y="11460"/>
                </a:cubicBezTo>
                <a:cubicBezTo>
                  <a:pt x="15694" y="11502"/>
                  <a:pt x="15815" y="11571"/>
                  <a:pt x="15875" y="11584"/>
                </a:cubicBezTo>
                <a:cubicBezTo>
                  <a:pt x="15942" y="11599"/>
                  <a:pt x="16074" y="11601"/>
                  <a:pt x="16123" y="11559"/>
                </a:cubicBezTo>
                <a:cubicBezTo>
                  <a:pt x="16198" y="11494"/>
                  <a:pt x="16250" y="11452"/>
                  <a:pt x="16297" y="11361"/>
                </a:cubicBezTo>
                <a:cubicBezTo>
                  <a:pt x="16330" y="11297"/>
                  <a:pt x="16343" y="11258"/>
                  <a:pt x="16346" y="11187"/>
                </a:cubicBezTo>
                <a:cubicBezTo>
                  <a:pt x="16348" y="11146"/>
                  <a:pt x="16351" y="11078"/>
                  <a:pt x="16297" y="11063"/>
                </a:cubicBezTo>
                <a:cubicBezTo>
                  <a:pt x="16232" y="11044"/>
                  <a:pt x="16168" y="11097"/>
                  <a:pt x="16123" y="11137"/>
                </a:cubicBezTo>
                <a:cubicBezTo>
                  <a:pt x="16041" y="11209"/>
                  <a:pt x="16016" y="11264"/>
                  <a:pt x="15974" y="11361"/>
                </a:cubicBezTo>
                <a:cubicBezTo>
                  <a:pt x="15946" y="11425"/>
                  <a:pt x="15935" y="11456"/>
                  <a:pt x="15974" y="11509"/>
                </a:cubicBezTo>
                <a:cubicBezTo>
                  <a:pt x="16001" y="11546"/>
                  <a:pt x="16038" y="11545"/>
                  <a:pt x="16073" y="11559"/>
                </a:cubicBezTo>
              </a:path>
              <a:path w="3970" h="1489">
                <a:moveTo>
                  <a:pt x="16396" y="10567"/>
                </a:moveTo>
                <a:cubicBezTo>
                  <a:pt x="16456" y="10567"/>
                  <a:pt x="16433" y="10575"/>
                  <a:pt x="16470" y="10517"/>
                </a:cubicBezTo>
                <a:cubicBezTo>
                  <a:pt x="16530" y="10547"/>
                  <a:pt x="16512" y="10567"/>
                  <a:pt x="16594" y="10567"/>
                </a:cubicBezTo>
                <a:cubicBezTo>
                  <a:pt x="16675" y="10567"/>
                  <a:pt x="16679" y="10567"/>
                  <a:pt x="16718" y="10641"/>
                </a:cubicBezTo>
                <a:cubicBezTo>
                  <a:pt x="16735" y="10673"/>
                  <a:pt x="16757" y="10726"/>
                  <a:pt x="16743" y="10765"/>
                </a:cubicBezTo>
                <a:cubicBezTo>
                  <a:pt x="16704" y="10874"/>
                  <a:pt x="16711" y="10791"/>
                  <a:pt x="16644" y="10864"/>
                </a:cubicBezTo>
                <a:cubicBezTo>
                  <a:pt x="16586" y="10926"/>
                  <a:pt x="16573" y="10911"/>
                  <a:pt x="16495" y="10939"/>
                </a:cubicBezTo>
                <a:cubicBezTo>
                  <a:pt x="16444" y="10957"/>
                  <a:pt x="16445" y="10964"/>
                  <a:pt x="16396" y="10964"/>
                </a:cubicBezTo>
                <a:cubicBezTo>
                  <a:pt x="16477" y="10964"/>
                  <a:pt x="16544" y="10976"/>
                  <a:pt x="16619" y="10988"/>
                </a:cubicBezTo>
                <a:cubicBezTo>
                  <a:pt x="16703" y="11002"/>
                  <a:pt x="16765" y="11024"/>
                  <a:pt x="16842" y="11063"/>
                </a:cubicBezTo>
                <a:cubicBezTo>
                  <a:pt x="16896" y="11090"/>
                  <a:pt x="16946" y="11151"/>
                  <a:pt x="16966" y="11212"/>
                </a:cubicBezTo>
                <a:cubicBezTo>
                  <a:pt x="16979" y="11251"/>
                  <a:pt x="16996" y="11325"/>
                  <a:pt x="16966" y="11361"/>
                </a:cubicBezTo>
                <a:cubicBezTo>
                  <a:pt x="16938" y="11394"/>
                  <a:pt x="16908" y="11423"/>
                  <a:pt x="16867" y="11435"/>
                </a:cubicBezTo>
                <a:cubicBezTo>
                  <a:pt x="16819" y="11449"/>
                  <a:pt x="16619" y="11461"/>
                  <a:pt x="16594" y="11410"/>
                </a:cubicBezTo>
                <a:cubicBezTo>
                  <a:pt x="16586" y="11385"/>
                  <a:pt x="16578" y="11361"/>
                  <a:pt x="16570" y="11336"/>
                </a:cubicBezTo>
              </a:path>
              <a:path w="3970" h="1489">
                <a:moveTo>
                  <a:pt x="17363" y="10592"/>
                </a:moveTo>
                <a:cubicBezTo>
                  <a:pt x="17304" y="10609"/>
                  <a:pt x="17238" y="10636"/>
                  <a:pt x="17190" y="10691"/>
                </a:cubicBezTo>
                <a:cubicBezTo>
                  <a:pt x="17112" y="10782"/>
                  <a:pt x="17061" y="10876"/>
                  <a:pt x="17016" y="10988"/>
                </a:cubicBezTo>
                <a:cubicBezTo>
                  <a:pt x="16982" y="11074"/>
                  <a:pt x="16928" y="11243"/>
                  <a:pt x="16966" y="11336"/>
                </a:cubicBezTo>
                <a:cubicBezTo>
                  <a:pt x="16993" y="11402"/>
                  <a:pt x="17075" y="11460"/>
                  <a:pt x="17140" y="11485"/>
                </a:cubicBezTo>
                <a:cubicBezTo>
                  <a:pt x="17225" y="11518"/>
                  <a:pt x="17377" y="11500"/>
                  <a:pt x="17462" y="11460"/>
                </a:cubicBezTo>
                <a:cubicBezTo>
                  <a:pt x="17543" y="11421"/>
                  <a:pt x="17687" y="11323"/>
                  <a:pt x="17735" y="11237"/>
                </a:cubicBezTo>
                <a:cubicBezTo>
                  <a:pt x="17773" y="11169"/>
                  <a:pt x="17806" y="11091"/>
                  <a:pt x="17810" y="11013"/>
                </a:cubicBezTo>
                <a:cubicBezTo>
                  <a:pt x="17814" y="10940"/>
                  <a:pt x="17807" y="10875"/>
                  <a:pt x="17760" y="10815"/>
                </a:cubicBezTo>
                <a:cubicBezTo>
                  <a:pt x="17693" y="10729"/>
                  <a:pt x="17638" y="10735"/>
                  <a:pt x="17562" y="10691"/>
                </a:cubicBezTo>
                <a:cubicBezTo>
                  <a:pt x="17470" y="10638"/>
                  <a:pt x="17442" y="10645"/>
                  <a:pt x="17338" y="10691"/>
                </a:cubicBezTo>
                <a:cubicBezTo>
                  <a:pt x="17330" y="10699"/>
                  <a:pt x="17322" y="10708"/>
                  <a:pt x="17314" y="10716"/>
                </a:cubicBezTo>
              </a:path>
              <a:path w="3970" h="1489">
                <a:moveTo>
                  <a:pt x="18008" y="10492"/>
                </a:moveTo>
                <a:cubicBezTo>
                  <a:pt x="17956" y="10431"/>
                  <a:pt x="17970" y="10443"/>
                  <a:pt x="17884" y="10443"/>
                </a:cubicBezTo>
                <a:cubicBezTo>
                  <a:pt x="17810" y="10443"/>
                  <a:pt x="17768" y="10469"/>
                  <a:pt x="17711" y="10517"/>
                </a:cubicBezTo>
                <a:cubicBezTo>
                  <a:pt x="17630" y="10585"/>
                  <a:pt x="17570" y="10686"/>
                  <a:pt x="17562" y="10790"/>
                </a:cubicBezTo>
                <a:cubicBezTo>
                  <a:pt x="17554" y="10895"/>
                  <a:pt x="17594" y="10928"/>
                  <a:pt x="17686" y="10964"/>
                </a:cubicBezTo>
                <a:cubicBezTo>
                  <a:pt x="17747" y="10987"/>
                  <a:pt x="17902" y="11003"/>
                  <a:pt x="17959" y="10964"/>
                </a:cubicBezTo>
                <a:cubicBezTo>
                  <a:pt x="18023" y="10920"/>
                  <a:pt x="18052" y="10838"/>
                  <a:pt x="18083" y="10765"/>
                </a:cubicBezTo>
                <a:cubicBezTo>
                  <a:pt x="18119" y="10680"/>
                  <a:pt x="18153" y="10647"/>
                  <a:pt x="18157" y="10567"/>
                </a:cubicBezTo>
                <a:cubicBezTo>
                  <a:pt x="18160" y="10507"/>
                  <a:pt x="18156" y="10504"/>
                  <a:pt x="18107" y="10492"/>
                </a:cubicBezTo>
                <a:cubicBezTo>
                  <a:pt x="18087" y="10527"/>
                  <a:pt x="18083" y="10567"/>
                  <a:pt x="18083" y="10641"/>
                </a:cubicBezTo>
                <a:cubicBezTo>
                  <a:pt x="18083" y="10727"/>
                  <a:pt x="18041" y="10800"/>
                  <a:pt x="18058" y="10889"/>
                </a:cubicBezTo>
                <a:cubicBezTo>
                  <a:pt x="18073" y="10969"/>
                  <a:pt x="18088" y="11093"/>
                  <a:pt x="18132" y="11162"/>
                </a:cubicBezTo>
                <a:cubicBezTo>
                  <a:pt x="18162" y="11210"/>
                  <a:pt x="18210" y="11325"/>
                  <a:pt x="18256" y="11361"/>
                </a:cubicBezTo>
                <a:cubicBezTo>
                  <a:pt x="18264" y="11361"/>
                  <a:pt x="18273" y="11361"/>
                  <a:pt x="18281" y="11361"/>
                </a:cubicBezTo>
              </a:path>
              <a:path w="3970" h="1489">
                <a:moveTo>
                  <a:pt x="15503" y="11931"/>
                </a:moveTo>
                <a:cubicBezTo>
                  <a:pt x="15526" y="11917"/>
                  <a:pt x="15533" y="11918"/>
                  <a:pt x="15577" y="11906"/>
                </a:cubicBezTo>
                <a:cubicBezTo>
                  <a:pt x="15628" y="11892"/>
                  <a:pt x="15664" y="11881"/>
                  <a:pt x="15726" y="11881"/>
                </a:cubicBezTo>
                <a:cubicBezTo>
                  <a:pt x="15796" y="11881"/>
                  <a:pt x="15852" y="11857"/>
                  <a:pt x="15925" y="11857"/>
                </a:cubicBezTo>
                <a:cubicBezTo>
                  <a:pt x="16000" y="11857"/>
                  <a:pt x="16055" y="11841"/>
                  <a:pt x="16123" y="11832"/>
                </a:cubicBezTo>
                <a:cubicBezTo>
                  <a:pt x="16235" y="11817"/>
                  <a:pt x="16358" y="11811"/>
                  <a:pt x="16470" y="11807"/>
                </a:cubicBezTo>
                <a:cubicBezTo>
                  <a:pt x="16575" y="11803"/>
                  <a:pt x="16667" y="11786"/>
                  <a:pt x="16768" y="11782"/>
                </a:cubicBezTo>
                <a:cubicBezTo>
                  <a:pt x="16858" y="11778"/>
                  <a:pt x="16978" y="11776"/>
                  <a:pt x="17066" y="11757"/>
                </a:cubicBezTo>
                <a:cubicBezTo>
                  <a:pt x="17144" y="11740"/>
                  <a:pt x="17237" y="11753"/>
                  <a:pt x="17314" y="11733"/>
                </a:cubicBezTo>
                <a:cubicBezTo>
                  <a:pt x="17394" y="11712"/>
                  <a:pt x="17479" y="11687"/>
                  <a:pt x="17562" y="11683"/>
                </a:cubicBezTo>
                <a:cubicBezTo>
                  <a:pt x="17617" y="11681"/>
                  <a:pt x="17669" y="11664"/>
                  <a:pt x="17711" y="11658"/>
                </a:cubicBezTo>
                <a:cubicBezTo>
                  <a:pt x="17758" y="11651"/>
                  <a:pt x="17769" y="11648"/>
                  <a:pt x="17810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70720" y="4276800"/>
            <a:ext cx="847440" cy="376200"/>
          </a:xfrm>
          <a:custGeom>
            <a:avLst/>
            <a:gdLst/>
            <a:ahLst/>
            <a:rect l="l" t="t" r="r" b="b"/>
            <a:pathLst>
              <a:path w="2357" h="1043">
                <a:moveTo>
                  <a:pt x="15974" y="12129"/>
                </a:moveTo>
                <a:cubicBezTo>
                  <a:pt x="15876" y="12102"/>
                  <a:pt x="15924" y="12131"/>
                  <a:pt x="15875" y="12204"/>
                </a:cubicBezTo>
                <a:cubicBezTo>
                  <a:pt x="15829" y="12273"/>
                  <a:pt x="15826" y="12321"/>
                  <a:pt x="15801" y="12402"/>
                </a:cubicBezTo>
                <a:cubicBezTo>
                  <a:pt x="15770" y="12504"/>
                  <a:pt x="15722" y="12641"/>
                  <a:pt x="15751" y="12750"/>
                </a:cubicBezTo>
                <a:cubicBezTo>
                  <a:pt x="15767" y="12811"/>
                  <a:pt x="15848" y="12847"/>
                  <a:pt x="15900" y="12874"/>
                </a:cubicBezTo>
                <a:cubicBezTo>
                  <a:pt x="15981" y="12916"/>
                  <a:pt x="16019" y="12887"/>
                  <a:pt x="16098" y="12874"/>
                </a:cubicBezTo>
                <a:cubicBezTo>
                  <a:pt x="16187" y="12860"/>
                  <a:pt x="16206" y="12838"/>
                  <a:pt x="16272" y="12774"/>
                </a:cubicBezTo>
                <a:cubicBezTo>
                  <a:pt x="16322" y="12725"/>
                  <a:pt x="16326" y="12683"/>
                  <a:pt x="16346" y="12626"/>
                </a:cubicBezTo>
                <a:cubicBezTo>
                  <a:pt x="16366" y="12569"/>
                  <a:pt x="16380" y="12552"/>
                  <a:pt x="16346" y="12502"/>
                </a:cubicBezTo>
                <a:cubicBezTo>
                  <a:pt x="16320" y="12463"/>
                  <a:pt x="16272" y="12431"/>
                  <a:pt x="16222" y="12452"/>
                </a:cubicBezTo>
                <a:cubicBezTo>
                  <a:pt x="16171" y="12473"/>
                  <a:pt x="16145" y="12558"/>
                  <a:pt x="16123" y="12601"/>
                </a:cubicBezTo>
                <a:cubicBezTo>
                  <a:pt x="16094" y="12658"/>
                  <a:pt x="16067" y="12787"/>
                  <a:pt x="16098" y="12849"/>
                </a:cubicBezTo>
                <a:cubicBezTo>
                  <a:pt x="16104" y="12861"/>
                  <a:pt x="16146" y="12950"/>
                  <a:pt x="16173" y="12923"/>
                </a:cubicBezTo>
                <a:cubicBezTo>
                  <a:pt x="16173" y="12915"/>
                  <a:pt x="16173" y="12906"/>
                  <a:pt x="16173" y="12898"/>
                </a:cubicBezTo>
              </a:path>
              <a:path w="2357" h="1043">
                <a:moveTo>
                  <a:pt x="16421" y="12105"/>
                </a:moveTo>
                <a:cubicBezTo>
                  <a:pt x="16429" y="12113"/>
                  <a:pt x="16438" y="12121"/>
                  <a:pt x="16446" y="12129"/>
                </a:cubicBezTo>
                <a:cubicBezTo>
                  <a:pt x="16417" y="12167"/>
                  <a:pt x="16421" y="12180"/>
                  <a:pt x="16421" y="12229"/>
                </a:cubicBezTo>
                <a:cubicBezTo>
                  <a:pt x="16421" y="12262"/>
                  <a:pt x="16448" y="12303"/>
                  <a:pt x="16470" y="12328"/>
                </a:cubicBezTo>
                <a:cubicBezTo>
                  <a:pt x="16500" y="12362"/>
                  <a:pt x="16527" y="12353"/>
                  <a:pt x="16570" y="12353"/>
                </a:cubicBezTo>
                <a:cubicBezTo>
                  <a:pt x="16637" y="12353"/>
                  <a:pt x="16665" y="12346"/>
                  <a:pt x="16718" y="12328"/>
                </a:cubicBezTo>
                <a:cubicBezTo>
                  <a:pt x="16745" y="12319"/>
                  <a:pt x="16802" y="12308"/>
                  <a:pt x="16818" y="12278"/>
                </a:cubicBezTo>
                <a:cubicBezTo>
                  <a:pt x="16834" y="12247"/>
                  <a:pt x="16842" y="12218"/>
                  <a:pt x="16842" y="12179"/>
                </a:cubicBezTo>
                <a:cubicBezTo>
                  <a:pt x="16803" y="12193"/>
                  <a:pt x="16818" y="12229"/>
                  <a:pt x="16818" y="12278"/>
                </a:cubicBezTo>
                <a:cubicBezTo>
                  <a:pt x="16818" y="12341"/>
                  <a:pt x="16796" y="12368"/>
                  <a:pt x="16793" y="12427"/>
                </a:cubicBezTo>
                <a:cubicBezTo>
                  <a:pt x="16789" y="12494"/>
                  <a:pt x="16814" y="12539"/>
                  <a:pt x="16818" y="12601"/>
                </a:cubicBezTo>
                <a:cubicBezTo>
                  <a:pt x="16822" y="12656"/>
                  <a:pt x="16837" y="12679"/>
                  <a:pt x="16842" y="12725"/>
                </a:cubicBezTo>
                <a:cubicBezTo>
                  <a:pt x="16842" y="12753"/>
                  <a:pt x="16844" y="12764"/>
                  <a:pt x="16867" y="12774"/>
                </a:cubicBezTo>
                <a:cubicBezTo>
                  <a:pt x="16867" y="12731"/>
                  <a:pt x="16866" y="12735"/>
                  <a:pt x="16892" y="12700"/>
                </a:cubicBezTo>
              </a:path>
              <a:path w="2357" h="1043">
                <a:moveTo>
                  <a:pt x="17289" y="12080"/>
                </a:moveTo>
                <a:cubicBezTo>
                  <a:pt x="17272" y="11994"/>
                  <a:pt x="17282" y="11981"/>
                  <a:pt x="17190" y="11981"/>
                </a:cubicBezTo>
                <a:cubicBezTo>
                  <a:pt x="17139" y="11981"/>
                  <a:pt x="17104" y="12008"/>
                  <a:pt x="17066" y="12030"/>
                </a:cubicBezTo>
                <a:cubicBezTo>
                  <a:pt x="17001" y="12068"/>
                  <a:pt x="16972" y="12107"/>
                  <a:pt x="16966" y="12179"/>
                </a:cubicBezTo>
                <a:cubicBezTo>
                  <a:pt x="16959" y="12258"/>
                  <a:pt x="17020" y="12265"/>
                  <a:pt x="17066" y="12303"/>
                </a:cubicBezTo>
                <a:cubicBezTo>
                  <a:pt x="17146" y="12369"/>
                  <a:pt x="17230" y="12441"/>
                  <a:pt x="17314" y="12502"/>
                </a:cubicBezTo>
                <a:cubicBezTo>
                  <a:pt x="17365" y="12539"/>
                  <a:pt x="17416" y="12584"/>
                  <a:pt x="17438" y="12650"/>
                </a:cubicBezTo>
                <a:cubicBezTo>
                  <a:pt x="17448" y="12679"/>
                  <a:pt x="17443" y="12735"/>
                  <a:pt x="17413" y="12750"/>
                </a:cubicBezTo>
                <a:cubicBezTo>
                  <a:pt x="17382" y="12766"/>
                  <a:pt x="17353" y="12774"/>
                  <a:pt x="17314" y="12774"/>
                </a:cubicBezTo>
                <a:cubicBezTo>
                  <a:pt x="17254" y="12774"/>
                  <a:pt x="17188" y="12726"/>
                  <a:pt x="17165" y="12700"/>
                </a:cubicBezTo>
                <a:cubicBezTo>
                  <a:pt x="17118" y="12646"/>
                  <a:pt x="17173" y="12511"/>
                  <a:pt x="17214" y="12452"/>
                </a:cubicBezTo>
                <a:cubicBezTo>
                  <a:pt x="17265" y="12378"/>
                  <a:pt x="17335" y="12347"/>
                  <a:pt x="17388" y="12278"/>
                </a:cubicBezTo>
                <a:cubicBezTo>
                  <a:pt x="17410" y="12250"/>
                  <a:pt x="17444" y="12144"/>
                  <a:pt x="17462" y="12129"/>
                </a:cubicBezTo>
                <a:cubicBezTo>
                  <a:pt x="17465" y="12127"/>
                  <a:pt x="17521" y="12082"/>
                  <a:pt x="17487" y="12055"/>
                </a:cubicBezTo>
                <a:cubicBezTo>
                  <a:pt x="17462" y="12055"/>
                  <a:pt x="17454" y="12055"/>
                  <a:pt x="17438" y="12055"/>
                </a:cubicBezTo>
              </a:path>
              <a:path w="2357" h="1043">
                <a:moveTo>
                  <a:pt x="17760" y="11881"/>
                </a:moveTo>
                <a:cubicBezTo>
                  <a:pt x="17753" y="11901"/>
                  <a:pt x="17739" y="11936"/>
                  <a:pt x="17711" y="11956"/>
                </a:cubicBezTo>
                <a:cubicBezTo>
                  <a:pt x="17643" y="12004"/>
                  <a:pt x="17625" y="12052"/>
                  <a:pt x="17587" y="12129"/>
                </a:cubicBezTo>
                <a:cubicBezTo>
                  <a:pt x="17540" y="12224"/>
                  <a:pt x="17494" y="12344"/>
                  <a:pt x="17512" y="12452"/>
                </a:cubicBezTo>
                <a:cubicBezTo>
                  <a:pt x="17528" y="12550"/>
                  <a:pt x="17566" y="12572"/>
                  <a:pt x="17611" y="12650"/>
                </a:cubicBezTo>
                <a:cubicBezTo>
                  <a:pt x="17658" y="12730"/>
                  <a:pt x="17692" y="12717"/>
                  <a:pt x="17760" y="12750"/>
                </a:cubicBezTo>
                <a:cubicBezTo>
                  <a:pt x="17811" y="12775"/>
                  <a:pt x="17848" y="12774"/>
                  <a:pt x="17909" y="12774"/>
                </a:cubicBezTo>
                <a:cubicBezTo>
                  <a:pt x="17957" y="12774"/>
                  <a:pt x="18007" y="12741"/>
                  <a:pt x="18033" y="12700"/>
                </a:cubicBezTo>
                <a:cubicBezTo>
                  <a:pt x="18080" y="12627"/>
                  <a:pt x="18096" y="12569"/>
                  <a:pt x="18107" y="12477"/>
                </a:cubicBezTo>
                <a:cubicBezTo>
                  <a:pt x="18117" y="12397"/>
                  <a:pt x="18108" y="12304"/>
                  <a:pt x="18083" y="12229"/>
                </a:cubicBezTo>
                <a:cubicBezTo>
                  <a:pt x="18065" y="12174"/>
                  <a:pt x="18016" y="12131"/>
                  <a:pt x="17983" y="12105"/>
                </a:cubicBezTo>
                <a:cubicBezTo>
                  <a:pt x="17928" y="12062"/>
                  <a:pt x="17891" y="12041"/>
                  <a:pt x="17835" y="12005"/>
                </a:cubicBezTo>
                <a:cubicBezTo>
                  <a:pt x="17827" y="11997"/>
                  <a:pt x="17818" y="11989"/>
                  <a:pt x="17810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09960" y="4295880"/>
            <a:ext cx="1990800" cy="152280"/>
          </a:xfrm>
          <a:custGeom>
            <a:avLst/>
            <a:gdLst/>
            <a:ahLst/>
            <a:rect l="l" t="t" r="r" b="b"/>
            <a:pathLst>
              <a:path w="5533" h="423">
                <a:moveTo>
                  <a:pt x="8359" y="12328"/>
                </a:moveTo>
                <a:cubicBezTo>
                  <a:pt x="8403" y="12338"/>
                  <a:pt x="8401" y="12350"/>
                  <a:pt x="8434" y="12353"/>
                </a:cubicBezTo>
                <a:cubicBezTo>
                  <a:pt x="8567" y="12367"/>
                  <a:pt x="8703" y="12346"/>
                  <a:pt x="8830" y="12328"/>
                </a:cubicBezTo>
                <a:cubicBezTo>
                  <a:pt x="8914" y="12316"/>
                  <a:pt x="8994" y="12316"/>
                  <a:pt x="9079" y="12303"/>
                </a:cubicBezTo>
                <a:cubicBezTo>
                  <a:pt x="9166" y="12290"/>
                  <a:pt x="9259" y="12289"/>
                  <a:pt x="9351" y="12278"/>
                </a:cubicBezTo>
                <a:cubicBezTo>
                  <a:pt x="9432" y="12269"/>
                  <a:pt x="9512" y="12256"/>
                  <a:pt x="9599" y="12254"/>
                </a:cubicBezTo>
                <a:cubicBezTo>
                  <a:pt x="9697" y="12252"/>
                  <a:pt x="9777" y="12235"/>
                  <a:pt x="9872" y="12229"/>
                </a:cubicBezTo>
                <a:cubicBezTo>
                  <a:pt x="10299" y="12201"/>
                  <a:pt x="10742" y="12228"/>
                  <a:pt x="11162" y="12204"/>
                </a:cubicBezTo>
                <a:cubicBezTo>
                  <a:pt x="11279" y="12197"/>
                  <a:pt x="11396" y="12187"/>
                  <a:pt x="11509" y="12179"/>
                </a:cubicBezTo>
                <a:cubicBezTo>
                  <a:pt x="11608" y="12172"/>
                  <a:pt x="11715" y="12161"/>
                  <a:pt x="11807" y="12154"/>
                </a:cubicBezTo>
                <a:cubicBezTo>
                  <a:pt x="11881" y="12149"/>
                  <a:pt x="11962" y="12134"/>
                  <a:pt x="12030" y="12129"/>
                </a:cubicBezTo>
                <a:cubicBezTo>
                  <a:pt x="12118" y="12122"/>
                  <a:pt x="12228" y="12110"/>
                  <a:pt x="12303" y="12105"/>
                </a:cubicBezTo>
                <a:cubicBezTo>
                  <a:pt x="12377" y="12100"/>
                  <a:pt x="12458" y="12085"/>
                  <a:pt x="12526" y="12080"/>
                </a:cubicBezTo>
                <a:cubicBezTo>
                  <a:pt x="12615" y="12074"/>
                  <a:pt x="12717" y="12059"/>
                  <a:pt x="12799" y="12055"/>
                </a:cubicBezTo>
                <a:cubicBezTo>
                  <a:pt x="12911" y="12049"/>
                  <a:pt x="13016" y="12037"/>
                  <a:pt x="13122" y="12030"/>
                </a:cubicBezTo>
                <a:cubicBezTo>
                  <a:pt x="13180" y="12026"/>
                  <a:pt x="13243" y="12009"/>
                  <a:pt x="13295" y="12005"/>
                </a:cubicBezTo>
                <a:cubicBezTo>
                  <a:pt x="13363" y="12000"/>
                  <a:pt x="13432" y="11986"/>
                  <a:pt x="13494" y="11981"/>
                </a:cubicBezTo>
                <a:cubicBezTo>
                  <a:pt x="13568" y="11975"/>
                  <a:pt x="13649" y="11962"/>
                  <a:pt x="13717" y="11956"/>
                </a:cubicBezTo>
                <a:cubicBezTo>
                  <a:pt x="13783" y="11951"/>
                  <a:pt x="13835" y="11944"/>
                  <a:pt x="13891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16680" y="4991040"/>
            <a:ext cx="214200" cy="144360"/>
          </a:xfrm>
          <a:custGeom>
            <a:avLst/>
            <a:gdLst/>
            <a:ahLst/>
            <a:rect l="l" t="t" r="r" b="b"/>
            <a:pathLst>
              <a:path w="596" h="398">
                <a:moveTo>
                  <a:pt x="14288" y="13866"/>
                </a:moveTo>
                <a:cubicBezTo>
                  <a:pt x="14325" y="13879"/>
                  <a:pt x="14309" y="13891"/>
                  <a:pt x="14362" y="13891"/>
                </a:cubicBezTo>
                <a:cubicBezTo>
                  <a:pt x="14425" y="13891"/>
                  <a:pt x="14465" y="13866"/>
                  <a:pt x="14536" y="13866"/>
                </a:cubicBezTo>
                <a:cubicBezTo>
                  <a:pt x="14621" y="13866"/>
                  <a:pt x="14742" y="13840"/>
                  <a:pt x="14808" y="13891"/>
                </a:cubicBezTo>
              </a:path>
              <a:path w="596" h="398">
                <a:moveTo>
                  <a:pt x="14213" y="14238"/>
                </a:moveTo>
                <a:cubicBezTo>
                  <a:pt x="14264" y="14251"/>
                  <a:pt x="14242" y="14261"/>
                  <a:pt x="14288" y="14238"/>
                </a:cubicBezTo>
                <a:cubicBezTo>
                  <a:pt x="14305" y="14292"/>
                  <a:pt x="14338" y="14250"/>
                  <a:pt x="14387" y="14238"/>
                </a:cubicBezTo>
                <a:cubicBezTo>
                  <a:pt x="14452" y="14222"/>
                  <a:pt x="14509" y="14246"/>
                  <a:pt x="14560" y="14263"/>
                </a:cubicBezTo>
                <a:cubicBezTo>
                  <a:pt x="14599" y="14276"/>
                  <a:pt x="14667" y="14263"/>
                  <a:pt x="14709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18080" y="4786200"/>
            <a:ext cx="992160" cy="384120"/>
          </a:xfrm>
          <a:custGeom>
            <a:avLst/>
            <a:gdLst/>
            <a:ahLst/>
            <a:rect l="l" t="t" r="r" b="b"/>
            <a:pathLst>
              <a:path w="2755" h="1068">
                <a:moveTo>
                  <a:pt x="15329" y="14337"/>
                </a:moveTo>
                <a:cubicBezTo>
                  <a:pt x="15329" y="14312"/>
                  <a:pt x="15329" y="14304"/>
                  <a:pt x="15329" y="14288"/>
                </a:cubicBezTo>
              </a:path>
              <a:path w="2755" h="1068">
                <a:moveTo>
                  <a:pt x="15949" y="13494"/>
                </a:moveTo>
                <a:cubicBezTo>
                  <a:pt x="15942" y="13425"/>
                  <a:pt x="15944" y="13394"/>
                  <a:pt x="15900" y="13345"/>
                </a:cubicBezTo>
                <a:cubicBezTo>
                  <a:pt x="15876" y="13319"/>
                  <a:pt x="15813" y="13282"/>
                  <a:pt x="15776" y="13295"/>
                </a:cubicBezTo>
                <a:cubicBezTo>
                  <a:pt x="15735" y="13309"/>
                  <a:pt x="15691" y="13346"/>
                  <a:pt x="15652" y="13370"/>
                </a:cubicBezTo>
                <a:cubicBezTo>
                  <a:pt x="15600" y="13402"/>
                  <a:pt x="15517" y="13477"/>
                  <a:pt x="15503" y="13543"/>
                </a:cubicBezTo>
                <a:cubicBezTo>
                  <a:pt x="15487" y="13617"/>
                  <a:pt x="15475" y="13718"/>
                  <a:pt x="15503" y="13791"/>
                </a:cubicBezTo>
                <a:cubicBezTo>
                  <a:pt x="15528" y="13858"/>
                  <a:pt x="15630" y="13863"/>
                  <a:pt x="15677" y="13891"/>
                </a:cubicBezTo>
                <a:cubicBezTo>
                  <a:pt x="15733" y="13924"/>
                  <a:pt x="15762" y="13882"/>
                  <a:pt x="15825" y="13866"/>
                </a:cubicBezTo>
                <a:cubicBezTo>
                  <a:pt x="15869" y="13855"/>
                  <a:pt x="15891" y="13825"/>
                  <a:pt x="15925" y="13791"/>
                </a:cubicBezTo>
                <a:cubicBezTo>
                  <a:pt x="15951" y="13765"/>
                  <a:pt x="15971" y="13703"/>
                  <a:pt x="15974" y="13667"/>
                </a:cubicBezTo>
                <a:cubicBezTo>
                  <a:pt x="15978" y="13612"/>
                  <a:pt x="15983" y="13609"/>
                  <a:pt x="15974" y="13568"/>
                </a:cubicBezTo>
                <a:cubicBezTo>
                  <a:pt x="15974" y="13560"/>
                  <a:pt x="15974" y="13551"/>
                  <a:pt x="15974" y="13543"/>
                </a:cubicBezTo>
                <a:cubicBezTo>
                  <a:pt x="15959" y="13587"/>
                  <a:pt x="15949" y="13643"/>
                  <a:pt x="15949" y="13717"/>
                </a:cubicBezTo>
                <a:cubicBezTo>
                  <a:pt x="15949" y="13821"/>
                  <a:pt x="15961" y="13918"/>
                  <a:pt x="15974" y="14015"/>
                </a:cubicBezTo>
                <a:cubicBezTo>
                  <a:pt x="15982" y="14073"/>
                  <a:pt x="15984" y="14115"/>
                  <a:pt x="15999" y="14163"/>
                </a:cubicBezTo>
                <a:cubicBezTo>
                  <a:pt x="16014" y="14212"/>
                  <a:pt x="16002" y="14268"/>
                  <a:pt x="16024" y="14312"/>
                </a:cubicBezTo>
                <a:cubicBezTo>
                  <a:pt x="16051" y="14365"/>
                  <a:pt x="16049" y="14368"/>
                  <a:pt x="16049" y="14312"/>
                </a:cubicBezTo>
              </a:path>
              <a:path w="2755" h="1068">
                <a:moveTo>
                  <a:pt x="16173" y="13444"/>
                </a:moveTo>
                <a:cubicBezTo>
                  <a:pt x="16205" y="13419"/>
                  <a:pt x="16217" y="13399"/>
                  <a:pt x="16247" y="13395"/>
                </a:cubicBezTo>
                <a:cubicBezTo>
                  <a:pt x="16300" y="13389"/>
                  <a:pt x="16352" y="13379"/>
                  <a:pt x="16396" y="13370"/>
                </a:cubicBezTo>
                <a:cubicBezTo>
                  <a:pt x="16461" y="13357"/>
                  <a:pt x="16497" y="13385"/>
                  <a:pt x="16545" y="13395"/>
                </a:cubicBezTo>
                <a:cubicBezTo>
                  <a:pt x="16611" y="13409"/>
                  <a:pt x="16699" y="13395"/>
                  <a:pt x="16768" y="13395"/>
                </a:cubicBezTo>
                <a:cubicBezTo>
                  <a:pt x="16768" y="13449"/>
                  <a:pt x="16752" y="13477"/>
                  <a:pt x="16743" y="13519"/>
                </a:cubicBezTo>
                <a:cubicBezTo>
                  <a:pt x="16730" y="13578"/>
                  <a:pt x="16726" y="13659"/>
                  <a:pt x="16718" y="13717"/>
                </a:cubicBezTo>
                <a:cubicBezTo>
                  <a:pt x="16703" y="13819"/>
                  <a:pt x="16718" y="13916"/>
                  <a:pt x="16694" y="14015"/>
                </a:cubicBezTo>
                <a:cubicBezTo>
                  <a:pt x="16690" y="14030"/>
                  <a:pt x="16687" y="14224"/>
                  <a:pt x="16718" y="14213"/>
                </a:cubicBezTo>
                <a:cubicBezTo>
                  <a:pt x="16718" y="14205"/>
                  <a:pt x="16718" y="14196"/>
                  <a:pt x="16718" y="14188"/>
                </a:cubicBezTo>
              </a:path>
              <a:path w="2755" h="1068">
                <a:moveTo>
                  <a:pt x="16942" y="13395"/>
                </a:moveTo>
                <a:cubicBezTo>
                  <a:pt x="16951" y="13366"/>
                  <a:pt x="16975" y="13350"/>
                  <a:pt x="17016" y="13345"/>
                </a:cubicBezTo>
                <a:cubicBezTo>
                  <a:pt x="17066" y="13339"/>
                  <a:pt x="17122" y="13355"/>
                  <a:pt x="17165" y="13370"/>
                </a:cubicBezTo>
                <a:cubicBezTo>
                  <a:pt x="17179" y="13375"/>
                  <a:pt x="17283" y="13410"/>
                  <a:pt x="17289" y="13419"/>
                </a:cubicBezTo>
                <a:cubicBezTo>
                  <a:pt x="17311" y="13451"/>
                  <a:pt x="17293" y="13500"/>
                  <a:pt x="17289" y="13519"/>
                </a:cubicBezTo>
                <a:cubicBezTo>
                  <a:pt x="17280" y="13560"/>
                  <a:pt x="17249" y="13613"/>
                  <a:pt x="17214" y="13643"/>
                </a:cubicBezTo>
                <a:cubicBezTo>
                  <a:pt x="17155" y="13694"/>
                  <a:pt x="16938" y="13742"/>
                  <a:pt x="17016" y="13742"/>
                </a:cubicBezTo>
                <a:cubicBezTo>
                  <a:pt x="17028" y="13742"/>
                  <a:pt x="17072" y="13727"/>
                  <a:pt x="17090" y="13717"/>
                </a:cubicBezTo>
                <a:cubicBezTo>
                  <a:pt x="17141" y="13688"/>
                  <a:pt x="17177" y="13692"/>
                  <a:pt x="17239" y="13692"/>
                </a:cubicBezTo>
                <a:cubicBezTo>
                  <a:pt x="17285" y="13692"/>
                  <a:pt x="17329" y="13694"/>
                  <a:pt x="17363" y="13717"/>
                </a:cubicBezTo>
                <a:cubicBezTo>
                  <a:pt x="17406" y="13746"/>
                  <a:pt x="17434" y="13755"/>
                  <a:pt x="17438" y="13816"/>
                </a:cubicBezTo>
                <a:cubicBezTo>
                  <a:pt x="17443" y="13888"/>
                  <a:pt x="17433" y="13931"/>
                  <a:pt x="17413" y="13990"/>
                </a:cubicBezTo>
                <a:cubicBezTo>
                  <a:pt x="17396" y="14041"/>
                  <a:pt x="17376" y="14038"/>
                  <a:pt x="17338" y="14064"/>
                </a:cubicBezTo>
                <a:cubicBezTo>
                  <a:pt x="17298" y="14091"/>
                  <a:pt x="17289" y="14133"/>
                  <a:pt x="17239" y="14139"/>
                </a:cubicBezTo>
                <a:cubicBezTo>
                  <a:pt x="17194" y="14144"/>
                  <a:pt x="17166" y="14183"/>
                  <a:pt x="17115" y="14188"/>
                </a:cubicBezTo>
                <a:cubicBezTo>
                  <a:pt x="17090" y="14188"/>
                  <a:pt x="17082" y="14188"/>
                  <a:pt x="17066" y="14188"/>
                </a:cubicBezTo>
                <a:cubicBezTo>
                  <a:pt x="17066" y="14115"/>
                  <a:pt x="17098" y="14170"/>
                  <a:pt x="17115" y="14114"/>
                </a:cubicBezTo>
                <a:cubicBezTo>
                  <a:pt x="17115" y="14097"/>
                  <a:pt x="17115" y="14081"/>
                  <a:pt x="17115" y="14064"/>
                </a:cubicBezTo>
              </a:path>
              <a:path w="2755" h="1068">
                <a:moveTo>
                  <a:pt x="17686" y="13395"/>
                </a:moveTo>
                <a:cubicBezTo>
                  <a:pt x="17686" y="13350"/>
                  <a:pt x="17676" y="13418"/>
                  <a:pt x="17661" y="13444"/>
                </a:cubicBezTo>
                <a:cubicBezTo>
                  <a:pt x="17629" y="13500"/>
                  <a:pt x="17576" y="13581"/>
                  <a:pt x="17562" y="13643"/>
                </a:cubicBezTo>
                <a:cubicBezTo>
                  <a:pt x="17547" y="13711"/>
                  <a:pt x="17541" y="13798"/>
                  <a:pt x="17537" y="13866"/>
                </a:cubicBezTo>
                <a:cubicBezTo>
                  <a:pt x="17533" y="13941"/>
                  <a:pt x="17562" y="14009"/>
                  <a:pt x="17611" y="14064"/>
                </a:cubicBezTo>
                <a:cubicBezTo>
                  <a:pt x="17639" y="14096"/>
                  <a:pt x="17696" y="14153"/>
                  <a:pt x="17735" y="14163"/>
                </a:cubicBezTo>
                <a:cubicBezTo>
                  <a:pt x="17787" y="14177"/>
                  <a:pt x="17826" y="14188"/>
                  <a:pt x="17884" y="14188"/>
                </a:cubicBezTo>
                <a:cubicBezTo>
                  <a:pt x="17950" y="14188"/>
                  <a:pt x="17956" y="14180"/>
                  <a:pt x="18008" y="14163"/>
                </a:cubicBezTo>
                <a:cubicBezTo>
                  <a:pt x="18050" y="14149"/>
                  <a:pt x="18074" y="14110"/>
                  <a:pt x="18083" y="14089"/>
                </a:cubicBezTo>
                <a:cubicBezTo>
                  <a:pt x="18104" y="14040"/>
                  <a:pt x="18090" y="13926"/>
                  <a:pt x="18058" y="13891"/>
                </a:cubicBezTo>
                <a:cubicBezTo>
                  <a:pt x="18031" y="13861"/>
                  <a:pt x="18026" y="13811"/>
                  <a:pt x="17983" y="13791"/>
                </a:cubicBezTo>
                <a:cubicBezTo>
                  <a:pt x="17971" y="13785"/>
                  <a:pt x="17891" y="13764"/>
                  <a:pt x="17884" y="13767"/>
                </a:cubicBezTo>
                <a:cubicBezTo>
                  <a:pt x="17836" y="13788"/>
                  <a:pt x="17800" y="13826"/>
                  <a:pt x="17760" y="13866"/>
                </a:cubicBezTo>
                <a:cubicBezTo>
                  <a:pt x="17726" y="13900"/>
                  <a:pt x="17678" y="13947"/>
                  <a:pt x="17661" y="13990"/>
                </a:cubicBezTo>
                <a:cubicBezTo>
                  <a:pt x="17647" y="14025"/>
                  <a:pt x="17636" y="14047"/>
                  <a:pt x="17636" y="14089"/>
                </a:cubicBezTo>
                <a:cubicBezTo>
                  <a:pt x="17636" y="14114"/>
                  <a:pt x="17636" y="14122"/>
                  <a:pt x="17636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0120" y="4964040"/>
            <a:ext cx="1598760" cy="1127160"/>
          </a:xfrm>
          <a:custGeom>
            <a:avLst/>
            <a:gdLst/>
            <a:ahLst/>
            <a:rect l="l" t="t" r="r" b="b"/>
            <a:pathLst>
              <a:path w="4441" h="3127">
                <a:moveTo>
                  <a:pt x="4167" y="15577"/>
                </a:moveTo>
                <a:cubicBezTo>
                  <a:pt x="4167" y="15636"/>
                  <a:pt x="4185" y="15673"/>
                  <a:pt x="4192" y="15726"/>
                </a:cubicBezTo>
                <a:cubicBezTo>
                  <a:pt x="4208" y="15845"/>
                  <a:pt x="4262" y="15959"/>
                  <a:pt x="4316" y="16073"/>
                </a:cubicBezTo>
                <a:cubicBezTo>
                  <a:pt x="4365" y="16176"/>
                  <a:pt x="4486" y="16267"/>
                  <a:pt x="4514" y="16371"/>
                </a:cubicBezTo>
                <a:cubicBezTo>
                  <a:pt x="4525" y="16412"/>
                  <a:pt x="4525" y="16434"/>
                  <a:pt x="4539" y="16470"/>
                </a:cubicBezTo>
                <a:cubicBezTo>
                  <a:pt x="4477" y="16424"/>
                  <a:pt x="4451" y="16367"/>
                  <a:pt x="4390" y="16321"/>
                </a:cubicBezTo>
                <a:cubicBezTo>
                  <a:pt x="4324" y="16271"/>
                  <a:pt x="4277" y="16182"/>
                  <a:pt x="4242" y="16098"/>
                </a:cubicBezTo>
                <a:cubicBezTo>
                  <a:pt x="4200" y="15996"/>
                  <a:pt x="4196" y="15860"/>
                  <a:pt x="4192" y="15751"/>
                </a:cubicBezTo>
                <a:cubicBezTo>
                  <a:pt x="4189" y="15647"/>
                  <a:pt x="4186" y="15521"/>
                  <a:pt x="4242" y="15429"/>
                </a:cubicBezTo>
                <a:cubicBezTo>
                  <a:pt x="4280" y="15366"/>
                  <a:pt x="4322" y="15321"/>
                  <a:pt x="4390" y="15304"/>
                </a:cubicBezTo>
                <a:cubicBezTo>
                  <a:pt x="4459" y="15287"/>
                  <a:pt x="4507" y="15358"/>
                  <a:pt x="4539" y="15404"/>
                </a:cubicBezTo>
                <a:cubicBezTo>
                  <a:pt x="4620" y="15522"/>
                  <a:pt x="4665" y="15666"/>
                  <a:pt x="4713" y="15801"/>
                </a:cubicBezTo>
                <a:cubicBezTo>
                  <a:pt x="4736" y="15866"/>
                  <a:pt x="4767" y="15981"/>
                  <a:pt x="4762" y="16049"/>
                </a:cubicBezTo>
                <a:cubicBezTo>
                  <a:pt x="4742" y="16089"/>
                  <a:pt x="4734" y="16096"/>
                  <a:pt x="4738" y="16123"/>
                </a:cubicBezTo>
                <a:cubicBezTo>
                  <a:pt x="4696" y="16095"/>
                  <a:pt x="4644" y="16075"/>
                  <a:pt x="4614" y="16024"/>
                </a:cubicBezTo>
                <a:cubicBezTo>
                  <a:pt x="4553" y="15920"/>
                  <a:pt x="4503" y="15770"/>
                  <a:pt x="4490" y="15652"/>
                </a:cubicBezTo>
                <a:cubicBezTo>
                  <a:pt x="4479" y="15549"/>
                  <a:pt x="4492" y="15428"/>
                  <a:pt x="4514" y="15329"/>
                </a:cubicBezTo>
                <a:cubicBezTo>
                  <a:pt x="4537" y="15224"/>
                  <a:pt x="4624" y="15090"/>
                  <a:pt x="4688" y="15007"/>
                </a:cubicBezTo>
                <a:cubicBezTo>
                  <a:pt x="4738" y="14942"/>
                  <a:pt x="4809" y="14912"/>
                  <a:pt x="4887" y="14908"/>
                </a:cubicBezTo>
                <a:cubicBezTo>
                  <a:pt x="4950" y="14905"/>
                  <a:pt x="5008" y="14916"/>
                  <a:pt x="5060" y="14957"/>
                </a:cubicBezTo>
                <a:cubicBezTo>
                  <a:pt x="5148" y="15026"/>
                  <a:pt x="5189" y="15134"/>
                  <a:pt x="5234" y="15230"/>
                </a:cubicBezTo>
                <a:cubicBezTo>
                  <a:pt x="5290" y="15350"/>
                  <a:pt x="5323" y="15474"/>
                  <a:pt x="5358" y="15602"/>
                </a:cubicBezTo>
                <a:cubicBezTo>
                  <a:pt x="5397" y="15742"/>
                  <a:pt x="5436" y="15874"/>
                  <a:pt x="5432" y="16024"/>
                </a:cubicBezTo>
                <a:cubicBezTo>
                  <a:pt x="5432" y="16049"/>
                  <a:pt x="5432" y="16057"/>
                  <a:pt x="5407" y="16049"/>
                </a:cubicBezTo>
              </a:path>
              <a:path w="4441" h="3127">
                <a:moveTo>
                  <a:pt x="5854" y="14858"/>
                </a:moveTo>
                <a:cubicBezTo>
                  <a:pt x="5840" y="14630"/>
                  <a:pt x="5873" y="14787"/>
                  <a:pt x="5804" y="14684"/>
                </a:cubicBezTo>
                <a:cubicBezTo>
                  <a:pt x="5755" y="14690"/>
                  <a:pt x="5692" y="14693"/>
                  <a:pt x="5655" y="14734"/>
                </a:cubicBezTo>
                <a:cubicBezTo>
                  <a:pt x="5594" y="14800"/>
                  <a:pt x="5531" y="14893"/>
                  <a:pt x="5507" y="14982"/>
                </a:cubicBezTo>
                <a:cubicBezTo>
                  <a:pt x="5472" y="15112"/>
                  <a:pt x="5453" y="15321"/>
                  <a:pt x="5482" y="15453"/>
                </a:cubicBezTo>
                <a:cubicBezTo>
                  <a:pt x="5502" y="15546"/>
                  <a:pt x="5580" y="15732"/>
                  <a:pt x="5680" y="15776"/>
                </a:cubicBezTo>
                <a:cubicBezTo>
                  <a:pt x="5747" y="15806"/>
                  <a:pt x="5861" y="15747"/>
                  <a:pt x="5904" y="15701"/>
                </a:cubicBezTo>
                <a:cubicBezTo>
                  <a:pt x="5971" y="15629"/>
                  <a:pt x="6013" y="15499"/>
                  <a:pt x="6028" y="15404"/>
                </a:cubicBezTo>
                <a:cubicBezTo>
                  <a:pt x="6047" y="15289"/>
                  <a:pt x="6074" y="15106"/>
                  <a:pt x="6052" y="14982"/>
                </a:cubicBezTo>
                <a:cubicBezTo>
                  <a:pt x="6043" y="14934"/>
                  <a:pt x="6032" y="14895"/>
                  <a:pt x="6003" y="14858"/>
                </a:cubicBezTo>
                <a:cubicBezTo>
                  <a:pt x="5978" y="14826"/>
                  <a:pt x="5954" y="14824"/>
                  <a:pt x="5928" y="14808"/>
                </a:cubicBezTo>
                <a:cubicBezTo>
                  <a:pt x="5912" y="14858"/>
                  <a:pt x="5904" y="14868"/>
                  <a:pt x="5904" y="14932"/>
                </a:cubicBezTo>
                <a:cubicBezTo>
                  <a:pt x="5904" y="15023"/>
                  <a:pt x="5967" y="15179"/>
                  <a:pt x="6003" y="15255"/>
                </a:cubicBezTo>
                <a:cubicBezTo>
                  <a:pt x="6059" y="15374"/>
                  <a:pt x="6140" y="15484"/>
                  <a:pt x="6201" y="15602"/>
                </a:cubicBezTo>
                <a:cubicBezTo>
                  <a:pt x="6264" y="15724"/>
                  <a:pt x="6373" y="15819"/>
                  <a:pt x="6424" y="15949"/>
                </a:cubicBezTo>
                <a:cubicBezTo>
                  <a:pt x="6464" y="16052"/>
                  <a:pt x="6545" y="16218"/>
                  <a:pt x="6474" y="16321"/>
                </a:cubicBezTo>
                <a:cubicBezTo>
                  <a:pt x="6425" y="16392"/>
                  <a:pt x="6415" y="16374"/>
                  <a:pt x="6350" y="16371"/>
                </a:cubicBezTo>
                <a:cubicBezTo>
                  <a:pt x="6255" y="16367"/>
                  <a:pt x="6231" y="16329"/>
                  <a:pt x="6152" y="16272"/>
                </a:cubicBezTo>
              </a:path>
              <a:path w="4441" h="3127">
                <a:moveTo>
                  <a:pt x="6077" y="14511"/>
                </a:moveTo>
                <a:cubicBezTo>
                  <a:pt x="6109" y="14583"/>
                  <a:pt x="6152" y="14659"/>
                  <a:pt x="6176" y="14734"/>
                </a:cubicBezTo>
                <a:cubicBezTo>
                  <a:pt x="6215" y="14855"/>
                  <a:pt x="6230" y="14988"/>
                  <a:pt x="6276" y="15106"/>
                </a:cubicBezTo>
                <a:cubicBezTo>
                  <a:pt x="6311" y="15197"/>
                  <a:pt x="6348" y="15347"/>
                  <a:pt x="6400" y="15429"/>
                </a:cubicBezTo>
                <a:cubicBezTo>
                  <a:pt x="6432" y="15480"/>
                  <a:pt x="6424" y="15495"/>
                  <a:pt x="6474" y="15528"/>
                </a:cubicBezTo>
                <a:cubicBezTo>
                  <a:pt x="6458" y="15454"/>
                  <a:pt x="6451" y="15376"/>
                  <a:pt x="6424" y="15304"/>
                </a:cubicBezTo>
                <a:cubicBezTo>
                  <a:pt x="6390" y="15214"/>
                  <a:pt x="6356" y="15124"/>
                  <a:pt x="6325" y="15032"/>
                </a:cubicBezTo>
                <a:cubicBezTo>
                  <a:pt x="6292" y="14933"/>
                  <a:pt x="6300" y="14838"/>
                  <a:pt x="6300" y="14734"/>
                </a:cubicBezTo>
                <a:cubicBezTo>
                  <a:pt x="6300" y="14658"/>
                  <a:pt x="6379" y="14524"/>
                  <a:pt x="6449" y="14486"/>
                </a:cubicBezTo>
                <a:cubicBezTo>
                  <a:pt x="6483" y="14468"/>
                  <a:pt x="6607" y="14445"/>
                  <a:pt x="6648" y="14461"/>
                </a:cubicBezTo>
                <a:cubicBezTo>
                  <a:pt x="6727" y="14492"/>
                  <a:pt x="6768" y="14616"/>
                  <a:pt x="6796" y="14684"/>
                </a:cubicBezTo>
                <a:cubicBezTo>
                  <a:pt x="6859" y="14839"/>
                  <a:pt x="6850" y="14976"/>
                  <a:pt x="6896" y="15131"/>
                </a:cubicBezTo>
                <a:cubicBezTo>
                  <a:pt x="6913" y="15189"/>
                  <a:pt x="6918" y="15256"/>
                  <a:pt x="6945" y="15304"/>
                </a:cubicBezTo>
                <a:cubicBezTo>
                  <a:pt x="6953" y="15312"/>
                  <a:pt x="6962" y="15321"/>
                  <a:pt x="6970" y="15329"/>
                </a:cubicBezTo>
              </a:path>
              <a:path w="4441" h="3127">
                <a:moveTo>
                  <a:pt x="7193" y="14486"/>
                </a:moveTo>
                <a:cubicBezTo>
                  <a:pt x="7187" y="14417"/>
                  <a:pt x="7212" y="14354"/>
                  <a:pt x="7119" y="14337"/>
                </a:cubicBezTo>
                <a:cubicBezTo>
                  <a:pt x="7071" y="14328"/>
                  <a:pt x="7003" y="14349"/>
                  <a:pt x="6970" y="14387"/>
                </a:cubicBezTo>
                <a:cubicBezTo>
                  <a:pt x="6912" y="14454"/>
                  <a:pt x="6879" y="14625"/>
                  <a:pt x="6871" y="14709"/>
                </a:cubicBezTo>
                <a:cubicBezTo>
                  <a:pt x="6857" y="14851"/>
                  <a:pt x="6871" y="14997"/>
                  <a:pt x="6921" y="15131"/>
                </a:cubicBezTo>
                <a:cubicBezTo>
                  <a:pt x="6947" y="15201"/>
                  <a:pt x="7020" y="15264"/>
                  <a:pt x="7094" y="15280"/>
                </a:cubicBezTo>
                <a:cubicBezTo>
                  <a:pt x="7161" y="15295"/>
                  <a:pt x="7214" y="15229"/>
                  <a:pt x="7243" y="15180"/>
                </a:cubicBezTo>
                <a:cubicBezTo>
                  <a:pt x="7291" y="15098"/>
                  <a:pt x="7330" y="14976"/>
                  <a:pt x="7342" y="14883"/>
                </a:cubicBezTo>
                <a:cubicBezTo>
                  <a:pt x="7355" y="14781"/>
                  <a:pt x="7353" y="14632"/>
                  <a:pt x="7317" y="14536"/>
                </a:cubicBezTo>
                <a:cubicBezTo>
                  <a:pt x="7275" y="14424"/>
                  <a:pt x="7289" y="14402"/>
                  <a:pt x="7218" y="14436"/>
                </a:cubicBezTo>
                <a:cubicBezTo>
                  <a:pt x="7235" y="14520"/>
                  <a:pt x="7247" y="14601"/>
                  <a:pt x="7268" y="14684"/>
                </a:cubicBezTo>
                <a:cubicBezTo>
                  <a:pt x="7299" y="14806"/>
                  <a:pt x="7313" y="14930"/>
                  <a:pt x="7392" y="15032"/>
                </a:cubicBezTo>
                <a:cubicBezTo>
                  <a:pt x="7438" y="15092"/>
                  <a:pt x="7484" y="15162"/>
                  <a:pt x="7565" y="15180"/>
                </a:cubicBezTo>
                <a:cubicBezTo>
                  <a:pt x="7624" y="15193"/>
                  <a:pt x="7680" y="15183"/>
                  <a:pt x="7714" y="15131"/>
                </a:cubicBezTo>
                <a:cubicBezTo>
                  <a:pt x="7722" y="15114"/>
                  <a:pt x="7731" y="15098"/>
                  <a:pt x="7739" y="15081"/>
                </a:cubicBezTo>
              </a:path>
              <a:path w="4441" h="3127">
                <a:moveTo>
                  <a:pt x="7739" y="14288"/>
                </a:moveTo>
                <a:cubicBezTo>
                  <a:pt x="7699" y="14268"/>
                  <a:pt x="7692" y="14259"/>
                  <a:pt x="7665" y="14263"/>
                </a:cubicBezTo>
                <a:cubicBezTo>
                  <a:pt x="7645" y="14375"/>
                  <a:pt x="7653" y="14407"/>
                  <a:pt x="7665" y="14511"/>
                </a:cubicBezTo>
                <a:cubicBezTo>
                  <a:pt x="7680" y="14641"/>
                  <a:pt x="7701" y="14719"/>
                  <a:pt x="7764" y="14833"/>
                </a:cubicBezTo>
                <a:cubicBezTo>
                  <a:pt x="7792" y="14885"/>
                  <a:pt x="7845" y="14993"/>
                  <a:pt x="7888" y="15032"/>
                </a:cubicBezTo>
                <a:cubicBezTo>
                  <a:pt x="7919" y="15061"/>
                  <a:pt x="7993" y="15116"/>
                  <a:pt x="8037" y="15106"/>
                </a:cubicBezTo>
                <a:cubicBezTo>
                  <a:pt x="8084" y="15095"/>
                  <a:pt x="8094" y="15058"/>
                  <a:pt x="8136" y="15032"/>
                </a:cubicBezTo>
                <a:cubicBezTo>
                  <a:pt x="8213" y="14983"/>
                  <a:pt x="8229" y="14921"/>
                  <a:pt x="8260" y="14833"/>
                </a:cubicBezTo>
                <a:cubicBezTo>
                  <a:pt x="8307" y="14698"/>
                  <a:pt x="8330" y="14606"/>
                  <a:pt x="8334" y="14461"/>
                </a:cubicBezTo>
                <a:cubicBezTo>
                  <a:pt x="8337" y="14355"/>
                  <a:pt x="8349" y="14254"/>
                  <a:pt x="8285" y="14163"/>
                </a:cubicBezTo>
                <a:cubicBezTo>
                  <a:pt x="8257" y="14123"/>
                  <a:pt x="8251" y="14083"/>
                  <a:pt x="8235" y="14039"/>
                </a:cubicBezTo>
              </a:path>
              <a:path w="4441" h="3127">
                <a:moveTo>
                  <a:pt x="8310" y="13791"/>
                </a:moveTo>
                <a:cubicBezTo>
                  <a:pt x="8383" y="13844"/>
                  <a:pt x="8380" y="13882"/>
                  <a:pt x="8409" y="13965"/>
                </a:cubicBezTo>
                <a:cubicBezTo>
                  <a:pt x="8443" y="14063"/>
                  <a:pt x="8449" y="14162"/>
                  <a:pt x="8483" y="14263"/>
                </a:cubicBezTo>
                <a:cubicBezTo>
                  <a:pt x="8516" y="14361"/>
                  <a:pt x="8525" y="14459"/>
                  <a:pt x="8558" y="14560"/>
                </a:cubicBezTo>
                <a:cubicBezTo>
                  <a:pt x="8587" y="14648"/>
                  <a:pt x="8607" y="14716"/>
                  <a:pt x="8607" y="14808"/>
                </a:cubicBezTo>
              </a:path>
              <a:path w="4441" h="3127">
                <a:moveTo>
                  <a:pt x="7268" y="15850"/>
                </a:moveTo>
                <a:cubicBezTo>
                  <a:pt x="7327" y="15746"/>
                  <a:pt x="7354" y="15718"/>
                  <a:pt x="7441" y="15652"/>
                </a:cubicBezTo>
                <a:cubicBezTo>
                  <a:pt x="7522" y="15591"/>
                  <a:pt x="7585" y="15571"/>
                  <a:pt x="7689" y="15627"/>
                </a:cubicBezTo>
                <a:cubicBezTo>
                  <a:pt x="7753" y="15661"/>
                  <a:pt x="7746" y="15722"/>
                  <a:pt x="7764" y="15776"/>
                </a:cubicBezTo>
                <a:cubicBezTo>
                  <a:pt x="7790" y="15854"/>
                  <a:pt x="7825" y="15963"/>
                  <a:pt x="7813" y="16049"/>
                </a:cubicBezTo>
                <a:cubicBezTo>
                  <a:pt x="7797" y="16160"/>
                  <a:pt x="7770" y="16262"/>
                  <a:pt x="7739" y="16371"/>
                </a:cubicBezTo>
                <a:cubicBezTo>
                  <a:pt x="7708" y="16480"/>
                  <a:pt x="7676" y="16587"/>
                  <a:pt x="7640" y="16694"/>
                </a:cubicBezTo>
                <a:cubicBezTo>
                  <a:pt x="7616" y="16765"/>
                  <a:pt x="7591" y="16836"/>
                  <a:pt x="7541" y="16892"/>
                </a:cubicBezTo>
                <a:cubicBezTo>
                  <a:pt x="7498" y="16940"/>
                  <a:pt x="7508" y="16909"/>
                  <a:pt x="7466" y="16892"/>
                </a:cubicBezTo>
              </a:path>
              <a:path w="4441" h="3127">
                <a:moveTo>
                  <a:pt x="7218" y="15801"/>
                </a:moveTo>
                <a:cubicBezTo>
                  <a:pt x="7148" y="15712"/>
                  <a:pt x="7158" y="15751"/>
                  <a:pt x="7094" y="15701"/>
                </a:cubicBezTo>
                <a:cubicBezTo>
                  <a:pt x="7033" y="15654"/>
                  <a:pt x="7010" y="15655"/>
                  <a:pt x="6921" y="15652"/>
                </a:cubicBezTo>
                <a:cubicBezTo>
                  <a:pt x="6870" y="15650"/>
                  <a:pt x="6837" y="15659"/>
                  <a:pt x="6796" y="15677"/>
                </a:cubicBezTo>
                <a:cubicBezTo>
                  <a:pt x="6750" y="15697"/>
                  <a:pt x="6694" y="15743"/>
                  <a:pt x="6697" y="15801"/>
                </a:cubicBezTo>
                <a:cubicBezTo>
                  <a:pt x="6700" y="15867"/>
                  <a:pt x="6731" y="15958"/>
                  <a:pt x="6747" y="16024"/>
                </a:cubicBezTo>
                <a:cubicBezTo>
                  <a:pt x="6772" y="16128"/>
                  <a:pt x="6838" y="16209"/>
                  <a:pt x="6896" y="16297"/>
                </a:cubicBezTo>
                <a:cubicBezTo>
                  <a:pt x="6950" y="16378"/>
                  <a:pt x="7018" y="16483"/>
                  <a:pt x="7094" y="16545"/>
                </a:cubicBezTo>
                <a:cubicBezTo>
                  <a:pt x="7177" y="16613"/>
                  <a:pt x="7276" y="16687"/>
                  <a:pt x="7367" y="16743"/>
                </a:cubicBezTo>
                <a:cubicBezTo>
                  <a:pt x="7426" y="16780"/>
                  <a:pt x="7483" y="16833"/>
                  <a:pt x="7541" y="16867"/>
                </a:cubicBezTo>
                <a:cubicBezTo>
                  <a:pt x="7549" y="16867"/>
                  <a:pt x="7557" y="16867"/>
                  <a:pt x="7565" y="168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5106960"/>
            <a:ext cx="2357280" cy="839880"/>
          </a:xfrm>
          <a:custGeom>
            <a:avLst/>
            <a:gdLst/>
            <a:ahLst/>
            <a:rect l="l" t="t" r="r" b="b"/>
            <a:pathLst>
              <a:path w="6549" h="2333">
                <a:moveTo>
                  <a:pt x="14288" y="15429"/>
                </a:moveTo>
                <a:cubicBezTo>
                  <a:pt x="14325" y="15400"/>
                  <a:pt x="14339" y="15404"/>
                  <a:pt x="14387" y="15404"/>
                </a:cubicBezTo>
                <a:cubicBezTo>
                  <a:pt x="14441" y="15404"/>
                  <a:pt x="14466" y="15384"/>
                  <a:pt x="14511" y="15379"/>
                </a:cubicBezTo>
                <a:cubicBezTo>
                  <a:pt x="14567" y="15373"/>
                  <a:pt x="14628" y="15379"/>
                  <a:pt x="14684" y="15379"/>
                </a:cubicBezTo>
              </a:path>
              <a:path w="6549" h="2333">
                <a:moveTo>
                  <a:pt x="14288" y="15677"/>
                </a:moveTo>
                <a:cubicBezTo>
                  <a:pt x="14378" y="15677"/>
                  <a:pt x="14458" y="15676"/>
                  <a:pt x="14536" y="15701"/>
                </a:cubicBezTo>
                <a:cubicBezTo>
                  <a:pt x="14562" y="15710"/>
                  <a:pt x="14607" y="15701"/>
                  <a:pt x="14635" y="15701"/>
                </a:cubicBezTo>
              </a:path>
              <a:path w="6549" h="2333">
                <a:moveTo>
                  <a:pt x="15354" y="15180"/>
                </a:moveTo>
                <a:cubicBezTo>
                  <a:pt x="15330" y="15168"/>
                  <a:pt x="15354" y="15119"/>
                  <a:pt x="15354" y="15156"/>
                </a:cubicBezTo>
                <a:cubicBezTo>
                  <a:pt x="15354" y="15180"/>
                  <a:pt x="15354" y="15188"/>
                  <a:pt x="15329" y="15180"/>
                </a:cubicBezTo>
                <a:cubicBezTo>
                  <a:pt x="15275" y="15154"/>
                  <a:pt x="15375" y="15143"/>
                  <a:pt x="15329" y="15106"/>
                </a:cubicBezTo>
                <a:cubicBezTo>
                  <a:pt x="15306" y="15088"/>
                  <a:pt x="15301" y="15042"/>
                  <a:pt x="15255" y="15032"/>
                </a:cubicBezTo>
                <a:cubicBezTo>
                  <a:pt x="15192" y="15019"/>
                  <a:pt x="15155" y="15040"/>
                  <a:pt x="15106" y="15056"/>
                </a:cubicBezTo>
                <a:cubicBezTo>
                  <a:pt x="15079" y="15065"/>
                  <a:pt x="15049" y="15118"/>
                  <a:pt x="15032" y="15156"/>
                </a:cubicBezTo>
                <a:cubicBezTo>
                  <a:pt x="14995" y="15239"/>
                  <a:pt x="14927" y="15312"/>
                  <a:pt x="14908" y="15404"/>
                </a:cubicBezTo>
                <a:cubicBezTo>
                  <a:pt x="14892" y="15479"/>
                  <a:pt x="14899" y="15590"/>
                  <a:pt x="14932" y="15652"/>
                </a:cubicBezTo>
                <a:cubicBezTo>
                  <a:pt x="14966" y="15715"/>
                  <a:pt x="14993" y="15742"/>
                  <a:pt x="15056" y="15776"/>
                </a:cubicBezTo>
                <a:cubicBezTo>
                  <a:pt x="15124" y="15812"/>
                  <a:pt x="15180" y="15825"/>
                  <a:pt x="15255" y="15825"/>
                </a:cubicBezTo>
                <a:cubicBezTo>
                  <a:pt x="15280" y="15825"/>
                  <a:pt x="15368" y="15792"/>
                  <a:pt x="15379" y="15776"/>
                </a:cubicBezTo>
                <a:cubicBezTo>
                  <a:pt x="15396" y="15751"/>
                  <a:pt x="15394" y="15756"/>
                  <a:pt x="15404" y="15726"/>
                </a:cubicBezTo>
              </a:path>
              <a:path w="6549" h="2333">
                <a:moveTo>
                  <a:pt x="15528" y="15131"/>
                </a:moveTo>
                <a:cubicBezTo>
                  <a:pt x="15486" y="15172"/>
                  <a:pt x="15442" y="15220"/>
                  <a:pt x="15429" y="15280"/>
                </a:cubicBezTo>
                <a:cubicBezTo>
                  <a:pt x="15411" y="15362"/>
                  <a:pt x="15370" y="15443"/>
                  <a:pt x="15354" y="15528"/>
                </a:cubicBezTo>
                <a:cubicBezTo>
                  <a:pt x="15342" y="15595"/>
                  <a:pt x="15343" y="15692"/>
                  <a:pt x="15379" y="15751"/>
                </a:cubicBezTo>
                <a:cubicBezTo>
                  <a:pt x="15400" y="15785"/>
                  <a:pt x="15489" y="15837"/>
                  <a:pt x="15528" y="15850"/>
                </a:cubicBezTo>
                <a:cubicBezTo>
                  <a:pt x="15588" y="15870"/>
                  <a:pt x="15679" y="15812"/>
                  <a:pt x="15726" y="15776"/>
                </a:cubicBezTo>
                <a:cubicBezTo>
                  <a:pt x="15779" y="15736"/>
                  <a:pt x="15810" y="15654"/>
                  <a:pt x="15850" y="15602"/>
                </a:cubicBezTo>
                <a:cubicBezTo>
                  <a:pt x="15873" y="15572"/>
                  <a:pt x="15893" y="15496"/>
                  <a:pt x="15875" y="15453"/>
                </a:cubicBezTo>
                <a:cubicBezTo>
                  <a:pt x="15862" y="15423"/>
                  <a:pt x="15832" y="15374"/>
                  <a:pt x="15801" y="15354"/>
                </a:cubicBezTo>
                <a:cubicBezTo>
                  <a:pt x="15762" y="15329"/>
                  <a:pt x="15710" y="15302"/>
                  <a:pt x="15677" y="15280"/>
                </a:cubicBezTo>
                <a:cubicBezTo>
                  <a:pt x="15642" y="15257"/>
                  <a:pt x="15641" y="15240"/>
                  <a:pt x="15602" y="15230"/>
                </a:cubicBezTo>
              </a:path>
              <a:path w="6549" h="2333">
                <a:moveTo>
                  <a:pt x="16073" y="15180"/>
                </a:moveTo>
                <a:cubicBezTo>
                  <a:pt x="16040" y="15180"/>
                  <a:pt x="15996" y="15146"/>
                  <a:pt x="15974" y="15156"/>
                </a:cubicBezTo>
                <a:cubicBezTo>
                  <a:pt x="15940" y="15170"/>
                  <a:pt x="15880" y="15163"/>
                  <a:pt x="15850" y="15180"/>
                </a:cubicBezTo>
                <a:cubicBezTo>
                  <a:pt x="15825" y="15194"/>
                  <a:pt x="15767" y="15250"/>
                  <a:pt x="15776" y="15280"/>
                </a:cubicBezTo>
                <a:cubicBezTo>
                  <a:pt x="15797" y="15354"/>
                  <a:pt x="15841" y="15350"/>
                  <a:pt x="15900" y="15379"/>
                </a:cubicBezTo>
                <a:cubicBezTo>
                  <a:pt x="16000" y="15428"/>
                  <a:pt x="16061" y="15469"/>
                  <a:pt x="16148" y="15528"/>
                </a:cubicBezTo>
                <a:cubicBezTo>
                  <a:pt x="16228" y="15582"/>
                  <a:pt x="16210" y="15577"/>
                  <a:pt x="16247" y="15652"/>
                </a:cubicBezTo>
                <a:cubicBezTo>
                  <a:pt x="16277" y="15713"/>
                  <a:pt x="16266" y="15712"/>
                  <a:pt x="16247" y="15776"/>
                </a:cubicBezTo>
                <a:cubicBezTo>
                  <a:pt x="16220" y="15867"/>
                  <a:pt x="16217" y="15840"/>
                  <a:pt x="16148" y="15875"/>
                </a:cubicBezTo>
                <a:cubicBezTo>
                  <a:pt x="16115" y="15892"/>
                  <a:pt x="16070" y="15923"/>
                  <a:pt x="16024" y="15900"/>
                </a:cubicBezTo>
                <a:cubicBezTo>
                  <a:pt x="15976" y="15876"/>
                  <a:pt x="15966" y="15818"/>
                  <a:pt x="15949" y="15776"/>
                </a:cubicBezTo>
              </a:path>
              <a:path w="6549" h="2333">
                <a:moveTo>
                  <a:pt x="16148" y="15056"/>
                </a:moveTo>
                <a:cubicBezTo>
                  <a:pt x="16209" y="15056"/>
                  <a:pt x="16239" y="15046"/>
                  <a:pt x="16297" y="15032"/>
                </a:cubicBezTo>
                <a:cubicBezTo>
                  <a:pt x="16325" y="15032"/>
                  <a:pt x="16335" y="15029"/>
                  <a:pt x="16346" y="15007"/>
                </a:cubicBezTo>
              </a:path>
              <a:path w="6549" h="2333">
                <a:moveTo>
                  <a:pt x="16520" y="14883"/>
                </a:moveTo>
                <a:cubicBezTo>
                  <a:pt x="16532" y="14957"/>
                  <a:pt x="16509" y="15040"/>
                  <a:pt x="16545" y="15106"/>
                </a:cubicBezTo>
                <a:cubicBezTo>
                  <a:pt x="16553" y="15114"/>
                  <a:pt x="16562" y="15123"/>
                  <a:pt x="16570" y="15131"/>
                </a:cubicBezTo>
              </a:path>
              <a:path w="6549" h="2333">
                <a:moveTo>
                  <a:pt x="16818" y="15255"/>
                </a:moveTo>
                <a:cubicBezTo>
                  <a:pt x="16902" y="15279"/>
                  <a:pt x="17014" y="15277"/>
                  <a:pt x="17090" y="15304"/>
                </a:cubicBezTo>
                <a:cubicBezTo>
                  <a:pt x="17140" y="15322"/>
                  <a:pt x="17205" y="15348"/>
                  <a:pt x="17264" y="15354"/>
                </a:cubicBezTo>
                <a:cubicBezTo>
                  <a:pt x="17288" y="15356"/>
                  <a:pt x="17314" y="15354"/>
                  <a:pt x="17338" y="15354"/>
                </a:cubicBezTo>
              </a:path>
              <a:path w="6549" h="2333">
                <a:moveTo>
                  <a:pt x="16842" y="15553"/>
                </a:moveTo>
                <a:cubicBezTo>
                  <a:pt x="16885" y="15584"/>
                  <a:pt x="16911" y="15599"/>
                  <a:pt x="16966" y="15602"/>
                </a:cubicBezTo>
                <a:cubicBezTo>
                  <a:pt x="17040" y="15606"/>
                  <a:pt x="17116" y="15602"/>
                  <a:pt x="17190" y="15602"/>
                </a:cubicBezTo>
              </a:path>
              <a:path w="6549" h="2333">
                <a:moveTo>
                  <a:pt x="17959" y="14759"/>
                </a:moveTo>
                <a:cubicBezTo>
                  <a:pt x="18010" y="14777"/>
                  <a:pt x="17968" y="14829"/>
                  <a:pt x="17983" y="14883"/>
                </a:cubicBezTo>
                <a:cubicBezTo>
                  <a:pt x="18003" y="14954"/>
                  <a:pt x="18008" y="15004"/>
                  <a:pt x="18008" y="15081"/>
                </a:cubicBezTo>
                <a:cubicBezTo>
                  <a:pt x="18008" y="15195"/>
                  <a:pt x="18018" y="15294"/>
                  <a:pt x="18033" y="15404"/>
                </a:cubicBezTo>
                <a:cubicBezTo>
                  <a:pt x="18043" y="15479"/>
                  <a:pt x="18047" y="15556"/>
                  <a:pt x="18058" y="15627"/>
                </a:cubicBezTo>
                <a:cubicBezTo>
                  <a:pt x="18068" y="15689"/>
                  <a:pt x="18057" y="15795"/>
                  <a:pt x="18083" y="15850"/>
                </a:cubicBezTo>
                <a:cubicBezTo>
                  <a:pt x="18089" y="15863"/>
                  <a:pt x="18127" y="15946"/>
                  <a:pt x="18132" y="15949"/>
                </a:cubicBezTo>
                <a:cubicBezTo>
                  <a:pt x="18174" y="15976"/>
                  <a:pt x="18157" y="15968"/>
                  <a:pt x="18157" y="15900"/>
                </a:cubicBezTo>
              </a:path>
              <a:path w="6549" h="2333">
                <a:moveTo>
                  <a:pt x="18231" y="14808"/>
                </a:moveTo>
                <a:cubicBezTo>
                  <a:pt x="18238" y="14735"/>
                  <a:pt x="18229" y="14725"/>
                  <a:pt x="18281" y="14709"/>
                </a:cubicBezTo>
                <a:cubicBezTo>
                  <a:pt x="18318" y="14697"/>
                  <a:pt x="18424" y="14725"/>
                  <a:pt x="18455" y="14734"/>
                </a:cubicBezTo>
                <a:cubicBezTo>
                  <a:pt x="18521" y="14754"/>
                  <a:pt x="18596" y="14775"/>
                  <a:pt x="18653" y="14808"/>
                </a:cubicBezTo>
                <a:cubicBezTo>
                  <a:pt x="18715" y="14843"/>
                  <a:pt x="18736" y="14878"/>
                  <a:pt x="18777" y="14932"/>
                </a:cubicBezTo>
                <a:cubicBezTo>
                  <a:pt x="18812" y="14978"/>
                  <a:pt x="18802" y="15022"/>
                  <a:pt x="18802" y="15081"/>
                </a:cubicBezTo>
                <a:cubicBezTo>
                  <a:pt x="18802" y="15149"/>
                  <a:pt x="18792" y="15196"/>
                  <a:pt x="18752" y="15255"/>
                </a:cubicBezTo>
                <a:cubicBezTo>
                  <a:pt x="18712" y="15314"/>
                  <a:pt x="18641" y="15371"/>
                  <a:pt x="18579" y="15404"/>
                </a:cubicBezTo>
                <a:cubicBezTo>
                  <a:pt x="18536" y="15427"/>
                  <a:pt x="18482" y="15434"/>
                  <a:pt x="18430" y="15453"/>
                </a:cubicBezTo>
                <a:cubicBezTo>
                  <a:pt x="18384" y="15470"/>
                  <a:pt x="18439" y="15432"/>
                  <a:pt x="18455" y="15429"/>
                </a:cubicBezTo>
                <a:cubicBezTo>
                  <a:pt x="18495" y="15420"/>
                  <a:pt x="18547" y="15410"/>
                  <a:pt x="18579" y="15404"/>
                </a:cubicBezTo>
                <a:cubicBezTo>
                  <a:pt x="18643" y="15391"/>
                  <a:pt x="18702" y="15410"/>
                  <a:pt x="18752" y="15429"/>
                </a:cubicBezTo>
                <a:cubicBezTo>
                  <a:pt x="18810" y="15450"/>
                  <a:pt x="18859" y="15465"/>
                  <a:pt x="18901" y="15503"/>
                </a:cubicBezTo>
                <a:cubicBezTo>
                  <a:pt x="18928" y="15527"/>
                  <a:pt x="18967" y="15570"/>
                  <a:pt x="18976" y="15602"/>
                </a:cubicBezTo>
                <a:cubicBezTo>
                  <a:pt x="18983" y="15629"/>
                  <a:pt x="19002" y="15678"/>
                  <a:pt x="19000" y="15701"/>
                </a:cubicBezTo>
                <a:cubicBezTo>
                  <a:pt x="18998" y="15723"/>
                  <a:pt x="18986" y="15780"/>
                  <a:pt x="18976" y="15801"/>
                </a:cubicBezTo>
                <a:cubicBezTo>
                  <a:pt x="18963" y="15827"/>
                  <a:pt x="18900" y="15868"/>
                  <a:pt x="18876" y="15875"/>
                </a:cubicBezTo>
                <a:cubicBezTo>
                  <a:pt x="18837" y="15885"/>
                  <a:pt x="18791" y="15894"/>
                  <a:pt x="18752" y="15900"/>
                </a:cubicBezTo>
                <a:cubicBezTo>
                  <a:pt x="18717" y="15905"/>
                  <a:pt x="18678" y="15890"/>
                  <a:pt x="18653" y="15875"/>
                </a:cubicBezTo>
                <a:cubicBezTo>
                  <a:pt x="18628" y="15850"/>
                  <a:pt x="18620" y="15842"/>
                  <a:pt x="18604" y="15825"/>
                </a:cubicBezTo>
              </a:path>
              <a:path w="6549" h="2333">
                <a:moveTo>
                  <a:pt x="19124" y="15726"/>
                </a:moveTo>
                <a:lnTo>
                  <a:pt x="19124" y="15726"/>
                </a:lnTo>
              </a:path>
              <a:path w="6549" h="2333">
                <a:moveTo>
                  <a:pt x="19323" y="14709"/>
                </a:moveTo>
                <a:cubicBezTo>
                  <a:pt x="19333" y="14748"/>
                  <a:pt x="19348" y="14764"/>
                  <a:pt x="19348" y="14808"/>
                </a:cubicBezTo>
                <a:cubicBezTo>
                  <a:pt x="19348" y="14906"/>
                  <a:pt x="19361" y="14991"/>
                  <a:pt x="19372" y="15081"/>
                </a:cubicBezTo>
                <a:cubicBezTo>
                  <a:pt x="19385" y="15187"/>
                  <a:pt x="19386" y="15298"/>
                  <a:pt x="19397" y="15404"/>
                </a:cubicBezTo>
                <a:cubicBezTo>
                  <a:pt x="19405" y="15477"/>
                  <a:pt x="19425" y="15560"/>
                  <a:pt x="19447" y="15627"/>
                </a:cubicBezTo>
                <a:cubicBezTo>
                  <a:pt x="19464" y="15678"/>
                  <a:pt x="19491" y="15722"/>
                  <a:pt x="19496" y="15776"/>
                </a:cubicBezTo>
                <a:cubicBezTo>
                  <a:pt x="19500" y="15814"/>
                  <a:pt x="19538" y="15801"/>
                  <a:pt x="19496" y="15801"/>
                </a:cubicBezTo>
              </a:path>
              <a:path w="6549" h="2333">
                <a:moveTo>
                  <a:pt x="19943" y="14833"/>
                </a:moveTo>
                <a:cubicBezTo>
                  <a:pt x="19923" y="14779"/>
                  <a:pt x="19921" y="14756"/>
                  <a:pt x="19893" y="14734"/>
                </a:cubicBezTo>
                <a:cubicBezTo>
                  <a:pt x="19860" y="14708"/>
                  <a:pt x="19810" y="14702"/>
                  <a:pt x="19769" y="14709"/>
                </a:cubicBezTo>
                <a:cubicBezTo>
                  <a:pt x="19716" y="14718"/>
                  <a:pt x="19665" y="14752"/>
                  <a:pt x="19621" y="14784"/>
                </a:cubicBezTo>
                <a:cubicBezTo>
                  <a:pt x="19583" y="14812"/>
                  <a:pt x="19539" y="14888"/>
                  <a:pt x="19521" y="14932"/>
                </a:cubicBezTo>
                <a:cubicBezTo>
                  <a:pt x="19504" y="14974"/>
                  <a:pt x="19487" y="15032"/>
                  <a:pt x="19496" y="15081"/>
                </a:cubicBezTo>
                <a:cubicBezTo>
                  <a:pt x="19506" y="15132"/>
                  <a:pt x="19537" y="15192"/>
                  <a:pt x="19571" y="15230"/>
                </a:cubicBezTo>
                <a:cubicBezTo>
                  <a:pt x="19605" y="15268"/>
                  <a:pt x="19636" y="15274"/>
                  <a:pt x="19670" y="15304"/>
                </a:cubicBezTo>
                <a:cubicBezTo>
                  <a:pt x="19696" y="15327"/>
                  <a:pt x="19696" y="15322"/>
                  <a:pt x="19745" y="15329"/>
                </a:cubicBezTo>
                <a:cubicBezTo>
                  <a:pt x="19768" y="15306"/>
                  <a:pt x="19785" y="15311"/>
                  <a:pt x="19794" y="15280"/>
                </a:cubicBezTo>
                <a:cubicBezTo>
                  <a:pt x="19804" y="15245"/>
                  <a:pt x="19800" y="15211"/>
                  <a:pt x="19819" y="15180"/>
                </a:cubicBezTo>
                <a:cubicBezTo>
                  <a:pt x="19844" y="15140"/>
                  <a:pt x="19854" y="15101"/>
                  <a:pt x="19869" y="15056"/>
                </a:cubicBezTo>
                <a:cubicBezTo>
                  <a:pt x="19883" y="15015"/>
                  <a:pt x="19891" y="14976"/>
                  <a:pt x="19893" y="14932"/>
                </a:cubicBezTo>
                <a:cubicBezTo>
                  <a:pt x="19896" y="14875"/>
                  <a:pt x="19874" y="14806"/>
                  <a:pt x="19869" y="14784"/>
                </a:cubicBezTo>
                <a:cubicBezTo>
                  <a:pt x="19869" y="14776"/>
                  <a:pt x="19869" y="14767"/>
                  <a:pt x="19869" y="14759"/>
                </a:cubicBezTo>
                <a:cubicBezTo>
                  <a:pt x="19887" y="14789"/>
                  <a:pt x="19890" y="14786"/>
                  <a:pt x="19893" y="14833"/>
                </a:cubicBezTo>
                <a:cubicBezTo>
                  <a:pt x="19902" y="14984"/>
                  <a:pt x="19905" y="15128"/>
                  <a:pt x="19918" y="15280"/>
                </a:cubicBezTo>
                <a:cubicBezTo>
                  <a:pt x="19925" y="15366"/>
                  <a:pt x="19955" y="15447"/>
                  <a:pt x="19968" y="15528"/>
                </a:cubicBezTo>
                <a:cubicBezTo>
                  <a:pt x="19982" y="15614"/>
                  <a:pt x="20027" y="15702"/>
                  <a:pt x="20042" y="15776"/>
                </a:cubicBezTo>
                <a:cubicBezTo>
                  <a:pt x="20055" y="15840"/>
                  <a:pt x="20059" y="15813"/>
                  <a:pt x="20067" y="15875"/>
                </a:cubicBezTo>
              </a:path>
              <a:path w="6549" h="2333">
                <a:moveTo>
                  <a:pt x="17289" y="14461"/>
                </a:moveTo>
                <a:cubicBezTo>
                  <a:pt x="17302" y="14505"/>
                  <a:pt x="17305" y="14502"/>
                  <a:pt x="17314" y="14536"/>
                </a:cubicBezTo>
                <a:cubicBezTo>
                  <a:pt x="17328" y="14586"/>
                  <a:pt x="17330" y="14634"/>
                  <a:pt x="17338" y="14684"/>
                </a:cubicBezTo>
                <a:cubicBezTo>
                  <a:pt x="17349" y="14754"/>
                  <a:pt x="17354" y="14848"/>
                  <a:pt x="17363" y="14932"/>
                </a:cubicBezTo>
                <a:cubicBezTo>
                  <a:pt x="17375" y="15041"/>
                  <a:pt x="17388" y="15141"/>
                  <a:pt x="17388" y="15255"/>
                </a:cubicBezTo>
                <a:cubicBezTo>
                  <a:pt x="17388" y="15367"/>
                  <a:pt x="17405" y="15467"/>
                  <a:pt x="17413" y="15577"/>
                </a:cubicBezTo>
                <a:cubicBezTo>
                  <a:pt x="17421" y="15690"/>
                  <a:pt x="17445" y="15789"/>
                  <a:pt x="17462" y="15900"/>
                </a:cubicBezTo>
                <a:cubicBezTo>
                  <a:pt x="17476" y="15994"/>
                  <a:pt x="17479" y="16086"/>
                  <a:pt x="17512" y="16173"/>
                </a:cubicBezTo>
                <a:cubicBezTo>
                  <a:pt x="17518" y="16190"/>
                  <a:pt x="17551" y="16289"/>
                  <a:pt x="17562" y="16297"/>
                </a:cubicBezTo>
                <a:cubicBezTo>
                  <a:pt x="17565" y="16299"/>
                  <a:pt x="17685" y="16321"/>
                  <a:pt x="17686" y="16321"/>
                </a:cubicBezTo>
                <a:cubicBezTo>
                  <a:pt x="17765" y="16332"/>
                  <a:pt x="17860" y="16340"/>
                  <a:pt x="17934" y="16346"/>
                </a:cubicBezTo>
                <a:cubicBezTo>
                  <a:pt x="18011" y="16352"/>
                  <a:pt x="18082" y="16359"/>
                  <a:pt x="18157" y="16371"/>
                </a:cubicBezTo>
                <a:cubicBezTo>
                  <a:pt x="18257" y="16387"/>
                  <a:pt x="18354" y="16386"/>
                  <a:pt x="18455" y="16396"/>
                </a:cubicBezTo>
                <a:cubicBezTo>
                  <a:pt x="18565" y="16407"/>
                  <a:pt x="18668" y="16426"/>
                  <a:pt x="18777" y="16446"/>
                </a:cubicBezTo>
                <a:cubicBezTo>
                  <a:pt x="18876" y="16464"/>
                  <a:pt x="18977" y="16456"/>
                  <a:pt x="19075" y="16470"/>
                </a:cubicBezTo>
                <a:cubicBezTo>
                  <a:pt x="19200" y="16488"/>
                  <a:pt x="19322" y="16514"/>
                  <a:pt x="19447" y="16520"/>
                </a:cubicBezTo>
                <a:cubicBezTo>
                  <a:pt x="19681" y="16530"/>
                  <a:pt x="19913" y="16513"/>
                  <a:pt x="20141" y="16495"/>
                </a:cubicBezTo>
                <a:cubicBezTo>
                  <a:pt x="20213" y="16489"/>
                  <a:pt x="20271" y="16483"/>
                  <a:pt x="20340" y="16470"/>
                </a:cubicBezTo>
                <a:cubicBezTo>
                  <a:pt x="20390" y="16460"/>
                  <a:pt x="20439" y="16456"/>
                  <a:pt x="20489" y="16446"/>
                </a:cubicBezTo>
                <a:cubicBezTo>
                  <a:pt x="20537" y="16437"/>
                  <a:pt x="20591" y="16426"/>
                  <a:pt x="20638" y="16421"/>
                </a:cubicBezTo>
                <a:cubicBezTo>
                  <a:pt x="20695" y="16415"/>
                  <a:pt x="20769" y="16444"/>
                  <a:pt x="20786" y="16446"/>
                </a:cubicBezTo>
                <a:cubicBezTo>
                  <a:pt x="20811" y="16446"/>
                  <a:pt x="20819" y="16446"/>
                  <a:pt x="20836" y="16446"/>
                </a:cubicBezTo>
                <a:cubicBezTo>
                  <a:pt x="20827" y="16408"/>
                  <a:pt x="20820" y="16382"/>
                  <a:pt x="20811" y="16346"/>
                </a:cubicBezTo>
                <a:cubicBezTo>
                  <a:pt x="20799" y="16298"/>
                  <a:pt x="20771" y="16246"/>
                  <a:pt x="20762" y="16197"/>
                </a:cubicBezTo>
                <a:cubicBezTo>
                  <a:pt x="20749" y="16122"/>
                  <a:pt x="20751" y="16049"/>
                  <a:pt x="20737" y="15974"/>
                </a:cubicBezTo>
                <a:cubicBezTo>
                  <a:pt x="20718" y="15868"/>
                  <a:pt x="20704" y="15759"/>
                  <a:pt x="20687" y="15652"/>
                </a:cubicBezTo>
                <a:cubicBezTo>
                  <a:pt x="20666" y="15520"/>
                  <a:pt x="20674" y="15390"/>
                  <a:pt x="20662" y="15255"/>
                </a:cubicBezTo>
                <a:cubicBezTo>
                  <a:pt x="20652" y="15148"/>
                  <a:pt x="20640" y="15044"/>
                  <a:pt x="20638" y="14932"/>
                </a:cubicBezTo>
                <a:cubicBezTo>
                  <a:pt x="20635" y="14781"/>
                  <a:pt x="20624" y="14629"/>
                  <a:pt x="20613" y="14486"/>
                </a:cubicBezTo>
                <a:cubicBezTo>
                  <a:pt x="20607" y="14413"/>
                  <a:pt x="20601" y="14348"/>
                  <a:pt x="20588" y="14288"/>
                </a:cubicBezTo>
                <a:cubicBezTo>
                  <a:pt x="20579" y="14249"/>
                  <a:pt x="20572" y="14224"/>
                  <a:pt x="20563" y="14188"/>
                </a:cubicBezTo>
                <a:cubicBezTo>
                  <a:pt x="20522" y="14204"/>
                  <a:pt x="20521" y="14199"/>
                  <a:pt x="20489" y="14213"/>
                </a:cubicBezTo>
                <a:cubicBezTo>
                  <a:pt x="20435" y="14237"/>
                  <a:pt x="20368" y="14271"/>
                  <a:pt x="20315" y="14288"/>
                </a:cubicBezTo>
                <a:cubicBezTo>
                  <a:pt x="20233" y="14315"/>
                  <a:pt x="20128" y="14321"/>
                  <a:pt x="20042" y="14337"/>
                </a:cubicBezTo>
                <a:cubicBezTo>
                  <a:pt x="19950" y="14354"/>
                  <a:pt x="19863" y="14349"/>
                  <a:pt x="19769" y="14362"/>
                </a:cubicBezTo>
                <a:cubicBezTo>
                  <a:pt x="19561" y="14391"/>
                  <a:pt x="19362" y="14408"/>
                  <a:pt x="19149" y="14412"/>
                </a:cubicBezTo>
                <a:cubicBezTo>
                  <a:pt x="19021" y="14414"/>
                  <a:pt x="18903" y="14434"/>
                  <a:pt x="18777" y="14436"/>
                </a:cubicBezTo>
                <a:cubicBezTo>
                  <a:pt x="18593" y="14440"/>
                  <a:pt x="18410" y="14450"/>
                  <a:pt x="18231" y="14461"/>
                </a:cubicBezTo>
                <a:cubicBezTo>
                  <a:pt x="18149" y="14466"/>
                  <a:pt x="18058" y="14481"/>
                  <a:pt x="17983" y="14486"/>
                </a:cubicBezTo>
                <a:cubicBezTo>
                  <a:pt x="17917" y="14490"/>
                  <a:pt x="17837" y="14506"/>
                  <a:pt x="17785" y="14511"/>
                </a:cubicBezTo>
                <a:cubicBezTo>
                  <a:pt x="17724" y="14517"/>
                  <a:pt x="17688" y="14521"/>
                  <a:pt x="17636" y="14536"/>
                </a:cubicBezTo>
                <a:cubicBezTo>
                  <a:pt x="17602" y="14545"/>
                  <a:pt x="17605" y="14547"/>
                  <a:pt x="1756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2.  A ship travels 60 miles east and then adjusts 15</a:t>
            </a:r>
            <a:r>
              <a:rPr b="0" lang="en-US" sz="3500" spc="-1" strike="noStrike">
                <a:solidFill>
                  <a:srgbClr val="dfc08d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 northward.  After going 80 miles that way, how far is the ship from its original departure point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7240" y="3027240"/>
            <a:ext cx="446040" cy="54468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11658" y="8657"/>
                </a:moveTo>
                <a:cubicBezTo>
                  <a:pt x="11658" y="8850"/>
                  <a:pt x="11662" y="9039"/>
                  <a:pt x="11683" y="9227"/>
                </a:cubicBezTo>
                <a:cubicBezTo>
                  <a:pt x="11697" y="9350"/>
                  <a:pt x="11694" y="9478"/>
                  <a:pt x="11708" y="9599"/>
                </a:cubicBezTo>
                <a:cubicBezTo>
                  <a:pt x="11716" y="9671"/>
                  <a:pt x="11708" y="9750"/>
                  <a:pt x="11708" y="9823"/>
                </a:cubicBezTo>
                <a:cubicBezTo>
                  <a:pt x="11708" y="9715"/>
                  <a:pt x="11683" y="9576"/>
                  <a:pt x="11733" y="9475"/>
                </a:cubicBezTo>
                <a:cubicBezTo>
                  <a:pt x="11758" y="9424"/>
                  <a:pt x="11759" y="9343"/>
                  <a:pt x="11807" y="9302"/>
                </a:cubicBezTo>
                <a:cubicBezTo>
                  <a:pt x="11844" y="9271"/>
                  <a:pt x="12028" y="9304"/>
                  <a:pt x="12055" y="9327"/>
                </a:cubicBezTo>
                <a:cubicBezTo>
                  <a:pt x="12135" y="9395"/>
                  <a:pt x="12125" y="9456"/>
                  <a:pt x="12129" y="9550"/>
                </a:cubicBezTo>
                <a:cubicBezTo>
                  <a:pt x="12133" y="9646"/>
                  <a:pt x="12030" y="9765"/>
                  <a:pt x="11956" y="9823"/>
                </a:cubicBezTo>
                <a:cubicBezTo>
                  <a:pt x="11907" y="9861"/>
                  <a:pt x="11837" y="9911"/>
                  <a:pt x="11782" y="9922"/>
                </a:cubicBezTo>
                <a:cubicBezTo>
                  <a:pt x="11747" y="9929"/>
                  <a:pt x="11689" y="9916"/>
                  <a:pt x="11683" y="9897"/>
                </a:cubicBezTo>
                <a:cubicBezTo>
                  <a:pt x="11683" y="9839"/>
                  <a:pt x="11667" y="9815"/>
                  <a:pt x="11708" y="9823"/>
                </a:cubicBezTo>
              </a:path>
              <a:path w="1241" h="1514">
                <a:moveTo>
                  <a:pt x="12254" y="8483"/>
                </a:moveTo>
                <a:cubicBezTo>
                  <a:pt x="12345" y="8401"/>
                  <a:pt x="12323" y="8409"/>
                  <a:pt x="12427" y="8409"/>
                </a:cubicBezTo>
                <a:cubicBezTo>
                  <a:pt x="12490" y="8409"/>
                  <a:pt x="12498" y="8512"/>
                  <a:pt x="12477" y="8558"/>
                </a:cubicBezTo>
                <a:cubicBezTo>
                  <a:pt x="12475" y="8562"/>
                  <a:pt x="12382" y="8627"/>
                  <a:pt x="12378" y="8632"/>
                </a:cubicBezTo>
                <a:cubicBezTo>
                  <a:pt x="12343" y="8674"/>
                  <a:pt x="12288" y="8720"/>
                  <a:pt x="12328" y="8731"/>
                </a:cubicBezTo>
                <a:cubicBezTo>
                  <a:pt x="12414" y="8754"/>
                  <a:pt x="12549" y="8732"/>
                  <a:pt x="12626" y="8706"/>
                </a:cubicBezTo>
              </a:path>
              <a:path w="1241" h="1514">
                <a:moveTo>
                  <a:pt x="12551" y="9252"/>
                </a:moveTo>
                <a:cubicBezTo>
                  <a:pt x="12642" y="9252"/>
                  <a:pt x="12733" y="9252"/>
                  <a:pt x="12824" y="9252"/>
                </a:cubicBezTo>
              </a:path>
              <a:path w="1241" h="1514">
                <a:moveTo>
                  <a:pt x="12526" y="9550"/>
                </a:moveTo>
                <a:cubicBezTo>
                  <a:pt x="12596" y="9609"/>
                  <a:pt x="12608" y="9599"/>
                  <a:pt x="12700" y="9599"/>
                </a:cubicBezTo>
                <a:cubicBezTo>
                  <a:pt x="12805" y="9599"/>
                  <a:pt x="12781" y="9594"/>
                  <a:pt x="12849" y="9550"/>
                </a:cubicBezTo>
                <a:cubicBezTo>
                  <a:pt x="12874" y="9550"/>
                  <a:pt x="12882" y="9550"/>
                  <a:pt x="12898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6120" y="3036960"/>
            <a:ext cx="1197000" cy="480960"/>
          </a:xfrm>
          <a:custGeom>
            <a:avLst/>
            <a:gdLst/>
            <a:ahLst/>
            <a:rect l="l" t="t" r="r" b="b"/>
            <a:pathLst>
              <a:path w="3324" h="1340">
                <a:moveTo>
                  <a:pt x="13866" y="8781"/>
                </a:moveTo>
                <a:cubicBezTo>
                  <a:pt x="13844" y="8884"/>
                  <a:pt x="13803" y="8977"/>
                  <a:pt x="13791" y="9079"/>
                </a:cubicBezTo>
                <a:cubicBezTo>
                  <a:pt x="13780" y="9177"/>
                  <a:pt x="13770" y="9279"/>
                  <a:pt x="13767" y="9376"/>
                </a:cubicBezTo>
                <a:cubicBezTo>
                  <a:pt x="13763" y="9479"/>
                  <a:pt x="13798" y="9575"/>
                  <a:pt x="13816" y="9674"/>
                </a:cubicBezTo>
                <a:cubicBezTo>
                  <a:pt x="13829" y="9746"/>
                  <a:pt x="13875" y="9773"/>
                  <a:pt x="13940" y="9773"/>
                </a:cubicBezTo>
                <a:cubicBezTo>
                  <a:pt x="13996" y="9773"/>
                  <a:pt x="14009" y="9736"/>
                  <a:pt x="14039" y="9699"/>
                </a:cubicBezTo>
                <a:cubicBezTo>
                  <a:pt x="14091" y="9635"/>
                  <a:pt x="14089" y="9578"/>
                  <a:pt x="14089" y="9500"/>
                </a:cubicBezTo>
                <a:cubicBezTo>
                  <a:pt x="14089" y="9453"/>
                  <a:pt x="14082" y="9381"/>
                  <a:pt x="14039" y="9376"/>
                </a:cubicBezTo>
                <a:cubicBezTo>
                  <a:pt x="14003" y="9371"/>
                  <a:pt x="13963" y="9368"/>
                  <a:pt x="13940" y="9401"/>
                </a:cubicBezTo>
                <a:cubicBezTo>
                  <a:pt x="13893" y="9469"/>
                  <a:pt x="13891" y="9520"/>
                  <a:pt x="13891" y="9599"/>
                </a:cubicBezTo>
                <a:cubicBezTo>
                  <a:pt x="13891" y="9675"/>
                  <a:pt x="13878" y="9683"/>
                  <a:pt x="13940" y="9699"/>
                </a:cubicBezTo>
              </a:path>
              <a:path w="3324" h="1340">
                <a:moveTo>
                  <a:pt x="14312" y="8930"/>
                </a:moveTo>
                <a:cubicBezTo>
                  <a:pt x="14292" y="9094"/>
                  <a:pt x="14264" y="9285"/>
                  <a:pt x="14288" y="9451"/>
                </a:cubicBezTo>
                <a:cubicBezTo>
                  <a:pt x="14300" y="9529"/>
                  <a:pt x="14312" y="9608"/>
                  <a:pt x="14362" y="9674"/>
                </a:cubicBezTo>
                <a:cubicBezTo>
                  <a:pt x="14382" y="9700"/>
                  <a:pt x="14454" y="9717"/>
                  <a:pt x="14486" y="9699"/>
                </a:cubicBezTo>
                <a:cubicBezTo>
                  <a:pt x="14566" y="9654"/>
                  <a:pt x="14517" y="9613"/>
                  <a:pt x="14536" y="9525"/>
                </a:cubicBezTo>
                <a:cubicBezTo>
                  <a:pt x="14551" y="9455"/>
                  <a:pt x="14536" y="9390"/>
                  <a:pt x="14536" y="9302"/>
                </a:cubicBezTo>
                <a:cubicBezTo>
                  <a:pt x="14536" y="9239"/>
                  <a:pt x="14506" y="9128"/>
                  <a:pt x="14461" y="9079"/>
                </a:cubicBezTo>
                <a:cubicBezTo>
                  <a:pt x="14426" y="9041"/>
                  <a:pt x="14378" y="9031"/>
                  <a:pt x="14337" y="9004"/>
                </a:cubicBezTo>
                <a:cubicBezTo>
                  <a:pt x="14321" y="8993"/>
                  <a:pt x="14234" y="8941"/>
                  <a:pt x="14238" y="8930"/>
                </a:cubicBezTo>
                <a:cubicBezTo>
                  <a:pt x="14246" y="8913"/>
                  <a:pt x="14255" y="8897"/>
                  <a:pt x="14263" y="8880"/>
                </a:cubicBezTo>
              </a:path>
              <a:path w="3324" h="1340">
                <a:moveTo>
                  <a:pt x="14511" y="8558"/>
                </a:moveTo>
                <a:cubicBezTo>
                  <a:pt x="14563" y="8532"/>
                  <a:pt x="14559" y="8508"/>
                  <a:pt x="14635" y="8508"/>
                </a:cubicBezTo>
                <a:cubicBezTo>
                  <a:pt x="14709" y="8508"/>
                  <a:pt x="14711" y="8521"/>
                  <a:pt x="14759" y="8558"/>
                </a:cubicBezTo>
                <a:cubicBezTo>
                  <a:pt x="14812" y="8598"/>
                  <a:pt x="14772" y="8628"/>
                  <a:pt x="14759" y="8657"/>
                </a:cubicBezTo>
                <a:cubicBezTo>
                  <a:pt x="14730" y="8719"/>
                  <a:pt x="14718" y="8715"/>
                  <a:pt x="14709" y="8781"/>
                </a:cubicBezTo>
                <a:cubicBezTo>
                  <a:pt x="14797" y="8781"/>
                  <a:pt x="14771" y="8758"/>
                  <a:pt x="14833" y="8731"/>
                </a:cubicBezTo>
                <a:cubicBezTo>
                  <a:pt x="14876" y="8713"/>
                  <a:pt x="14903" y="8716"/>
                  <a:pt x="14932" y="8706"/>
                </a:cubicBezTo>
              </a:path>
              <a:path w="3324" h="1340">
                <a:moveTo>
                  <a:pt x="15255" y="9079"/>
                </a:moveTo>
                <a:cubicBezTo>
                  <a:pt x="15271" y="9206"/>
                  <a:pt x="15304" y="9346"/>
                  <a:pt x="15304" y="9475"/>
                </a:cubicBezTo>
                <a:cubicBezTo>
                  <a:pt x="15304" y="9531"/>
                  <a:pt x="15289" y="9537"/>
                  <a:pt x="15329" y="9550"/>
                </a:cubicBezTo>
              </a:path>
              <a:path w="3324" h="1340">
                <a:moveTo>
                  <a:pt x="15156" y="9302"/>
                </a:moveTo>
                <a:cubicBezTo>
                  <a:pt x="15313" y="9302"/>
                  <a:pt x="15445" y="9287"/>
                  <a:pt x="15577" y="9252"/>
                </a:cubicBezTo>
                <a:cubicBezTo>
                  <a:pt x="15602" y="9252"/>
                  <a:pt x="15627" y="9252"/>
                  <a:pt x="15652" y="9252"/>
                </a:cubicBezTo>
              </a:path>
              <a:path w="3324" h="1340">
                <a:moveTo>
                  <a:pt x="16297" y="8781"/>
                </a:moveTo>
                <a:cubicBezTo>
                  <a:pt x="16221" y="8781"/>
                  <a:pt x="16140" y="8762"/>
                  <a:pt x="16073" y="8806"/>
                </a:cubicBezTo>
                <a:cubicBezTo>
                  <a:pt x="15984" y="8864"/>
                  <a:pt x="15963" y="8935"/>
                  <a:pt x="15900" y="9004"/>
                </a:cubicBezTo>
                <a:cubicBezTo>
                  <a:pt x="15874" y="9033"/>
                  <a:pt x="15814" y="9097"/>
                  <a:pt x="15875" y="9153"/>
                </a:cubicBezTo>
                <a:cubicBezTo>
                  <a:pt x="15938" y="9211"/>
                  <a:pt x="16014" y="9234"/>
                  <a:pt x="16073" y="9302"/>
                </a:cubicBezTo>
                <a:cubicBezTo>
                  <a:pt x="16095" y="9327"/>
                  <a:pt x="16212" y="9446"/>
                  <a:pt x="16222" y="9475"/>
                </a:cubicBezTo>
                <a:cubicBezTo>
                  <a:pt x="16251" y="9562"/>
                  <a:pt x="16206" y="9576"/>
                  <a:pt x="16173" y="9624"/>
                </a:cubicBezTo>
                <a:cubicBezTo>
                  <a:pt x="16125" y="9695"/>
                  <a:pt x="16087" y="9674"/>
                  <a:pt x="15999" y="9674"/>
                </a:cubicBezTo>
                <a:cubicBezTo>
                  <a:pt x="15991" y="9674"/>
                  <a:pt x="15982" y="9674"/>
                  <a:pt x="15974" y="9674"/>
                </a:cubicBezTo>
                <a:cubicBezTo>
                  <a:pt x="15949" y="9581"/>
                  <a:pt x="15942" y="9535"/>
                  <a:pt x="15974" y="9451"/>
                </a:cubicBezTo>
                <a:cubicBezTo>
                  <a:pt x="16011" y="9353"/>
                  <a:pt x="16042" y="9267"/>
                  <a:pt x="16098" y="9178"/>
                </a:cubicBezTo>
                <a:cubicBezTo>
                  <a:pt x="16159" y="9081"/>
                  <a:pt x="16212" y="9022"/>
                  <a:pt x="16272" y="8930"/>
                </a:cubicBezTo>
                <a:cubicBezTo>
                  <a:pt x="16294" y="8886"/>
                  <a:pt x="16297" y="8875"/>
                  <a:pt x="16321" y="8855"/>
                </a:cubicBezTo>
              </a:path>
              <a:path w="3324" h="1340">
                <a:moveTo>
                  <a:pt x="16421" y="8855"/>
                </a:moveTo>
                <a:cubicBezTo>
                  <a:pt x="16405" y="9003"/>
                  <a:pt x="16386" y="9157"/>
                  <a:pt x="16371" y="9302"/>
                </a:cubicBezTo>
                <a:cubicBezTo>
                  <a:pt x="16362" y="9393"/>
                  <a:pt x="16405" y="9521"/>
                  <a:pt x="16446" y="9599"/>
                </a:cubicBezTo>
                <a:cubicBezTo>
                  <a:pt x="16475" y="9629"/>
                  <a:pt x="16486" y="9644"/>
                  <a:pt x="16495" y="9674"/>
                </a:cubicBezTo>
                <a:cubicBezTo>
                  <a:pt x="16590" y="9674"/>
                  <a:pt x="16551" y="9637"/>
                  <a:pt x="16619" y="9599"/>
                </a:cubicBezTo>
                <a:cubicBezTo>
                  <a:pt x="16660" y="9576"/>
                  <a:pt x="16687" y="9439"/>
                  <a:pt x="16694" y="9376"/>
                </a:cubicBezTo>
                <a:cubicBezTo>
                  <a:pt x="16702" y="9308"/>
                  <a:pt x="16670" y="9217"/>
                  <a:pt x="16644" y="9153"/>
                </a:cubicBezTo>
                <a:cubicBezTo>
                  <a:pt x="16613" y="9076"/>
                  <a:pt x="16553" y="9053"/>
                  <a:pt x="16495" y="9004"/>
                </a:cubicBezTo>
                <a:cubicBezTo>
                  <a:pt x="16425" y="8944"/>
                  <a:pt x="16412" y="8923"/>
                  <a:pt x="16371" y="8855"/>
                </a:cubicBezTo>
              </a:path>
              <a:path w="3324" h="1340">
                <a:moveTo>
                  <a:pt x="16619" y="8483"/>
                </a:moveTo>
                <a:cubicBezTo>
                  <a:pt x="16689" y="8424"/>
                  <a:pt x="16701" y="8434"/>
                  <a:pt x="16793" y="8434"/>
                </a:cubicBezTo>
                <a:cubicBezTo>
                  <a:pt x="16913" y="8434"/>
                  <a:pt x="16941" y="8469"/>
                  <a:pt x="16942" y="8582"/>
                </a:cubicBezTo>
                <a:cubicBezTo>
                  <a:pt x="16942" y="8654"/>
                  <a:pt x="16917" y="8621"/>
                  <a:pt x="16917" y="8706"/>
                </a:cubicBezTo>
                <a:cubicBezTo>
                  <a:pt x="17009" y="8706"/>
                  <a:pt x="17001" y="8700"/>
                  <a:pt x="17066" y="8657"/>
                </a:cubicBezTo>
                <a:cubicBezTo>
                  <a:pt x="17074" y="8657"/>
                  <a:pt x="17082" y="8657"/>
                  <a:pt x="17090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86680" y="3081240"/>
            <a:ext cx="1554120" cy="428760"/>
          </a:xfrm>
          <a:custGeom>
            <a:avLst/>
            <a:gdLst/>
            <a:ahLst/>
            <a:rect l="l" t="t" r="r" b="b"/>
            <a:pathLst>
              <a:path w="4318" h="1191">
                <a:moveTo>
                  <a:pt x="17462" y="9153"/>
                </a:moveTo>
                <a:cubicBezTo>
                  <a:pt x="17622" y="9153"/>
                  <a:pt x="17750" y="9161"/>
                  <a:pt x="17884" y="9103"/>
                </a:cubicBezTo>
                <a:cubicBezTo>
                  <a:pt x="17907" y="9093"/>
                  <a:pt x="17958" y="9103"/>
                  <a:pt x="17983" y="9103"/>
                </a:cubicBezTo>
              </a:path>
              <a:path w="4318" h="1191">
                <a:moveTo>
                  <a:pt x="18281" y="8731"/>
                </a:moveTo>
                <a:cubicBezTo>
                  <a:pt x="18297" y="8705"/>
                  <a:pt x="18316" y="8678"/>
                  <a:pt x="18331" y="8657"/>
                </a:cubicBezTo>
                <a:cubicBezTo>
                  <a:pt x="18356" y="8624"/>
                  <a:pt x="18343" y="8601"/>
                  <a:pt x="18380" y="8582"/>
                </a:cubicBezTo>
                <a:cubicBezTo>
                  <a:pt x="18395" y="8574"/>
                  <a:pt x="18465" y="8557"/>
                  <a:pt x="18479" y="8558"/>
                </a:cubicBezTo>
                <a:cubicBezTo>
                  <a:pt x="18515" y="8562"/>
                  <a:pt x="18559" y="8551"/>
                  <a:pt x="18579" y="8582"/>
                </a:cubicBezTo>
                <a:cubicBezTo>
                  <a:pt x="18598" y="8612"/>
                  <a:pt x="18633" y="8658"/>
                  <a:pt x="18653" y="8706"/>
                </a:cubicBezTo>
                <a:cubicBezTo>
                  <a:pt x="18668" y="8741"/>
                  <a:pt x="18696" y="8816"/>
                  <a:pt x="18703" y="8855"/>
                </a:cubicBezTo>
                <a:cubicBezTo>
                  <a:pt x="18717" y="8938"/>
                  <a:pt x="18687" y="9006"/>
                  <a:pt x="18678" y="9079"/>
                </a:cubicBezTo>
                <a:cubicBezTo>
                  <a:pt x="18665" y="9189"/>
                  <a:pt x="18626" y="9277"/>
                  <a:pt x="18604" y="9376"/>
                </a:cubicBezTo>
                <a:cubicBezTo>
                  <a:pt x="18586" y="9459"/>
                  <a:pt x="18582" y="9524"/>
                  <a:pt x="18529" y="9599"/>
                </a:cubicBezTo>
                <a:cubicBezTo>
                  <a:pt x="18511" y="9625"/>
                  <a:pt x="18456" y="9735"/>
                  <a:pt x="18430" y="9748"/>
                </a:cubicBezTo>
                <a:cubicBezTo>
                  <a:pt x="18347" y="9789"/>
                  <a:pt x="18253" y="9735"/>
                  <a:pt x="18231" y="9699"/>
                </a:cubicBezTo>
                <a:cubicBezTo>
                  <a:pt x="18205" y="9658"/>
                  <a:pt x="18226" y="9597"/>
                  <a:pt x="18256" y="9550"/>
                </a:cubicBezTo>
                <a:cubicBezTo>
                  <a:pt x="18275" y="9520"/>
                  <a:pt x="18369" y="9457"/>
                  <a:pt x="18405" y="9451"/>
                </a:cubicBezTo>
                <a:cubicBezTo>
                  <a:pt x="18462" y="9441"/>
                  <a:pt x="18503" y="9454"/>
                  <a:pt x="18554" y="9475"/>
                </a:cubicBezTo>
                <a:cubicBezTo>
                  <a:pt x="18602" y="9495"/>
                  <a:pt x="18605" y="9506"/>
                  <a:pt x="18628" y="9550"/>
                </a:cubicBezTo>
                <a:cubicBezTo>
                  <a:pt x="18658" y="9607"/>
                  <a:pt x="18650" y="9637"/>
                  <a:pt x="18653" y="9699"/>
                </a:cubicBezTo>
                <a:cubicBezTo>
                  <a:pt x="18653" y="9715"/>
                  <a:pt x="18653" y="9732"/>
                  <a:pt x="18653" y="9748"/>
                </a:cubicBezTo>
              </a:path>
              <a:path w="4318" h="1191">
                <a:moveTo>
                  <a:pt x="19000" y="9103"/>
                </a:moveTo>
                <a:cubicBezTo>
                  <a:pt x="18989" y="9172"/>
                  <a:pt x="18987" y="9172"/>
                  <a:pt x="18976" y="9103"/>
                </a:cubicBezTo>
              </a:path>
              <a:path w="4318" h="1191">
                <a:moveTo>
                  <a:pt x="19447" y="8558"/>
                </a:moveTo>
                <a:cubicBezTo>
                  <a:pt x="19447" y="8712"/>
                  <a:pt x="19409" y="8752"/>
                  <a:pt x="19372" y="8930"/>
                </a:cubicBezTo>
                <a:cubicBezTo>
                  <a:pt x="19351" y="9031"/>
                  <a:pt x="19327" y="9148"/>
                  <a:pt x="19323" y="9252"/>
                </a:cubicBezTo>
                <a:cubicBezTo>
                  <a:pt x="19319" y="9362"/>
                  <a:pt x="19301" y="9497"/>
                  <a:pt x="19348" y="9599"/>
                </a:cubicBezTo>
                <a:cubicBezTo>
                  <a:pt x="19359" y="9622"/>
                  <a:pt x="19430" y="9670"/>
                  <a:pt x="19447" y="9674"/>
                </a:cubicBezTo>
                <a:cubicBezTo>
                  <a:pt x="19455" y="9674"/>
                  <a:pt x="19464" y="9674"/>
                  <a:pt x="19472" y="9674"/>
                </a:cubicBezTo>
                <a:cubicBezTo>
                  <a:pt x="19529" y="9616"/>
                  <a:pt x="19548" y="9561"/>
                  <a:pt x="19596" y="9500"/>
                </a:cubicBezTo>
                <a:cubicBezTo>
                  <a:pt x="19658" y="9420"/>
                  <a:pt x="19670" y="9408"/>
                  <a:pt x="19670" y="9302"/>
                </a:cubicBezTo>
                <a:cubicBezTo>
                  <a:pt x="19670" y="9261"/>
                  <a:pt x="19666" y="9199"/>
                  <a:pt x="19645" y="9178"/>
                </a:cubicBezTo>
                <a:cubicBezTo>
                  <a:pt x="19637" y="9178"/>
                  <a:pt x="19629" y="9178"/>
                  <a:pt x="19621" y="9178"/>
                </a:cubicBezTo>
                <a:cubicBezTo>
                  <a:pt x="19596" y="9190"/>
                  <a:pt x="19541" y="9223"/>
                  <a:pt x="19521" y="9252"/>
                </a:cubicBezTo>
                <a:cubicBezTo>
                  <a:pt x="19477" y="9316"/>
                  <a:pt x="19453" y="9379"/>
                  <a:pt x="19422" y="9451"/>
                </a:cubicBezTo>
                <a:cubicBezTo>
                  <a:pt x="19392" y="9521"/>
                  <a:pt x="19397" y="9516"/>
                  <a:pt x="19397" y="9599"/>
                </a:cubicBezTo>
                <a:cubicBezTo>
                  <a:pt x="19472" y="9599"/>
                  <a:pt x="19484" y="9616"/>
                  <a:pt x="19521" y="9550"/>
                </a:cubicBezTo>
                <a:cubicBezTo>
                  <a:pt x="19529" y="9533"/>
                  <a:pt x="19538" y="9517"/>
                  <a:pt x="19546" y="9500"/>
                </a:cubicBezTo>
              </a:path>
              <a:path w="4318" h="1191">
                <a:moveTo>
                  <a:pt x="20017" y="8706"/>
                </a:moveTo>
                <a:cubicBezTo>
                  <a:pt x="19962" y="8777"/>
                  <a:pt x="19969" y="8844"/>
                  <a:pt x="19943" y="8930"/>
                </a:cubicBezTo>
                <a:cubicBezTo>
                  <a:pt x="19912" y="9035"/>
                  <a:pt x="19897" y="9142"/>
                  <a:pt x="19893" y="9252"/>
                </a:cubicBezTo>
                <a:cubicBezTo>
                  <a:pt x="19889" y="9381"/>
                  <a:pt x="19879" y="9436"/>
                  <a:pt x="19968" y="9525"/>
                </a:cubicBezTo>
                <a:cubicBezTo>
                  <a:pt x="20019" y="9576"/>
                  <a:pt x="20042" y="9531"/>
                  <a:pt x="20092" y="9500"/>
                </a:cubicBezTo>
                <a:cubicBezTo>
                  <a:pt x="20177" y="9448"/>
                  <a:pt x="20206" y="9398"/>
                  <a:pt x="20241" y="9302"/>
                </a:cubicBezTo>
                <a:cubicBezTo>
                  <a:pt x="20280" y="9196"/>
                  <a:pt x="20273" y="9107"/>
                  <a:pt x="20265" y="9004"/>
                </a:cubicBezTo>
                <a:cubicBezTo>
                  <a:pt x="20256" y="8882"/>
                  <a:pt x="20252" y="8830"/>
                  <a:pt x="20166" y="8731"/>
                </a:cubicBezTo>
                <a:cubicBezTo>
                  <a:pt x="20144" y="8705"/>
                  <a:pt x="20094" y="8661"/>
                  <a:pt x="20067" y="8657"/>
                </a:cubicBezTo>
                <a:cubicBezTo>
                  <a:pt x="20001" y="8648"/>
                  <a:pt x="19982" y="8673"/>
                  <a:pt x="19968" y="8706"/>
                </a:cubicBezTo>
                <a:cubicBezTo>
                  <a:pt x="19968" y="8714"/>
                  <a:pt x="19968" y="8723"/>
                  <a:pt x="19968" y="8731"/>
                </a:cubicBezTo>
              </a:path>
              <a:path w="4318" h="1191">
                <a:moveTo>
                  <a:pt x="20513" y="9079"/>
                </a:moveTo>
                <a:cubicBezTo>
                  <a:pt x="20524" y="9133"/>
                  <a:pt x="20530" y="9207"/>
                  <a:pt x="20513" y="9103"/>
                </a:cubicBezTo>
              </a:path>
              <a:path w="4318" h="1191">
                <a:moveTo>
                  <a:pt x="21010" y="8582"/>
                </a:moveTo>
                <a:cubicBezTo>
                  <a:pt x="20978" y="8598"/>
                  <a:pt x="20924" y="8628"/>
                  <a:pt x="20886" y="8657"/>
                </a:cubicBezTo>
                <a:cubicBezTo>
                  <a:pt x="20797" y="8725"/>
                  <a:pt x="20753" y="8801"/>
                  <a:pt x="20687" y="8855"/>
                </a:cubicBezTo>
                <a:cubicBezTo>
                  <a:pt x="20638" y="8895"/>
                  <a:pt x="20618" y="8960"/>
                  <a:pt x="20662" y="9004"/>
                </a:cubicBezTo>
                <a:cubicBezTo>
                  <a:pt x="20694" y="9036"/>
                  <a:pt x="20779" y="9136"/>
                  <a:pt x="20811" y="9153"/>
                </a:cubicBezTo>
                <a:cubicBezTo>
                  <a:pt x="20874" y="9186"/>
                  <a:pt x="20986" y="9237"/>
                  <a:pt x="21010" y="9327"/>
                </a:cubicBezTo>
                <a:cubicBezTo>
                  <a:pt x="21026" y="9386"/>
                  <a:pt x="20997" y="9434"/>
                  <a:pt x="20960" y="9475"/>
                </a:cubicBezTo>
                <a:cubicBezTo>
                  <a:pt x="20923" y="9515"/>
                  <a:pt x="20892" y="9544"/>
                  <a:pt x="20836" y="9550"/>
                </a:cubicBezTo>
                <a:cubicBezTo>
                  <a:pt x="20788" y="9555"/>
                  <a:pt x="20735" y="9552"/>
                  <a:pt x="20712" y="9500"/>
                </a:cubicBezTo>
                <a:cubicBezTo>
                  <a:pt x="20688" y="9445"/>
                  <a:pt x="20722" y="9352"/>
                  <a:pt x="20737" y="9302"/>
                </a:cubicBezTo>
                <a:cubicBezTo>
                  <a:pt x="20767" y="9201"/>
                  <a:pt x="20831" y="9095"/>
                  <a:pt x="20886" y="9004"/>
                </a:cubicBezTo>
                <a:cubicBezTo>
                  <a:pt x="20936" y="8921"/>
                  <a:pt x="20991" y="8849"/>
                  <a:pt x="21059" y="8781"/>
                </a:cubicBezTo>
              </a:path>
              <a:path w="4318" h="1191">
                <a:moveTo>
                  <a:pt x="21208" y="8781"/>
                </a:moveTo>
                <a:cubicBezTo>
                  <a:pt x="21149" y="8942"/>
                  <a:pt x="21076" y="9084"/>
                  <a:pt x="21059" y="9252"/>
                </a:cubicBezTo>
                <a:cubicBezTo>
                  <a:pt x="21053" y="9310"/>
                  <a:pt x="21043" y="9437"/>
                  <a:pt x="21109" y="9451"/>
                </a:cubicBezTo>
                <a:cubicBezTo>
                  <a:pt x="21155" y="9461"/>
                  <a:pt x="21215" y="9479"/>
                  <a:pt x="21258" y="9451"/>
                </a:cubicBezTo>
                <a:cubicBezTo>
                  <a:pt x="21352" y="9389"/>
                  <a:pt x="21371" y="9332"/>
                  <a:pt x="21406" y="9227"/>
                </a:cubicBezTo>
                <a:cubicBezTo>
                  <a:pt x="21442" y="9118"/>
                  <a:pt x="21490" y="8996"/>
                  <a:pt x="21456" y="8880"/>
                </a:cubicBezTo>
                <a:cubicBezTo>
                  <a:pt x="21429" y="8790"/>
                  <a:pt x="21391" y="8727"/>
                  <a:pt x="21332" y="8657"/>
                </a:cubicBezTo>
                <a:cubicBezTo>
                  <a:pt x="21302" y="8621"/>
                  <a:pt x="21276" y="8632"/>
                  <a:pt x="21233" y="8632"/>
                </a:cubicBezTo>
              </a:path>
              <a:path w="4318" h="1191">
                <a:moveTo>
                  <a:pt x="21754" y="9004"/>
                </a:moveTo>
                <a:cubicBezTo>
                  <a:pt x="21754" y="9029"/>
                  <a:pt x="21754" y="9037"/>
                  <a:pt x="21779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74000" y="3054240"/>
            <a:ext cx="911160" cy="366840"/>
          </a:xfrm>
          <a:custGeom>
            <a:avLst/>
            <a:gdLst/>
            <a:ahLst/>
            <a:rect l="l" t="t" r="r" b="b"/>
            <a:pathLst>
              <a:path w="2531" h="1018">
                <a:moveTo>
                  <a:pt x="22299" y="8855"/>
                </a:moveTo>
                <a:cubicBezTo>
                  <a:pt x="22387" y="8968"/>
                  <a:pt x="22350" y="8953"/>
                  <a:pt x="22324" y="8880"/>
                </a:cubicBezTo>
                <a:cubicBezTo>
                  <a:pt x="22316" y="8859"/>
                  <a:pt x="22286" y="8835"/>
                  <a:pt x="22250" y="8855"/>
                </a:cubicBezTo>
                <a:cubicBezTo>
                  <a:pt x="22177" y="8896"/>
                  <a:pt x="22198" y="8950"/>
                  <a:pt x="22175" y="9004"/>
                </a:cubicBezTo>
                <a:cubicBezTo>
                  <a:pt x="22146" y="9074"/>
                  <a:pt x="22151" y="9144"/>
                  <a:pt x="22151" y="9227"/>
                </a:cubicBezTo>
                <a:cubicBezTo>
                  <a:pt x="22151" y="9267"/>
                  <a:pt x="22198" y="9428"/>
                  <a:pt x="22225" y="9451"/>
                </a:cubicBezTo>
                <a:cubicBezTo>
                  <a:pt x="22262" y="9482"/>
                  <a:pt x="22302" y="9510"/>
                  <a:pt x="22349" y="9500"/>
                </a:cubicBezTo>
                <a:cubicBezTo>
                  <a:pt x="22405" y="9488"/>
                  <a:pt x="22454" y="9476"/>
                  <a:pt x="22498" y="9451"/>
                </a:cubicBezTo>
              </a:path>
              <a:path w="2531" h="1018">
                <a:moveTo>
                  <a:pt x="22671" y="9153"/>
                </a:moveTo>
                <a:cubicBezTo>
                  <a:pt x="22648" y="9322"/>
                  <a:pt x="22631" y="9307"/>
                  <a:pt x="22696" y="9401"/>
                </a:cubicBezTo>
                <a:cubicBezTo>
                  <a:pt x="22755" y="9487"/>
                  <a:pt x="22814" y="9463"/>
                  <a:pt x="22870" y="9401"/>
                </a:cubicBezTo>
                <a:cubicBezTo>
                  <a:pt x="22912" y="9355"/>
                  <a:pt x="22959" y="9290"/>
                  <a:pt x="22969" y="9227"/>
                </a:cubicBezTo>
                <a:cubicBezTo>
                  <a:pt x="22977" y="9175"/>
                  <a:pt x="22980" y="9050"/>
                  <a:pt x="22944" y="9004"/>
                </a:cubicBezTo>
                <a:cubicBezTo>
                  <a:pt x="22911" y="8962"/>
                  <a:pt x="22863" y="8935"/>
                  <a:pt x="22796" y="8930"/>
                </a:cubicBezTo>
                <a:cubicBezTo>
                  <a:pt x="22738" y="8926"/>
                  <a:pt x="22691" y="8922"/>
                  <a:pt x="22647" y="8954"/>
                </a:cubicBezTo>
              </a:path>
              <a:path w="2531" h="1018">
                <a:moveTo>
                  <a:pt x="23192" y="8806"/>
                </a:moveTo>
                <a:cubicBezTo>
                  <a:pt x="23250" y="8787"/>
                  <a:pt x="23257" y="8778"/>
                  <a:pt x="23292" y="8781"/>
                </a:cubicBezTo>
                <a:cubicBezTo>
                  <a:pt x="23260" y="8852"/>
                  <a:pt x="23240" y="8866"/>
                  <a:pt x="23192" y="8930"/>
                </a:cubicBezTo>
                <a:cubicBezTo>
                  <a:pt x="23149" y="8987"/>
                  <a:pt x="23123" y="9012"/>
                  <a:pt x="23168" y="9079"/>
                </a:cubicBezTo>
                <a:cubicBezTo>
                  <a:pt x="23214" y="9149"/>
                  <a:pt x="23358" y="9207"/>
                  <a:pt x="23341" y="9302"/>
                </a:cubicBezTo>
                <a:cubicBezTo>
                  <a:pt x="23326" y="9386"/>
                  <a:pt x="23266" y="9397"/>
                  <a:pt x="23192" y="9401"/>
                </a:cubicBezTo>
                <a:cubicBezTo>
                  <a:pt x="23169" y="9402"/>
                  <a:pt x="23076" y="9398"/>
                  <a:pt x="23068" y="9376"/>
                </a:cubicBezTo>
                <a:cubicBezTo>
                  <a:pt x="23055" y="9340"/>
                  <a:pt x="23106" y="9256"/>
                  <a:pt x="23118" y="9227"/>
                </a:cubicBezTo>
              </a:path>
              <a:path w="2531" h="1018">
                <a:moveTo>
                  <a:pt x="23639" y="8483"/>
                </a:moveTo>
                <a:cubicBezTo>
                  <a:pt x="23633" y="8612"/>
                  <a:pt x="23614" y="8726"/>
                  <a:pt x="23614" y="8855"/>
                </a:cubicBezTo>
                <a:cubicBezTo>
                  <a:pt x="23614" y="8968"/>
                  <a:pt x="23620" y="9080"/>
                  <a:pt x="23639" y="9178"/>
                </a:cubicBezTo>
                <a:cubicBezTo>
                  <a:pt x="23649" y="9228"/>
                  <a:pt x="23666" y="9348"/>
                  <a:pt x="23688" y="9302"/>
                </a:cubicBezTo>
                <a:cubicBezTo>
                  <a:pt x="23688" y="9285"/>
                  <a:pt x="23688" y="9269"/>
                  <a:pt x="23688" y="9252"/>
                </a:cubicBezTo>
              </a:path>
              <a:path w="2531" h="1018">
                <a:moveTo>
                  <a:pt x="23937" y="8632"/>
                </a:moveTo>
                <a:cubicBezTo>
                  <a:pt x="23895" y="8775"/>
                  <a:pt x="23862" y="8880"/>
                  <a:pt x="23862" y="9029"/>
                </a:cubicBezTo>
                <a:cubicBezTo>
                  <a:pt x="23862" y="9110"/>
                  <a:pt x="23853" y="9184"/>
                  <a:pt x="23887" y="9252"/>
                </a:cubicBezTo>
                <a:cubicBezTo>
                  <a:pt x="23897" y="9273"/>
                  <a:pt x="23956" y="9334"/>
                  <a:pt x="23986" y="9327"/>
                </a:cubicBezTo>
                <a:cubicBezTo>
                  <a:pt x="24051" y="9312"/>
                  <a:pt x="24056" y="9288"/>
                  <a:pt x="24085" y="9227"/>
                </a:cubicBezTo>
                <a:cubicBezTo>
                  <a:pt x="24119" y="9156"/>
                  <a:pt x="24143" y="9107"/>
                  <a:pt x="24160" y="9029"/>
                </a:cubicBezTo>
                <a:cubicBezTo>
                  <a:pt x="24160" y="8996"/>
                  <a:pt x="24160" y="8979"/>
                  <a:pt x="24160" y="8954"/>
                </a:cubicBezTo>
                <a:cubicBezTo>
                  <a:pt x="24103" y="8982"/>
                  <a:pt x="24085" y="9022"/>
                  <a:pt x="24036" y="9079"/>
                </a:cubicBezTo>
                <a:cubicBezTo>
                  <a:pt x="23983" y="9141"/>
                  <a:pt x="23979" y="9196"/>
                  <a:pt x="23986" y="9252"/>
                </a:cubicBezTo>
                <a:cubicBezTo>
                  <a:pt x="23986" y="9294"/>
                  <a:pt x="23978" y="9310"/>
                  <a:pt x="24011" y="9302"/>
                </a:cubicBezTo>
              </a:path>
              <a:path w="2531" h="1018">
                <a:moveTo>
                  <a:pt x="24383" y="8632"/>
                </a:moveTo>
                <a:cubicBezTo>
                  <a:pt x="24403" y="8592"/>
                  <a:pt x="24412" y="8585"/>
                  <a:pt x="24408" y="8558"/>
                </a:cubicBezTo>
                <a:cubicBezTo>
                  <a:pt x="24501" y="8558"/>
                  <a:pt x="24495" y="8550"/>
                  <a:pt x="24557" y="8508"/>
                </a:cubicBezTo>
                <a:cubicBezTo>
                  <a:pt x="24573" y="8497"/>
                  <a:pt x="24657" y="8492"/>
                  <a:pt x="24681" y="8483"/>
                </a:cubicBezTo>
              </a:path>
              <a:path w="2531" h="1018">
                <a:moveTo>
                  <a:pt x="24333" y="8632"/>
                </a:moveTo>
                <a:cubicBezTo>
                  <a:pt x="24308" y="8675"/>
                  <a:pt x="24238" y="8761"/>
                  <a:pt x="24309" y="8806"/>
                </a:cubicBezTo>
                <a:cubicBezTo>
                  <a:pt x="24341" y="8806"/>
                  <a:pt x="24349" y="8814"/>
                  <a:pt x="24333" y="8855"/>
                </a:cubicBezTo>
                <a:cubicBezTo>
                  <a:pt x="24411" y="8855"/>
                  <a:pt x="24407" y="8906"/>
                  <a:pt x="24457" y="8930"/>
                </a:cubicBezTo>
                <a:cubicBezTo>
                  <a:pt x="24537" y="8968"/>
                  <a:pt x="24576" y="9047"/>
                  <a:pt x="24532" y="9153"/>
                </a:cubicBezTo>
                <a:cubicBezTo>
                  <a:pt x="24520" y="9182"/>
                  <a:pt x="24375" y="9293"/>
                  <a:pt x="24358" y="9302"/>
                </a:cubicBezTo>
                <a:cubicBezTo>
                  <a:pt x="24252" y="9356"/>
                  <a:pt x="24186" y="9359"/>
                  <a:pt x="24085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200" y="3705120"/>
            <a:ext cx="3036960" cy="1233720"/>
          </a:xfrm>
          <a:custGeom>
            <a:avLst/>
            <a:gdLst/>
            <a:ahLst/>
            <a:rect l="l" t="t" r="r" b="b"/>
            <a:pathLst>
              <a:path w="8434" h="3424">
                <a:moveTo>
                  <a:pt x="1414" y="12799"/>
                </a:moveTo>
                <a:cubicBezTo>
                  <a:pt x="1445" y="12779"/>
                  <a:pt x="1426" y="12784"/>
                  <a:pt x="1439" y="12750"/>
                </a:cubicBezTo>
                <a:cubicBezTo>
                  <a:pt x="1391" y="12789"/>
                  <a:pt x="1414" y="12730"/>
                  <a:pt x="1389" y="12799"/>
                </a:cubicBezTo>
                <a:cubicBezTo>
                  <a:pt x="1389" y="12807"/>
                  <a:pt x="1389" y="12816"/>
                  <a:pt x="1389" y="12824"/>
                </a:cubicBezTo>
                <a:cubicBezTo>
                  <a:pt x="1398" y="12815"/>
                  <a:pt x="1455" y="12802"/>
                  <a:pt x="1439" y="12774"/>
                </a:cubicBezTo>
                <a:cubicBezTo>
                  <a:pt x="1393" y="12690"/>
                  <a:pt x="1397" y="12791"/>
                  <a:pt x="1389" y="12799"/>
                </a:cubicBezTo>
                <a:cubicBezTo>
                  <a:pt x="1401" y="12795"/>
                  <a:pt x="1419" y="12776"/>
                  <a:pt x="1463" y="12774"/>
                </a:cubicBezTo>
                <a:cubicBezTo>
                  <a:pt x="1599" y="12768"/>
                  <a:pt x="1740" y="12784"/>
                  <a:pt x="1860" y="12799"/>
                </a:cubicBezTo>
                <a:cubicBezTo>
                  <a:pt x="1956" y="12811"/>
                  <a:pt x="2074" y="12815"/>
                  <a:pt x="2158" y="12824"/>
                </a:cubicBezTo>
                <a:cubicBezTo>
                  <a:pt x="2263" y="12835"/>
                  <a:pt x="2388" y="12839"/>
                  <a:pt x="2480" y="12849"/>
                </a:cubicBezTo>
                <a:cubicBezTo>
                  <a:pt x="2846" y="12890"/>
                  <a:pt x="3236" y="12844"/>
                  <a:pt x="3597" y="12874"/>
                </a:cubicBezTo>
                <a:cubicBezTo>
                  <a:pt x="3777" y="12889"/>
                  <a:pt x="3968" y="12883"/>
                  <a:pt x="4142" y="12898"/>
                </a:cubicBezTo>
                <a:cubicBezTo>
                  <a:pt x="4286" y="12911"/>
                  <a:pt x="4435" y="12888"/>
                  <a:pt x="4564" y="12874"/>
                </a:cubicBezTo>
                <a:cubicBezTo>
                  <a:pt x="4619" y="12868"/>
                  <a:pt x="4828" y="12847"/>
                  <a:pt x="4837" y="12849"/>
                </a:cubicBezTo>
                <a:cubicBezTo>
                  <a:pt x="4872" y="12857"/>
                  <a:pt x="4839" y="12860"/>
                  <a:pt x="4812" y="12874"/>
                </a:cubicBezTo>
                <a:cubicBezTo>
                  <a:pt x="4859" y="12848"/>
                  <a:pt x="4860" y="12884"/>
                  <a:pt x="4887" y="12824"/>
                </a:cubicBezTo>
                <a:cubicBezTo>
                  <a:pt x="4887" y="12816"/>
                  <a:pt x="4887" y="12807"/>
                  <a:pt x="4887" y="12799"/>
                </a:cubicBezTo>
                <a:cubicBezTo>
                  <a:pt x="4857" y="12820"/>
                  <a:pt x="4859" y="12822"/>
                  <a:pt x="4837" y="12849"/>
                </a:cubicBezTo>
                <a:cubicBezTo>
                  <a:pt x="4812" y="12849"/>
                  <a:pt x="4804" y="12849"/>
                  <a:pt x="4812" y="12874"/>
                </a:cubicBezTo>
                <a:cubicBezTo>
                  <a:pt x="4828" y="12884"/>
                  <a:pt x="4841" y="12926"/>
                  <a:pt x="4887" y="12923"/>
                </a:cubicBezTo>
                <a:cubicBezTo>
                  <a:pt x="4931" y="12920"/>
                  <a:pt x="4961" y="12893"/>
                  <a:pt x="4961" y="12849"/>
                </a:cubicBezTo>
                <a:cubicBezTo>
                  <a:pt x="4961" y="12806"/>
                  <a:pt x="4932" y="12807"/>
                  <a:pt x="4911" y="12774"/>
                </a:cubicBezTo>
                <a:cubicBezTo>
                  <a:pt x="4881" y="12791"/>
                  <a:pt x="4867" y="12807"/>
                  <a:pt x="4837" y="12824"/>
                </a:cubicBezTo>
              </a:path>
              <a:path w="8434" h="3424">
                <a:moveTo>
                  <a:pt x="2530" y="13072"/>
                </a:moveTo>
                <a:cubicBezTo>
                  <a:pt x="2506" y="13128"/>
                  <a:pt x="2523" y="13168"/>
                  <a:pt x="2505" y="13221"/>
                </a:cubicBezTo>
                <a:cubicBezTo>
                  <a:pt x="2483" y="13287"/>
                  <a:pt x="2480" y="13322"/>
                  <a:pt x="2480" y="13395"/>
                </a:cubicBezTo>
                <a:cubicBezTo>
                  <a:pt x="2480" y="13454"/>
                  <a:pt x="2479" y="13473"/>
                  <a:pt x="2505" y="13519"/>
                </a:cubicBezTo>
                <a:cubicBezTo>
                  <a:pt x="2532" y="13566"/>
                  <a:pt x="2575" y="13589"/>
                  <a:pt x="2629" y="13593"/>
                </a:cubicBezTo>
                <a:cubicBezTo>
                  <a:pt x="2698" y="13598"/>
                  <a:pt x="2706" y="13589"/>
                  <a:pt x="2753" y="13543"/>
                </a:cubicBezTo>
                <a:cubicBezTo>
                  <a:pt x="2785" y="13511"/>
                  <a:pt x="2823" y="13489"/>
                  <a:pt x="2828" y="13444"/>
                </a:cubicBezTo>
                <a:cubicBezTo>
                  <a:pt x="2834" y="13392"/>
                  <a:pt x="2813" y="13389"/>
                  <a:pt x="2803" y="13370"/>
                </a:cubicBezTo>
                <a:cubicBezTo>
                  <a:pt x="2803" y="13345"/>
                  <a:pt x="2803" y="13337"/>
                  <a:pt x="2778" y="13345"/>
                </a:cubicBezTo>
                <a:cubicBezTo>
                  <a:pt x="2745" y="13378"/>
                  <a:pt x="2725" y="13412"/>
                  <a:pt x="2704" y="13444"/>
                </a:cubicBezTo>
                <a:cubicBezTo>
                  <a:pt x="2689" y="13467"/>
                  <a:pt x="2660" y="13509"/>
                  <a:pt x="2679" y="13543"/>
                </a:cubicBezTo>
                <a:cubicBezTo>
                  <a:pt x="2707" y="13571"/>
                  <a:pt x="2720" y="13580"/>
                  <a:pt x="2753" y="13568"/>
                </a:cubicBezTo>
              </a:path>
              <a:path w="8434" h="3424">
                <a:moveTo>
                  <a:pt x="3150" y="13171"/>
                </a:moveTo>
                <a:cubicBezTo>
                  <a:pt x="3144" y="13195"/>
                  <a:pt x="3137" y="13249"/>
                  <a:pt x="3125" y="13271"/>
                </a:cubicBezTo>
                <a:cubicBezTo>
                  <a:pt x="3105" y="13308"/>
                  <a:pt x="3094" y="13364"/>
                  <a:pt x="3076" y="13395"/>
                </a:cubicBezTo>
                <a:cubicBezTo>
                  <a:pt x="3052" y="13437"/>
                  <a:pt x="3047" y="13450"/>
                  <a:pt x="3076" y="13494"/>
                </a:cubicBezTo>
                <a:cubicBezTo>
                  <a:pt x="3102" y="13533"/>
                  <a:pt x="3182" y="13540"/>
                  <a:pt x="3225" y="13543"/>
                </a:cubicBezTo>
                <a:cubicBezTo>
                  <a:pt x="3296" y="13547"/>
                  <a:pt x="3327" y="13516"/>
                  <a:pt x="3373" y="13469"/>
                </a:cubicBezTo>
                <a:cubicBezTo>
                  <a:pt x="3409" y="13432"/>
                  <a:pt x="3398" y="13397"/>
                  <a:pt x="3398" y="13345"/>
                </a:cubicBezTo>
                <a:cubicBezTo>
                  <a:pt x="3398" y="13313"/>
                  <a:pt x="3393" y="13238"/>
                  <a:pt x="3373" y="13221"/>
                </a:cubicBezTo>
                <a:cubicBezTo>
                  <a:pt x="3360" y="13210"/>
                  <a:pt x="3294" y="13155"/>
                  <a:pt x="3274" y="13146"/>
                </a:cubicBezTo>
                <a:cubicBezTo>
                  <a:pt x="3236" y="13129"/>
                  <a:pt x="3214" y="13105"/>
                  <a:pt x="3200" y="13146"/>
                </a:cubicBezTo>
              </a:path>
              <a:path w="8434" h="3424">
                <a:moveTo>
                  <a:pt x="4911" y="12774"/>
                </a:moveTo>
                <a:cubicBezTo>
                  <a:pt x="4919" y="12774"/>
                  <a:pt x="4928" y="12774"/>
                  <a:pt x="4936" y="12774"/>
                </a:cubicBezTo>
              </a:path>
              <a:path w="8434" h="3424">
                <a:moveTo>
                  <a:pt x="4862" y="12799"/>
                </a:moveTo>
                <a:cubicBezTo>
                  <a:pt x="4890" y="12781"/>
                  <a:pt x="4890" y="12768"/>
                  <a:pt x="4911" y="12750"/>
                </a:cubicBezTo>
                <a:cubicBezTo>
                  <a:pt x="4940" y="12725"/>
                  <a:pt x="4999" y="12697"/>
                  <a:pt x="5035" y="12675"/>
                </a:cubicBezTo>
                <a:cubicBezTo>
                  <a:pt x="5068" y="12655"/>
                  <a:pt x="5082" y="12655"/>
                  <a:pt x="5135" y="12626"/>
                </a:cubicBezTo>
                <a:cubicBezTo>
                  <a:pt x="5185" y="12598"/>
                  <a:pt x="5234" y="12556"/>
                  <a:pt x="5283" y="12526"/>
                </a:cubicBezTo>
                <a:cubicBezTo>
                  <a:pt x="5338" y="12493"/>
                  <a:pt x="5382" y="12480"/>
                  <a:pt x="5432" y="12452"/>
                </a:cubicBezTo>
                <a:cubicBezTo>
                  <a:pt x="5481" y="12425"/>
                  <a:pt x="5534" y="12385"/>
                  <a:pt x="5581" y="12353"/>
                </a:cubicBezTo>
                <a:cubicBezTo>
                  <a:pt x="5645" y="12310"/>
                  <a:pt x="5713" y="12271"/>
                  <a:pt x="5779" y="12229"/>
                </a:cubicBezTo>
                <a:cubicBezTo>
                  <a:pt x="5836" y="12193"/>
                  <a:pt x="5892" y="12160"/>
                  <a:pt x="5953" y="12129"/>
                </a:cubicBezTo>
                <a:cubicBezTo>
                  <a:pt x="6010" y="12099"/>
                  <a:pt x="6071" y="12056"/>
                  <a:pt x="6127" y="12030"/>
                </a:cubicBezTo>
                <a:cubicBezTo>
                  <a:pt x="6227" y="11983"/>
                  <a:pt x="6306" y="11933"/>
                  <a:pt x="6400" y="11881"/>
                </a:cubicBezTo>
                <a:cubicBezTo>
                  <a:pt x="6506" y="11822"/>
                  <a:pt x="6619" y="11763"/>
                  <a:pt x="6722" y="11708"/>
                </a:cubicBezTo>
                <a:cubicBezTo>
                  <a:pt x="6797" y="11668"/>
                  <a:pt x="6870" y="11624"/>
                  <a:pt x="6945" y="11584"/>
                </a:cubicBezTo>
                <a:cubicBezTo>
                  <a:pt x="7016" y="11546"/>
                  <a:pt x="7073" y="11496"/>
                  <a:pt x="7144" y="11460"/>
                </a:cubicBezTo>
                <a:cubicBezTo>
                  <a:pt x="7216" y="11423"/>
                  <a:pt x="7298" y="11405"/>
                  <a:pt x="7367" y="11361"/>
                </a:cubicBezTo>
                <a:cubicBezTo>
                  <a:pt x="7435" y="11318"/>
                  <a:pt x="7488" y="11272"/>
                  <a:pt x="7565" y="11237"/>
                </a:cubicBezTo>
                <a:cubicBezTo>
                  <a:pt x="7619" y="11213"/>
                  <a:pt x="7680" y="11196"/>
                  <a:pt x="7739" y="11162"/>
                </a:cubicBezTo>
                <a:cubicBezTo>
                  <a:pt x="7775" y="11141"/>
                  <a:pt x="7824" y="11096"/>
                  <a:pt x="7863" y="11088"/>
                </a:cubicBezTo>
                <a:cubicBezTo>
                  <a:pt x="7924" y="11075"/>
                  <a:pt x="7822" y="11109"/>
                  <a:pt x="7813" y="11112"/>
                </a:cubicBezTo>
              </a:path>
              <a:path w="8434" h="3424">
                <a:moveTo>
                  <a:pt x="5606" y="12601"/>
                </a:moveTo>
                <a:cubicBezTo>
                  <a:pt x="5614" y="12601"/>
                  <a:pt x="5623" y="12601"/>
                  <a:pt x="5631" y="12601"/>
                </a:cubicBezTo>
                <a:cubicBezTo>
                  <a:pt x="5620" y="12645"/>
                  <a:pt x="5593" y="12676"/>
                  <a:pt x="5581" y="12725"/>
                </a:cubicBezTo>
                <a:cubicBezTo>
                  <a:pt x="5572" y="12760"/>
                  <a:pt x="5576" y="12795"/>
                  <a:pt x="5556" y="12824"/>
                </a:cubicBezTo>
                <a:cubicBezTo>
                  <a:pt x="5530" y="12863"/>
                  <a:pt x="5518" y="12865"/>
                  <a:pt x="5507" y="12898"/>
                </a:cubicBezTo>
                <a:cubicBezTo>
                  <a:pt x="5507" y="12846"/>
                  <a:pt x="5519" y="12861"/>
                  <a:pt x="5531" y="12824"/>
                </a:cubicBezTo>
              </a:path>
              <a:path w="8434" h="3424">
                <a:moveTo>
                  <a:pt x="5804" y="12526"/>
                </a:moveTo>
                <a:cubicBezTo>
                  <a:pt x="5842" y="12539"/>
                  <a:pt x="5825" y="12551"/>
                  <a:pt x="5879" y="12551"/>
                </a:cubicBezTo>
                <a:cubicBezTo>
                  <a:pt x="5937" y="12551"/>
                  <a:pt x="5994" y="12551"/>
                  <a:pt x="6052" y="12551"/>
                </a:cubicBezTo>
                <a:cubicBezTo>
                  <a:pt x="6024" y="12522"/>
                  <a:pt x="6011" y="12514"/>
                  <a:pt x="5978" y="12526"/>
                </a:cubicBezTo>
              </a:path>
              <a:path w="8434" h="3424">
                <a:moveTo>
                  <a:pt x="5829" y="12526"/>
                </a:moveTo>
                <a:cubicBezTo>
                  <a:pt x="5805" y="12558"/>
                  <a:pt x="5799" y="12596"/>
                  <a:pt x="5779" y="12626"/>
                </a:cubicBezTo>
                <a:cubicBezTo>
                  <a:pt x="5757" y="12648"/>
                  <a:pt x="5749" y="12653"/>
                  <a:pt x="5755" y="12675"/>
                </a:cubicBezTo>
                <a:cubicBezTo>
                  <a:pt x="5810" y="12675"/>
                  <a:pt x="5863" y="12663"/>
                  <a:pt x="5904" y="12700"/>
                </a:cubicBezTo>
                <a:cubicBezTo>
                  <a:pt x="5953" y="12744"/>
                  <a:pt x="5918" y="12756"/>
                  <a:pt x="5904" y="12799"/>
                </a:cubicBezTo>
                <a:cubicBezTo>
                  <a:pt x="5897" y="12822"/>
                  <a:pt x="5861" y="12838"/>
                  <a:pt x="5829" y="12849"/>
                </a:cubicBezTo>
                <a:cubicBezTo>
                  <a:pt x="5783" y="12864"/>
                  <a:pt x="5763" y="12835"/>
                  <a:pt x="5730" y="12824"/>
                </a:cubicBezTo>
                <a:cubicBezTo>
                  <a:pt x="5665" y="12802"/>
                  <a:pt x="5744" y="12770"/>
                  <a:pt x="5779" y="12750"/>
                </a:cubicBezTo>
              </a:path>
              <a:path w="8434" h="3424">
                <a:moveTo>
                  <a:pt x="6077" y="12626"/>
                </a:moveTo>
                <a:cubicBezTo>
                  <a:pt x="6069" y="12651"/>
                  <a:pt x="6060" y="12675"/>
                  <a:pt x="6052" y="12700"/>
                </a:cubicBezTo>
                <a:cubicBezTo>
                  <a:pt x="6103" y="12700"/>
                  <a:pt x="6106" y="12686"/>
                  <a:pt x="6127" y="12675"/>
                </a:cubicBezTo>
                <a:cubicBezTo>
                  <a:pt x="6162" y="12658"/>
                  <a:pt x="6152" y="12649"/>
                  <a:pt x="6152" y="12601"/>
                </a:cubicBezTo>
                <a:cubicBezTo>
                  <a:pt x="6152" y="12568"/>
                  <a:pt x="6127" y="12609"/>
                  <a:pt x="6127" y="12576"/>
                </a:cubicBezTo>
                <a:cubicBezTo>
                  <a:pt x="6127" y="12551"/>
                  <a:pt x="6127" y="12543"/>
                  <a:pt x="6127" y="12576"/>
                </a:cubicBezTo>
              </a:path>
              <a:path w="8434" h="3424">
                <a:moveTo>
                  <a:pt x="7020" y="11782"/>
                </a:moveTo>
                <a:cubicBezTo>
                  <a:pt x="6988" y="11758"/>
                  <a:pt x="6964" y="11748"/>
                  <a:pt x="6921" y="11757"/>
                </a:cubicBezTo>
                <a:cubicBezTo>
                  <a:pt x="6843" y="11777"/>
                  <a:pt x="6826" y="11769"/>
                  <a:pt x="6796" y="11807"/>
                </a:cubicBezTo>
                <a:cubicBezTo>
                  <a:pt x="6807" y="11851"/>
                  <a:pt x="6837" y="11872"/>
                  <a:pt x="6871" y="11906"/>
                </a:cubicBezTo>
                <a:cubicBezTo>
                  <a:pt x="6900" y="11935"/>
                  <a:pt x="6933" y="11969"/>
                  <a:pt x="6945" y="12005"/>
                </a:cubicBezTo>
                <a:cubicBezTo>
                  <a:pt x="6945" y="12013"/>
                  <a:pt x="6945" y="12022"/>
                  <a:pt x="6945" y="12030"/>
                </a:cubicBezTo>
                <a:cubicBezTo>
                  <a:pt x="6906" y="12040"/>
                  <a:pt x="6891" y="12055"/>
                  <a:pt x="6846" y="12055"/>
                </a:cubicBezTo>
                <a:cubicBezTo>
                  <a:pt x="6801" y="12055"/>
                  <a:pt x="6779" y="12031"/>
                  <a:pt x="6747" y="12005"/>
                </a:cubicBezTo>
                <a:cubicBezTo>
                  <a:pt x="6755" y="11974"/>
                  <a:pt x="6786" y="11922"/>
                  <a:pt x="6821" y="11906"/>
                </a:cubicBezTo>
                <a:cubicBezTo>
                  <a:pt x="6869" y="11885"/>
                  <a:pt x="6870" y="11871"/>
                  <a:pt x="6896" y="11832"/>
                </a:cubicBezTo>
                <a:cubicBezTo>
                  <a:pt x="6914" y="11805"/>
                  <a:pt x="6947" y="11780"/>
                  <a:pt x="6970" y="11757"/>
                </a:cubicBezTo>
              </a:path>
              <a:path w="8434" h="3424">
                <a:moveTo>
                  <a:pt x="7119" y="11782"/>
                </a:moveTo>
                <a:cubicBezTo>
                  <a:pt x="7096" y="11828"/>
                  <a:pt x="7089" y="11893"/>
                  <a:pt x="7069" y="11931"/>
                </a:cubicBezTo>
                <a:cubicBezTo>
                  <a:pt x="7047" y="11972"/>
                  <a:pt x="7062" y="11999"/>
                  <a:pt x="7119" y="12005"/>
                </a:cubicBezTo>
                <a:cubicBezTo>
                  <a:pt x="7173" y="12011"/>
                  <a:pt x="7174" y="11959"/>
                  <a:pt x="7193" y="11931"/>
                </a:cubicBezTo>
                <a:cubicBezTo>
                  <a:pt x="7219" y="11892"/>
                  <a:pt x="7273" y="11866"/>
                  <a:pt x="7243" y="11807"/>
                </a:cubicBezTo>
                <a:cubicBezTo>
                  <a:pt x="7226" y="11772"/>
                  <a:pt x="7172" y="11736"/>
                  <a:pt x="7144" y="11708"/>
                </a:cubicBezTo>
              </a:path>
              <a:path w="8434" h="3424">
                <a:moveTo>
                  <a:pt x="7863" y="10939"/>
                </a:moveTo>
                <a:cubicBezTo>
                  <a:pt x="7798" y="10982"/>
                  <a:pt x="7813" y="10982"/>
                  <a:pt x="7813" y="11063"/>
                </a:cubicBezTo>
                <a:cubicBezTo>
                  <a:pt x="7813" y="11100"/>
                  <a:pt x="7856" y="11126"/>
                  <a:pt x="7888" y="11137"/>
                </a:cubicBezTo>
                <a:cubicBezTo>
                  <a:pt x="7929" y="11151"/>
                  <a:pt x="7959" y="11092"/>
                  <a:pt x="7962" y="11063"/>
                </a:cubicBezTo>
                <a:cubicBezTo>
                  <a:pt x="7965" y="11038"/>
                  <a:pt x="7954" y="10974"/>
                  <a:pt x="7938" y="10964"/>
                </a:cubicBezTo>
                <a:cubicBezTo>
                  <a:pt x="7896" y="10936"/>
                  <a:pt x="7823" y="10983"/>
                  <a:pt x="7813" y="10988"/>
                </a:cubicBezTo>
                <a:cubicBezTo>
                  <a:pt x="7805" y="10988"/>
                  <a:pt x="7797" y="10988"/>
                  <a:pt x="7789" y="10988"/>
                </a:cubicBezTo>
              </a:path>
              <a:path w="8434" h="3424">
                <a:moveTo>
                  <a:pt x="4266" y="12154"/>
                </a:moveTo>
                <a:cubicBezTo>
                  <a:pt x="4266" y="12328"/>
                  <a:pt x="4266" y="12501"/>
                  <a:pt x="4266" y="12675"/>
                </a:cubicBezTo>
                <a:cubicBezTo>
                  <a:pt x="4266" y="12631"/>
                  <a:pt x="4264" y="12636"/>
                  <a:pt x="4291" y="12601"/>
                </a:cubicBezTo>
              </a:path>
              <a:path w="8434" h="3424">
                <a:moveTo>
                  <a:pt x="4564" y="12105"/>
                </a:moveTo>
                <a:cubicBezTo>
                  <a:pt x="4564" y="12148"/>
                  <a:pt x="4553" y="12191"/>
                  <a:pt x="4539" y="12229"/>
                </a:cubicBezTo>
                <a:cubicBezTo>
                  <a:pt x="4513" y="12302"/>
                  <a:pt x="4471" y="12349"/>
                  <a:pt x="4465" y="12427"/>
                </a:cubicBezTo>
                <a:cubicBezTo>
                  <a:pt x="4461" y="12474"/>
                  <a:pt x="4462" y="12528"/>
                  <a:pt x="4514" y="12551"/>
                </a:cubicBezTo>
                <a:cubicBezTo>
                  <a:pt x="4549" y="12567"/>
                  <a:pt x="4591" y="12547"/>
                  <a:pt x="4614" y="12526"/>
                </a:cubicBezTo>
                <a:cubicBezTo>
                  <a:pt x="4658" y="12487"/>
                  <a:pt x="4695" y="12435"/>
                  <a:pt x="4713" y="12378"/>
                </a:cubicBezTo>
                <a:cubicBezTo>
                  <a:pt x="4729" y="12328"/>
                  <a:pt x="4697" y="12295"/>
                  <a:pt x="4663" y="12278"/>
                </a:cubicBezTo>
                <a:cubicBezTo>
                  <a:pt x="4621" y="12320"/>
                  <a:pt x="4610" y="12350"/>
                  <a:pt x="4589" y="12402"/>
                </a:cubicBezTo>
                <a:cubicBezTo>
                  <a:pt x="4575" y="12437"/>
                  <a:pt x="4548" y="12499"/>
                  <a:pt x="4589" y="12526"/>
                </a:cubicBezTo>
                <a:cubicBezTo>
                  <a:pt x="4616" y="12544"/>
                  <a:pt x="4646" y="12514"/>
                  <a:pt x="4663" y="12502"/>
                </a:cubicBezTo>
              </a:path>
              <a:path w="8434" h="3424">
                <a:moveTo>
                  <a:pt x="4837" y="11981"/>
                </a:moveTo>
                <a:cubicBezTo>
                  <a:pt x="4901" y="11946"/>
                  <a:pt x="4985" y="11920"/>
                  <a:pt x="5035" y="11881"/>
                </a:cubicBezTo>
                <a:cubicBezTo>
                  <a:pt x="5072" y="11852"/>
                  <a:pt x="5073" y="11867"/>
                  <a:pt x="5085" y="11832"/>
                </a:cubicBezTo>
              </a:path>
              <a:path w="8434" h="3424">
                <a:moveTo>
                  <a:pt x="4862" y="11956"/>
                </a:moveTo>
                <a:cubicBezTo>
                  <a:pt x="4844" y="11997"/>
                  <a:pt x="4824" y="12043"/>
                  <a:pt x="4812" y="12080"/>
                </a:cubicBezTo>
                <a:cubicBezTo>
                  <a:pt x="4812" y="12088"/>
                  <a:pt x="4812" y="12097"/>
                  <a:pt x="4812" y="12105"/>
                </a:cubicBezTo>
                <a:cubicBezTo>
                  <a:pt x="4881" y="12105"/>
                  <a:pt x="4928" y="12110"/>
                  <a:pt x="4986" y="12129"/>
                </a:cubicBezTo>
                <a:cubicBezTo>
                  <a:pt x="5022" y="12140"/>
                  <a:pt x="5057" y="12186"/>
                  <a:pt x="5060" y="12229"/>
                </a:cubicBezTo>
                <a:cubicBezTo>
                  <a:pt x="5064" y="12281"/>
                  <a:pt x="5068" y="12315"/>
                  <a:pt x="5035" y="12353"/>
                </a:cubicBezTo>
                <a:cubicBezTo>
                  <a:pt x="4993" y="12402"/>
                  <a:pt x="4953" y="12421"/>
                  <a:pt x="4887" y="12427"/>
                </a:cubicBezTo>
                <a:cubicBezTo>
                  <a:pt x="4850" y="12430"/>
                  <a:pt x="4817" y="12389"/>
                  <a:pt x="4837" y="12353"/>
                </a:cubicBezTo>
                <a:cubicBezTo>
                  <a:pt x="4845" y="12345"/>
                  <a:pt x="4854" y="12336"/>
                  <a:pt x="4862" y="12328"/>
                </a:cubicBezTo>
              </a:path>
              <a:path w="8434" h="3424">
                <a:moveTo>
                  <a:pt x="5283" y="11857"/>
                </a:moveTo>
                <a:cubicBezTo>
                  <a:pt x="5265" y="11899"/>
                  <a:pt x="5249" y="11939"/>
                  <a:pt x="5283" y="11956"/>
                </a:cubicBezTo>
                <a:cubicBezTo>
                  <a:pt x="5291" y="11956"/>
                  <a:pt x="5300" y="11956"/>
                  <a:pt x="5308" y="11956"/>
                </a:cubicBezTo>
                <a:cubicBezTo>
                  <a:pt x="5364" y="11900"/>
                  <a:pt x="5353" y="11916"/>
                  <a:pt x="5333" y="11857"/>
                </a:cubicBezTo>
                <a:cubicBezTo>
                  <a:pt x="5317" y="11809"/>
                  <a:pt x="5312" y="11807"/>
                  <a:pt x="5259" y="11807"/>
                </a:cubicBezTo>
              </a:path>
              <a:path w="8434" h="3424">
                <a:moveTo>
                  <a:pt x="1439" y="12725"/>
                </a:moveTo>
                <a:cubicBezTo>
                  <a:pt x="1439" y="12700"/>
                  <a:pt x="1439" y="12692"/>
                  <a:pt x="1463" y="12700"/>
                </a:cubicBezTo>
              </a:path>
              <a:path w="8434" h="3424">
                <a:moveTo>
                  <a:pt x="1513" y="12725"/>
                </a:moveTo>
                <a:lnTo>
                  <a:pt x="1513" y="12725"/>
                </a:lnTo>
              </a:path>
              <a:path w="8434" h="3424">
                <a:moveTo>
                  <a:pt x="1513" y="12725"/>
                </a:moveTo>
                <a:cubicBezTo>
                  <a:pt x="1496" y="12717"/>
                  <a:pt x="1480" y="12708"/>
                  <a:pt x="1463" y="12700"/>
                </a:cubicBezTo>
              </a:path>
              <a:path w="8434" h="3424">
                <a:moveTo>
                  <a:pt x="1463" y="12700"/>
                </a:moveTo>
                <a:cubicBezTo>
                  <a:pt x="1447" y="12683"/>
                  <a:pt x="1430" y="12667"/>
                  <a:pt x="1414" y="12650"/>
                </a:cubicBezTo>
              </a:path>
              <a:path w="8434" h="3424">
                <a:moveTo>
                  <a:pt x="1414" y="12650"/>
                </a:moveTo>
                <a:cubicBezTo>
                  <a:pt x="1436" y="12634"/>
                  <a:pt x="1456" y="12619"/>
                  <a:pt x="1488" y="12601"/>
                </a:cubicBezTo>
                <a:cubicBezTo>
                  <a:pt x="1498" y="12596"/>
                  <a:pt x="1533" y="12561"/>
                  <a:pt x="1563" y="12551"/>
                </a:cubicBezTo>
                <a:cubicBezTo>
                  <a:pt x="1605" y="12537"/>
                  <a:pt x="1644" y="12539"/>
                  <a:pt x="1687" y="12526"/>
                </a:cubicBezTo>
                <a:cubicBezTo>
                  <a:pt x="1736" y="12511"/>
                  <a:pt x="1782" y="12491"/>
                  <a:pt x="1836" y="12477"/>
                </a:cubicBezTo>
                <a:cubicBezTo>
                  <a:pt x="1895" y="12461"/>
                  <a:pt x="1950" y="12448"/>
                  <a:pt x="2009" y="12427"/>
                </a:cubicBezTo>
                <a:cubicBezTo>
                  <a:pt x="2078" y="12403"/>
                  <a:pt x="2170" y="12380"/>
                  <a:pt x="2232" y="12353"/>
                </a:cubicBezTo>
                <a:cubicBezTo>
                  <a:pt x="2350" y="12302"/>
                  <a:pt x="2467" y="12230"/>
                  <a:pt x="2580" y="12179"/>
                </a:cubicBezTo>
                <a:cubicBezTo>
                  <a:pt x="2694" y="12127"/>
                  <a:pt x="2812" y="12079"/>
                  <a:pt x="2927" y="12030"/>
                </a:cubicBezTo>
                <a:cubicBezTo>
                  <a:pt x="3041" y="11981"/>
                  <a:pt x="3164" y="11937"/>
                  <a:pt x="3274" y="11881"/>
                </a:cubicBezTo>
                <a:cubicBezTo>
                  <a:pt x="3358" y="11838"/>
                  <a:pt x="3434" y="11794"/>
                  <a:pt x="3522" y="11757"/>
                </a:cubicBezTo>
                <a:cubicBezTo>
                  <a:pt x="3611" y="11720"/>
                  <a:pt x="3704" y="11692"/>
                  <a:pt x="3795" y="11658"/>
                </a:cubicBezTo>
                <a:cubicBezTo>
                  <a:pt x="3903" y="11618"/>
                  <a:pt x="4009" y="11572"/>
                  <a:pt x="4118" y="11534"/>
                </a:cubicBezTo>
                <a:cubicBezTo>
                  <a:pt x="4265" y="11482"/>
                  <a:pt x="4419" y="11452"/>
                  <a:pt x="4564" y="11410"/>
                </a:cubicBezTo>
                <a:cubicBezTo>
                  <a:pt x="4690" y="11374"/>
                  <a:pt x="4809" y="11335"/>
                  <a:pt x="4936" y="11311"/>
                </a:cubicBezTo>
                <a:cubicBezTo>
                  <a:pt x="5040" y="11292"/>
                  <a:pt x="5159" y="11285"/>
                  <a:pt x="5259" y="11261"/>
                </a:cubicBezTo>
                <a:cubicBezTo>
                  <a:pt x="5366" y="11235"/>
                  <a:pt x="5449" y="11226"/>
                  <a:pt x="5556" y="11212"/>
                </a:cubicBezTo>
                <a:cubicBezTo>
                  <a:pt x="5654" y="11199"/>
                  <a:pt x="5756" y="11178"/>
                  <a:pt x="5854" y="11162"/>
                </a:cubicBezTo>
                <a:cubicBezTo>
                  <a:pt x="5953" y="11145"/>
                  <a:pt x="6051" y="11148"/>
                  <a:pt x="6152" y="11137"/>
                </a:cubicBezTo>
                <a:cubicBezTo>
                  <a:pt x="6291" y="11121"/>
                  <a:pt x="6432" y="11095"/>
                  <a:pt x="6573" y="11088"/>
                </a:cubicBezTo>
                <a:cubicBezTo>
                  <a:pt x="6667" y="11083"/>
                  <a:pt x="6755" y="11071"/>
                  <a:pt x="6846" y="11063"/>
                </a:cubicBezTo>
                <a:cubicBezTo>
                  <a:pt x="7023" y="11046"/>
                  <a:pt x="7198" y="11034"/>
                  <a:pt x="7367" y="10988"/>
                </a:cubicBezTo>
                <a:cubicBezTo>
                  <a:pt x="7425" y="10972"/>
                  <a:pt x="7485" y="10957"/>
                  <a:pt x="7541" y="10939"/>
                </a:cubicBezTo>
                <a:cubicBezTo>
                  <a:pt x="7586" y="10924"/>
                  <a:pt x="7622" y="10893"/>
                  <a:pt x="7665" y="10889"/>
                </a:cubicBezTo>
                <a:cubicBezTo>
                  <a:pt x="7727" y="10884"/>
                  <a:pt x="7701" y="10883"/>
                  <a:pt x="7714" y="10889"/>
                </a:cubicBezTo>
                <a:cubicBezTo>
                  <a:pt x="7748" y="10904"/>
                  <a:pt x="7678" y="10959"/>
                  <a:pt x="7714" y="10964"/>
                </a:cubicBezTo>
                <a:cubicBezTo>
                  <a:pt x="7771" y="10972"/>
                  <a:pt x="7820" y="10966"/>
                  <a:pt x="7863" y="10939"/>
                </a:cubicBezTo>
                <a:cubicBezTo>
                  <a:pt x="7863" y="10914"/>
                  <a:pt x="7863" y="10906"/>
                  <a:pt x="7863" y="10889"/>
                </a:cubicBezTo>
                <a:cubicBezTo>
                  <a:pt x="7822" y="10906"/>
                  <a:pt x="7668" y="10874"/>
                  <a:pt x="7665" y="10964"/>
                </a:cubicBezTo>
                <a:cubicBezTo>
                  <a:pt x="7662" y="11060"/>
                  <a:pt x="7678" y="11047"/>
                  <a:pt x="7764" y="11063"/>
                </a:cubicBezTo>
                <a:cubicBezTo>
                  <a:pt x="7826" y="11074"/>
                  <a:pt x="7869" y="11053"/>
                  <a:pt x="7913" y="11013"/>
                </a:cubicBezTo>
                <a:cubicBezTo>
                  <a:pt x="7972" y="10959"/>
                  <a:pt x="7987" y="10892"/>
                  <a:pt x="7913" y="10864"/>
                </a:cubicBezTo>
                <a:cubicBezTo>
                  <a:pt x="7843" y="10837"/>
                  <a:pt x="7695" y="10866"/>
                  <a:pt x="7714" y="10964"/>
                </a:cubicBezTo>
                <a:cubicBezTo>
                  <a:pt x="7721" y="11002"/>
                  <a:pt x="7816" y="11033"/>
                  <a:pt x="7838" y="11038"/>
                </a:cubicBezTo>
                <a:cubicBezTo>
                  <a:pt x="7896" y="11051"/>
                  <a:pt x="7940" y="10994"/>
                  <a:pt x="7987" y="10988"/>
                </a:cubicBezTo>
                <a:cubicBezTo>
                  <a:pt x="7897" y="10908"/>
                  <a:pt x="7966" y="10898"/>
                  <a:pt x="7813" y="10864"/>
                </a:cubicBezTo>
                <a:cubicBezTo>
                  <a:pt x="7726" y="10845"/>
                  <a:pt x="7655" y="10843"/>
                  <a:pt x="7565" y="10840"/>
                </a:cubicBezTo>
              </a:path>
              <a:path w="8434" h="3424">
                <a:moveTo>
                  <a:pt x="3448" y="10889"/>
                </a:moveTo>
                <a:cubicBezTo>
                  <a:pt x="3493" y="10961"/>
                  <a:pt x="3550" y="11016"/>
                  <a:pt x="3621" y="11063"/>
                </a:cubicBezTo>
                <a:cubicBezTo>
                  <a:pt x="3696" y="11113"/>
                  <a:pt x="3764" y="11169"/>
                  <a:pt x="3845" y="11212"/>
                </a:cubicBezTo>
                <a:cubicBezTo>
                  <a:pt x="3915" y="11249"/>
                  <a:pt x="3991" y="11280"/>
                  <a:pt x="4068" y="11286"/>
                </a:cubicBezTo>
                <a:cubicBezTo>
                  <a:pt x="4076" y="11286"/>
                  <a:pt x="4085" y="11286"/>
                  <a:pt x="4093" y="11286"/>
                </a:cubicBezTo>
              </a:path>
              <a:path w="8434" h="3424">
                <a:moveTo>
                  <a:pt x="3770" y="10765"/>
                </a:moveTo>
                <a:cubicBezTo>
                  <a:pt x="3699" y="10913"/>
                  <a:pt x="3627" y="11058"/>
                  <a:pt x="3572" y="11212"/>
                </a:cubicBezTo>
                <a:cubicBezTo>
                  <a:pt x="3548" y="11278"/>
                  <a:pt x="3521" y="11348"/>
                  <a:pt x="3497" y="11410"/>
                </a:cubicBezTo>
                <a:cubicBezTo>
                  <a:pt x="3477" y="11451"/>
                  <a:pt x="3469" y="11457"/>
                  <a:pt x="3473" y="11485"/>
                </a:cubicBezTo>
              </a:path>
              <a:path w="8434" h="3424">
                <a:moveTo>
                  <a:pt x="794" y="12626"/>
                </a:moveTo>
                <a:cubicBezTo>
                  <a:pt x="765" y="12712"/>
                  <a:pt x="713" y="12810"/>
                  <a:pt x="695" y="12898"/>
                </a:cubicBezTo>
                <a:cubicBezTo>
                  <a:pt x="685" y="12946"/>
                  <a:pt x="670" y="12973"/>
                  <a:pt x="670" y="13022"/>
                </a:cubicBezTo>
                <a:cubicBezTo>
                  <a:pt x="670" y="13030"/>
                  <a:pt x="670" y="13039"/>
                  <a:pt x="670" y="13047"/>
                </a:cubicBezTo>
                <a:cubicBezTo>
                  <a:pt x="670" y="12983"/>
                  <a:pt x="687" y="12932"/>
                  <a:pt x="695" y="12874"/>
                </a:cubicBezTo>
                <a:cubicBezTo>
                  <a:pt x="707" y="12783"/>
                  <a:pt x="699" y="12690"/>
                  <a:pt x="719" y="12601"/>
                </a:cubicBezTo>
                <a:cubicBezTo>
                  <a:pt x="736" y="12526"/>
                  <a:pt x="767" y="12448"/>
                  <a:pt x="794" y="12378"/>
                </a:cubicBezTo>
                <a:cubicBezTo>
                  <a:pt x="902" y="12296"/>
                  <a:pt x="954" y="12489"/>
                  <a:pt x="992" y="12576"/>
                </a:cubicBezTo>
                <a:cubicBezTo>
                  <a:pt x="1028" y="12658"/>
                  <a:pt x="1051" y="12743"/>
                  <a:pt x="1091" y="12824"/>
                </a:cubicBezTo>
                <a:cubicBezTo>
                  <a:pt x="1112" y="12867"/>
                  <a:pt x="1131" y="12907"/>
                  <a:pt x="1141" y="12948"/>
                </a:cubicBezTo>
              </a:path>
              <a:path w="8434" h="3424">
                <a:moveTo>
                  <a:pt x="744" y="12774"/>
                </a:moveTo>
                <a:cubicBezTo>
                  <a:pt x="888" y="12774"/>
                  <a:pt x="1025" y="12777"/>
                  <a:pt x="1166" y="12750"/>
                </a:cubicBezTo>
              </a:path>
              <a:path w="8434" h="3424">
                <a:moveTo>
                  <a:pt x="4688" y="13196"/>
                </a:moveTo>
                <a:cubicBezTo>
                  <a:pt x="4681" y="13276"/>
                  <a:pt x="4663" y="13338"/>
                  <a:pt x="4663" y="13419"/>
                </a:cubicBezTo>
                <a:cubicBezTo>
                  <a:pt x="4663" y="13475"/>
                  <a:pt x="4656" y="13501"/>
                  <a:pt x="4688" y="13543"/>
                </a:cubicBezTo>
                <a:cubicBezTo>
                  <a:pt x="4729" y="13530"/>
                  <a:pt x="4720" y="13490"/>
                  <a:pt x="4738" y="13444"/>
                </a:cubicBezTo>
                <a:cubicBezTo>
                  <a:pt x="4767" y="13370"/>
                  <a:pt x="4794" y="13275"/>
                  <a:pt x="4812" y="13196"/>
                </a:cubicBezTo>
                <a:cubicBezTo>
                  <a:pt x="4826" y="13133"/>
                  <a:pt x="4867" y="13017"/>
                  <a:pt x="4961" y="13022"/>
                </a:cubicBezTo>
                <a:cubicBezTo>
                  <a:pt x="5025" y="13026"/>
                  <a:pt x="5035" y="13075"/>
                  <a:pt x="5035" y="13122"/>
                </a:cubicBezTo>
                <a:cubicBezTo>
                  <a:pt x="5035" y="13188"/>
                  <a:pt x="5031" y="13200"/>
                  <a:pt x="4986" y="13246"/>
                </a:cubicBezTo>
                <a:cubicBezTo>
                  <a:pt x="4947" y="13285"/>
                  <a:pt x="4915" y="13295"/>
                  <a:pt x="4862" y="13295"/>
                </a:cubicBezTo>
                <a:cubicBezTo>
                  <a:pt x="4854" y="13295"/>
                  <a:pt x="4845" y="13295"/>
                  <a:pt x="4837" y="13295"/>
                </a:cubicBezTo>
                <a:cubicBezTo>
                  <a:pt x="4902" y="13257"/>
                  <a:pt x="4904" y="13283"/>
                  <a:pt x="4961" y="13295"/>
                </a:cubicBezTo>
                <a:cubicBezTo>
                  <a:pt x="5000" y="13303"/>
                  <a:pt x="5070" y="13343"/>
                  <a:pt x="5085" y="13395"/>
                </a:cubicBezTo>
                <a:cubicBezTo>
                  <a:pt x="5109" y="13476"/>
                  <a:pt x="5082" y="13575"/>
                  <a:pt x="5035" y="13643"/>
                </a:cubicBezTo>
                <a:cubicBezTo>
                  <a:pt x="5009" y="13680"/>
                  <a:pt x="4928" y="13722"/>
                  <a:pt x="4887" y="13717"/>
                </a:cubicBezTo>
                <a:cubicBezTo>
                  <a:pt x="4823" y="13710"/>
                  <a:pt x="4770" y="13673"/>
                  <a:pt x="4713" y="13643"/>
                </a:cubicBezTo>
                <a:cubicBezTo>
                  <a:pt x="4656" y="13613"/>
                  <a:pt x="4650" y="13604"/>
                  <a:pt x="4638" y="13543"/>
                </a:cubicBezTo>
              </a:path>
              <a:path w="8434" h="3424">
                <a:moveTo>
                  <a:pt x="8806" y="10368"/>
                </a:moveTo>
                <a:cubicBezTo>
                  <a:pt x="8806" y="10384"/>
                  <a:pt x="8806" y="10578"/>
                  <a:pt x="8806" y="10443"/>
                </a:cubicBezTo>
                <a:cubicBezTo>
                  <a:pt x="8806" y="10369"/>
                  <a:pt x="8755" y="10303"/>
                  <a:pt x="8706" y="10294"/>
                </a:cubicBezTo>
                <a:cubicBezTo>
                  <a:pt x="8627" y="10279"/>
                  <a:pt x="8589" y="10293"/>
                  <a:pt x="8533" y="10344"/>
                </a:cubicBezTo>
                <a:cubicBezTo>
                  <a:pt x="8464" y="10407"/>
                  <a:pt x="8347" y="10485"/>
                  <a:pt x="8310" y="10567"/>
                </a:cubicBezTo>
                <a:cubicBezTo>
                  <a:pt x="8264" y="10668"/>
                  <a:pt x="8295" y="10763"/>
                  <a:pt x="8384" y="10815"/>
                </a:cubicBezTo>
                <a:cubicBezTo>
                  <a:pt x="8469" y="10865"/>
                  <a:pt x="8564" y="10884"/>
                  <a:pt x="8657" y="10914"/>
                </a:cubicBezTo>
                <a:cubicBezTo>
                  <a:pt x="8764" y="10949"/>
                  <a:pt x="8841" y="10964"/>
                  <a:pt x="8954" y="10964"/>
                </a:cubicBezTo>
                <a:cubicBezTo>
                  <a:pt x="9002" y="10964"/>
                  <a:pt x="9125" y="10967"/>
                  <a:pt x="9079" y="10914"/>
                </a:cubicBezTo>
                <a:cubicBezTo>
                  <a:pt x="9049" y="10884"/>
                  <a:pt x="9038" y="10870"/>
                  <a:pt x="9029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83040" y="3919680"/>
            <a:ext cx="1428840" cy="447480"/>
          </a:xfrm>
          <a:custGeom>
            <a:avLst/>
            <a:gdLst/>
            <a:ahLst/>
            <a:rect l="l" t="t" r="r" b="b"/>
            <a:pathLst>
              <a:path w="3970" h="1241">
                <a:moveTo>
                  <a:pt x="11187" y="10964"/>
                </a:moveTo>
                <a:cubicBezTo>
                  <a:pt x="11187" y="10922"/>
                  <a:pt x="11187" y="10914"/>
                  <a:pt x="11187" y="10889"/>
                </a:cubicBezTo>
                <a:cubicBezTo>
                  <a:pt x="11203" y="10931"/>
                  <a:pt x="11231" y="10989"/>
                  <a:pt x="11237" y="11038"/>
                </a:cubicBezTo>
                <a:cubicBezTo>
                  <a:pt x="11253" y="11156"/>
                  <a:pt x="11261" y="11264"/>
                  <a:pt x="11261" y="11385"/>
                </a:cubicBezTo>
                <a:cubicBezTo>
                  <a:pt x="11261" y="11512"/>
                  <a:pt x="11286" y="11629"/>
                  <a:pt x="11286" y="11757"/>
                </a:cubicBezTo>
                <a:cubicBezTo>
                  <a:pt x="11286" y="11868"/>
                  <a:pt x="11300" y="11978"/>
                  <a:pt x="11261" y="12080"/>
                </a:cubicBezTo>
                <a:cubicBezTo>
                  <a:pt x="11261" y="12030"/>
                  <a:pt x="11261" y="12031"/>
                  <a:pt x="11261" y="11981"/>
                </a:cubicBezTo>
                <a:cubicBezTo>
                  <a:pt x="11261" y="11838"/>
                  <a:pt x="11285" y="11851"/>
                  <a:pt x="11311" y="11733"/>
                </a:cubicBezTo>
                <a:cubicBezTo>
                  <a:pt x="11326" y="11667"/>
                  <a:pt x="11335" y="11659"/>
                  <a:pt x="11385" y="11609"/>
                </a:cubicBezTo>
                <a:cubicBezTo>
                  <a:pt x="11441" y="11553"/>
                  <a:pt x="11500" y="11604"/>
                  <a:pt x="11559" y="11633"/>
                </a:cubicBezTo>
                <a:cubicBezTo>
                  <a:pt x="11640" y="11673"/>
                  <a:pt x="11689" y="11742"/>
                  <a:pt x="11708" y="11832"/>
                </a:cubicBezTo>
                <a:cubicBezTo>
                  <a:pt x="11718" y="11878"/>
                  <a:pt x="11671" y="11954"/>
                  <a:pt x="11633" y="11981"/>
                </a:cubicBezTo>
                <a:cubicBezTo>
                  <a:pt x="11564" y="12030"/>
                  <a:pt x="11465" y="12057"/>
                  <a:pt x="11385" y="12080"/>
                </a:cubicBezTo>
                <a:cubicBezTo>
                  <a:pt x="11299" y="12104"/>
                  <a:pt x="11200" y="12124"/>
                  <a:pt x="11112" y="12129"/>
                </a:cubicBezTo>
                <a:cubicBezTo>
                  <a:pt x="11088" y="12129"/>
                  <a:pt x="11079" y="12129"/>
                  <a:pt x="11063" y="12129"/>
                </a:cubicBezTo>
              </a:path>
              <a:path w="3970" h="1241">
                <a:moveTo>
                  <a:pt x="12005" y="11683"/>
                </a:moveTo>
                <a:cubicBezTo>
                  <a:pt x="12111" y="11667"/>
                  <a:pt x="12205" y="11656"/>
                  <a:pt x="12303" y="11633"/>
                </a:cubicBezTo>
                <a:cubicBezTo>
                  <a:pt x="12325" y="11628"/>
                  <a:pt x="12356" y="11633"/>
                  <a:pt x="12378" y="11633"/>
                </a:cubicBezTo>
              </a:path>
              <a:path w="3970" h="1241">
                <a:moveTo>
                  <a:pt x="12105" y="11906"/>
                </a:moveTo>
                <a:cubicBezTo>
                  <a:pt x="12206" y="11924"/>
                  <a:pt x="12277" y="11931"/>
                  <a:pt x="12378" y="11931"/>
                </a:cubicBezTo>
                <a:cubicBezTo>
                  <a:pt x="12422" y="11931"/>
                  <a:pt x="12436" y="11934"/>
                  <a:pt x="12452" y="11906"/>
                </a:cubicBezTo>
              </a:path>
              <a:path w="3970" h="1241">
                <a:moveTo>
                  <a:pt x="12948" y="11137"/>
                </a:moveTo>
                <a:cubicBezTo>
                  <a:pt x="12948" y="11093"/>
                  <a:pt x="12972" y="11143"/>
                  <a:pt x="12973" y="11162"/>
                </a:cubicBezTo>
                <a:cubicBezTo>
                  <a:pt x="12984" y="11308"/>
                  <a:pt x="12962" y="11442"/>
                  <a:pt x="12948" y="11584"/>
                </a:cubicBezTo>
                <a:cubicBezTo>
                  <a:pt x="12940" y="11668"/>
                  <a:pt x="12933" y="11753"/>
                  <a:pt x="12923" y="11832"/>
                </a:cubicBezTo>
                <a:cubicBezTo>
                  <a:pt x="12915" y="11894"/>
                  <a:pt x="12890" y="12127"/>
                  <a:pt x="12948" y="12030"/>
                </a:cubicBezTo>
              </a:path>
              <a:path w="3970" h="1241">
                <a:moveTo>
                  <a:pt x="13271" y="11212"/>
                </a:moveTo>
                <a:cubicBezTo>
                  <a:pt x="13324" y="11171"/>
                  <a:pt x="13373" y="11165"/>
                  <a:pt x="13444" y="11162"/>
                </a:cubicBezTo>
                <a:cubicBezTo>
                  <a:pt x="13489" y="11160"/>
                  <a:pt x="13577" y="11183"/>
                  <a:pt x="13593" y="11237"/>
                </a:cubicBezTo>
                <a:cubicBezTo>
                  <a:pt x="13616" y="11315"/>
                  <a:pt x="13564" y="11380"/>
                  <a:pt x="13519" y="11435"/>
                </a:cubicBezTo>
                <a:cubicBezTo>
                  <a:pt x="13474" y="11489"/>
                  <a:pt x="13389" y="11561"/>
                  <a:pt x="13320" y="11584"/>
                </a:cubicBezTo>
                <a:cubicBezTo>
                  <a:pt x="13281" y="11597"/>
                  <a:pt x="13310" y="11596"/>
                  <a:pt x="13271" y="11609"/>
                </a:cubicBezTo>
                <a:cubicBezTo>
                  <a:pt x="13291" y="11669"/>
                  <a:pt x="13316" y="11595"/>
                  <a:pt x="13370" y="11609"/>
                </a:cubicBezTo>
                <a:cubicBezTo>
                  <a:pt x="13442" y="11628"/>
                  <a:pt x="13506" y="11700"/>
                  <a:pt x="13543" y="11757"/>
                </a:cubicBezTo>
                <a:cubicBezTo>
                  <a:pt x="13595" y="11837"/>
                  <a:pt x="13561" y="11903"/>
                  <a:pt x="13543" y="11981"/>
                </a:cubicBezTo>
                <a:cubicBezTo>
                  <a:pt x="13534" y="12021"/>
                  <a:pt x="13515" y="12052"/>
                  <a:pt x="13469" y="12055"/>
                </a:cubicBezTo>
                <a:cubicBezTo>
                  <a:pt x="13417" y="12059"/>
                  <a:pt x="13382" y="12063"/>
                  <a:pt x="13345" y="12030"/>
                </a:cubicBezTo>
                <a:cubicBezTo>
                  <a:pt x="13320" y="12005"/>
                  <a:pt x="13312" y="11997"/>
                  <a:pt x="13295" y="11981"/>
                </a:cubicBezTo>
              </a:path>
              <a:path w="3970" h="1241">
                <a:moveTo>
                  <a:pt x="14039" y="11286"/>
                </a:moveTo>
                <a:cubicBezTo>
                  <a:pt x="14009" y="11256"/>
                  <a:pt x="13943" y="11181"/>
                  <a:pt x="13891" y="11187"/>
                </a:cubicBezTo>
                <a:cubicBezTo>
                  <a:pt x="13857" y="11191"/>
                  <a:pt x="13782" y="11226"/>
                  <a:pt x="13767" y="11261"/>
                </a:cubicBezTo>
                <a:cubicBezTo>
                  <a:pt x="13727" y="11352"/>
                  <a:pt x="13825" y="11484"/>
                  <a:pt x="13866" y="11559"/>
                </a:cubicBezTo>
                <a:cubicBezTo>
                  <a:pt x="13911" y="11641"/>
                  <a:pt x="13970" y="11738"/>
                  <a:pt x="13990" y="11832"/>
                </a:cubicBezTo>
                <a:cubicBezTo>
                  <a:pt x="14003" y="11894"/>
                  <a:pt x="14001" y="11983"/>
                  <a:pt x="13965" y="12030"/>
                </a:cubicBezTo>
                <a:cubicBezTo>
                  <a:pt x="13920" y="12030"/>
                  <a:pt x="13893" y="12023"/>
                  <a:pt x="13866" y="11981"/>
                </a:cubicBezTo>
                <a:cubicBezTo>
                  <a:pt x="13820" y="11909"/>
                  <a:pt x="13816" y="11865"/>
                  <a:pt x="13816" y="11782"/>
                </a:cubicBezTo>
                <a:cubicBezTo>
                  <a:pt x="13816" y="11709"/>
                  <a:pt x="13817" y="11644"/>
                  <a:pt x="13866" y="11584"/>
                </a:cubicBezTo>
                <a:cubicBezTo>
                  <a:pt x="13922" y="11515"/>
                  <a:pt x="13976" y="11448"/>
                  <a:pt x="14039" y="11385"/>
                </a:cubicBezTo>
                <a:cubicBezTo>
                  <a:pt x="14071" y="11353"/>
                  <a:pt x="14084" y="11321"/>
                  <a:pt x="14114" y="11311"/>
                </a:cubicBezTo>
              </a:path>
              <a:path w="3970" h="1241">
                <a:moveTo>
                  <a:pt x="14238" y="11956"/>
                </a:moveTo>
                <a:cubicBezTo>
                  <a:pt x="14288" y="12038"/>
                  <a:pt x="14263" y="11981"/>
                  <a:pt x="14263" y="11931"/>
                </a:cubicBezTo>
              </a:path>
              <a:path w="3970" h="1241">
                <a:moveTo>
                  <a:pt x="14858" y="11286"/>
                </a:moveTo>
                <a:cubicBezTo>
                  <a:pt x="14816" y="11276"/>
                  <a:pt x="14609" y="11178"/>
                  <a:pt x="14585" y="11286"/>
                </a:cubicBezTo>
                <a:cubicBezTo>
                  <a:pt x="14565" y="11374"/>
                  <a:pt x="14615" y="11421"/>
                  <a:pt x="14660" y="11485"/>
                </a:cubicBezTo>
                <a:cubicBezTo>
                  <a:pt x="14729" y="11582"/>
                  <a:pt x="14815" y="11698"/>
                  <a:pt x="14858" y="11807"/>
                </a:cubicBezTo>
                <a:cubicBezTo>
                  <a:pt x="14890" y="11886"/>
                  <a:pt x="14926" y="11996"/>
                  <a:pt x="14932" y="12080"/>
                </a:cubicBezTo>
                <a:cubicBezTo>
                  <a:pt x="14932" y="12088"/>
                  <a:pt x="14932" y="12097"/>
                  <a:pt x="14932" y="12105"/>
                </a:cubicBezTo>
                <a:cubicBezTo>
                  <a:pt x="14883" y="12117"/>
                  <a:pt x="14879" y="12145"/>
                  <a:pt x="14833" y="12105"/>
                </a:cubicBezTo>
                <a:cubicBezTo>
                  <a:pt x="14794" y="12071"/>
                  <a:pt x="14739" y="12051"/>
                  <a:pt x="14709" y="12005"/>
                </a:cubicBezTo>
                <a:cubicBezTo>
                  <a:pt x="14648" y="11911"/>
                  <a:pt x="14689" y="11834"/>
                  <a:pt x="14734" y="11757"/>
                </a:cubicBezTo>
                <a:cubicBezTo>
                  <a:pt x="14777" y="11683"/>
                  <a:pt x="14803" y="11601"/>
                  <a:pt x="14858" y="11534"/>
                </a:cubicBezTo>
                <a:cubicBezTo>
                  <a:pt x="14933" y="11442"/>
                  <a:pt x="14969" y="11374"/>
                  <a:pt x="15007" y="11261"/>
                </a:cubicBezTo>
                <a:cubicBezTo>
                  <a:pt x="15033" y="11184"/>
                  <a:pt x="15044" y="11173"/>
                  <a:pt x="15007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3240" y="465300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011" y="12923"/>
                </a:moveTo>
                <a:cubicBezTo>
                  <a:pt x="5019" y="12923"/>
                  <a:pt x="5027" y="12923"/>
                  <a:pt x="5035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93960" y="4653000"/>
            <a:ext cx="160200" cy="79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5259" y="12948"/>
                </a:moveTo>
                <a:cubicBezTo>
                  <a:pt x="5312" y="12948"/>
                  <a:pt x="5329" y="12928"/>
                  <a:pt x="5383" y="12923"/>
                </a:cubicBezTo>
                <a:cubicBezTo>
                  <a:pt x="5391" y="12923"/>
                  <a:pt x="5399" y="12923"/>
                  <a:pt x="5407" y="12923"/>
                </a:cubicBezTo>
              </a:path>
              <a:path w="447" h="26">
                <a:moveTo>
                  <a:pt x="5581" y="12948"/>
                </a:moveTo>
                <a:cubicBezTo>
                  <a:pt x="5634" y="12925"/>
                  <a:pt x="5651" y="12923"/>
                  <a:pt x="5705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2800" y="466092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5978" y="12948"/>
                </a:moveTo>
                <a:cubicBezTo>
                  <a:pt x="6052" y="12948"/>
                  <a:pt x="6077" y="12948"/>
                  <a:pt x="6127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20920" y="466092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6449" y="12948"/>
                </a:moveTo>
                <a:cubicBezTo>
                  <a:pt x="6490" y="12948"/>
                  <a:pt x="6532" y="12948"/>
                  <a:pt x="6573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36920" y="468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045" y="12998"/>
                </a:moveTo>
                <a:lnTo>
                  <a:pt x="7045" y="1299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2040" y="468792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7590" y="13022"/>
                </a:moveTo>
                <a:cubicBezTo>
                  <a:pt x="7664" y="13022"/>
                  <a:pt x="7673" y="13022"/>
                  <a:pt x="771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4040" y="468000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8037" y="12998"/>
                </a:moveTo>
                <a:cubicBezTo>
                  <a:pt x="8095" y="12998"/>
                  <a:pt x="8152" y="12998"/>
                  <a:pt x="8210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3.  A golfer drives a ball 28</a:t>
            </a:r>
            <a:r>
              <a:rPr b="0" lang="en-US" sz="3500" spc="-1" strike="noStrike">
                <a:solidFill>
                  <a:srgbClr val="dfc08d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 from a line between the tee and the hole that is 312 yards away.  How far is the ball from the hole if it landed 190 yds from the tee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s 441-442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23,25,29,31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3040" y="4599000"/>
            <a:ext cx="519120" cy="571320"/>
          </a:xfrm>
          <a:custGeom>
            <a:avLst/>
            <a:gdLst/>
            <a:ahLst/>
            <a:rect l="l" t="t" r="r" b="b"/>
            <a:pathLst>
              <a:path w="1439" h="1589">
                <a:moveTo>
                  <a:pt x="1414" y="13469"/>
                </a:moveTo>
                <a:cubicBezTo>
                  <a:pt x="1414" y="13412"/>
                  <a:pt x="1424" y="13391"/>
                  <a:pt x="1439" y="13345"/>
                </a:cubicBezTo>
                <a:cubicBezTo>
                  <a:pt x="1459" y="13286"/>
                  <a:pt x="1437" y="13316"/>
                  <a:pt x="1488" y="13271"/>
                </a:cubicBezTo>
                <a:cubicBezTo>
                  <a:pt x="1535" y="13229"/>
                  <a:pt x="1561" y="13195"/>
                  <a:pt x="1637" y="13221"/>
                </a:cubicBezTo>
                <a:cubicBezTo>
                  <a:pt x="1680" y="13235"/>
                  <a:pt x="1712" y="13280"/>
                  <a:pt x="1736" y="13320"/>
                </a:cubicBezTo>
                <a:cubicBezTo>
                  <a:pt x="1765" y="13369"/>
                  <a:pt x="1777" y="13462"/>
                  <a:pt x="1761" y="13519"/>
                </a:cubicBezTo>
                <a:cubicBezTo>
                  <a:pt x="1734" y="13617"/>
                  <a:pt x="1718" y="13658"/>
                  <a:pt x="1662" y="13742"/>
                </a:cubicBezTo>
                <a:cubicBezTo>
                  <a:pt x="1611" y="13818"/>
                  <a:pt x="1568" y="13911"/>
                  <a:pt x="1488" y="13965"/>
                </a:cubicBezTo>
                <a:cubicBezTo>
                  <a:pt x="1466" y="13980"/>
                  <a:pt x="1395" y="14007"/>
                  <a:pt x="1364" y="13990"/>
                </a:cubicBezTo>
                <a:cubicBezTo>
                  <a:pt x="1338" y="13976"/>
                  <a:pt x="1318" y="13917"/>
                  <a:pt x="1315" y="13891"/>
                </a:cubicBezTo>
                <a:cubicBezTo>
                  <a:pt x="1308" y="13831"/>
                  <a:pt x="1343" y="13838"/>
                  <a:pt x="1364" y="13791"/>
                </a:cubicBezTo>
                <a:cubicBezTo>
                  <a:pt x="1381" y="13753"/>
                  <a:pt x="1410" y="13767"/>
                  <a:pt x="1463" y="13767"/>
                </a:cubicBezTo>
                <a:cubicBezTo>
                  <a:pt x="1504" y="13767"/>
                  <a:pt x="1553" y="13830"/>
                  <a:pt x="1563" y="13866"/>
                </a:cubicBezTo>
                <a:cubicBezTo>
                  <a:pt x="1576" y="13915"/>
                  <a:pt x="1607" y="13962"/>
                  <a:pt x="1612" y="14015"/>
                </a:cubicBezTo>
                <a:cubicBezTo>
                  <a:pt x="1617" y="14069"/>
                  <a:pt x="1629" y="14086"/>
                  <a:pt x="1662" y="14064"/>
                </a:cubicBezTo>
              </a:path>
              <a:path w="1439" h="1589">
                <a:moveTo>
                  <a:pt x="2009" y="13295"/>
                </a:moveTo>
                <a:cubicBezTo>
                  <a:pt x="2047" y="13258"/>
                  <a:pt x="2056" y="13246"/>
                  <a:pt x="2108" y="13246"/>
                </a:cubicBezTo>
                <a:cubicBezTo>
                  <a:pt x="2153" y="13246"/>
                  <a:pt x="2207" y="13249"/>
                  <a:pt x="2232" y="13295"/>
                </a:cubicBezTo>
                <a:cubicBezTo>
                  <a:pt x="2264" y="13353"/>
                  <a:pt x="2248" y="13354"/>
                  <a:pt x="2232" y="13419"/>
                </a:cubicBezTo>
                <a:cubicBezTo>
                  <a:pt x="2219" y="13472"/>
                  <a:pt x="2196" y="13469"/>
                  <a:pt x="2158" y="13494"/>
                </a:cubicBezTo>
                <a:cubicBezTo>
                  <a:pt x="2123" y="13517"/>
                  <a:pt x="2118" y="13513"/>
                  <a:pt x="2108" y="13543"/>
                </a:cubicBezTo>
                <a:cubicBezTo>
                  <a:pt x="2164" y="13543"/>
                  <a:pt x="2215" y="13531"/>
                  <a:pt x="2257" y="13568"/>
                </a:cubicBezTo>
                <a:cubicBezTo>
                  <a:pt x="2299" y="13606"/>
                  <a:pt x="2344" y="13660"/>
                  <a:pt x="2356" y="13717"/>
                </a:cubicBezTo>
                <a:cubicBezTo>
                  <a:pt x="2371" y="13788"/>
                  <a:pt x="2398" y="13846"/>
                  <a:pt x="2356" y="13915"/>
                </a:cubicBezTo>
                <a:cubicBezTo>
                  <a:pt x="2315" y="13982"/>
                  <a:pt x="2278" y="14004"/>
                  <a:pt x="2208" y="14039"/>
                </a:cubicBezTo>
                <a:cubicBezTo>
                  <a:pt x="2147" y="14069"/>
                  <a:pt x="2100" y="14064"/>
                  <a:pt x="2034" y="14064"/>
                </a:cubicBezTo>
                <a:cubicBezTo>
                  <a:pt x="1963" y="14064"/>
                  <a:pt x="1941" y="14019"/>
                  <a:pt x="1910" y="13965"/>
                </a:cubicBezTo>
              </a:path>
              <a:path w="1439" h="1589">
                <a:moveTo>
                  <a:pt x="2059" y="12774"/>
                </a:moveTo>
                <a:cubicBezTo>
                  <a:pt x="2324" y="13027"/>
                  <a:pt x="2411" y="13120"/>
                  <a:pt x="2580" y="13395"/>
                </a:cubicBezTo>
                <a:cubicBezTo>
                  <a:pt x="2699" y="13589"/>
                  <a:pt x="2742" y="13716"/>
                  <a:pt x="2729" y="13940"/>
                </a:cubicBezTo>
                <a:cubicBezTo>
                  <a:pt x="2723" y="14046"/>
                  <a:pt x="2665" y="14142"/>
                  <a:pt x="2580" y="14213"/>
                </a:cubicBezTo>
                <a:cubicBezTo>
                  <a:pt x="2521" y="14262"/>
                  <a:pt x="2462" y="14344"/>
                  <a:pt x="2381" y="14362"/>
                </a:cubicBezTo>
                <a:cubicBezTo>
                  <a:pt x="2356" y="14362"/>
                  <a:pt x="2348" y="14362"/>
                  <a:pt x="2332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6040" y="5527800"/>
            <a:ext cx="2509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7739" y="15553"/>
                </a:moveTo>
                <a:cubicBezTo>
                  <a:pt x="7776" y="15562"/>
                  <a:pt x="7831" y="15601"/>
                  <a:pt x="7863" y="15627"/>
                </a:cubicBezTo>
                <a:cubicBezTo>
                  <a:pt x="7939" y="15690"/>
                  <a:pt x="8024" y="15779"/>
                  <a:pt x="8086" y="15850"/>
                </a:cubicBezTo>
                <a:cubicBezTo>
                  <a:pt x="8156" y="15930"/>
                  <a:pt x="8207" y="16028"/>
                  <a:pt x="8310" y="16073"/>
                </a:cubicBezTo>
                <a:cubicBezTo>
                  <a:pt x="8375" y="16095"/>
                  <a:pt x="8390" y="16103"/>
                  <a:pt x="8434" y="16098"/>
                </a:cubicBezTo>
              </a:path>
              <a:path w="696" h="745">
                <a:moveTo>
                  <a:pt x="8260" y="15354"/>
                </a:moveTo>
                <a:cubicBezTo>
                  <a:pt x="8202" y="15433"/>
                  <a:pt x="8148" y="15528"/>
                  <a:pt x="8086" y="15602"/>
                </a:cubicBezTo>
                <a:cubicBezTo>
                  <a:pt x="8011" y="15693"/>
                  <a:pt x="7949" y="15779"/>
                  <a:pt x="7888" y="15875"/>
                </a:cubicBezTo>
                <a:cubicBezTo>
                  <a:pt x="7838" y="15954"/>
                  <a:pt x="7800" y="16029"/>
                  <a:pt x="7739" y="160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6232680"/>
            <a:ext cx="339480" cy="376200"/>
          </a:xfrm>
          <a:custGeom>
            <a:avLst/>
            <a:gdLst/>
            <a:ahLst/>
            <a:rect l="l" t="t" r="r" b="b"/>
            <a:pathLst>
              <a:path w="943" h="1042">
                <a:moveTo>
                  <a:pt x="2952" y="17661"/>
                </a:moveTo>
                <a:cubicBezTo>
                  <a:pt x="2915" y="17770"/>
                  <a:pt x="2849" y="17900"/>
                  <a:pt x="2828" y="18008"/>
                </a:cubicBezTo>
                <a:cubicBezTo>
                  <a:pt x="2815" y="18076"/>
                  <a:pt x="2820" y="18177"/>
                  <a:pt x="2853" y="18231"/>
                </a:cubicBezTo>
                <a:cubicBezTo>
                  <a:pt x="2894" y="18226"/>
                  <a:pt x="2923" y="18245"/>
                  <a:pt x="2952" y="18207"/>
                </a:cubicBezTo>
                <a:cubicBezTo>
                  <a:pt x="3015" y="18126"/>
                  <a:pt x="3058" y="18025"/>
                  <a:pt x="3101" y="17934"/>
                </a:cubicBezTo>
                <a:cubicBezTo>
                  <a:pt x="3156" y="17816"/>
                  <a:pt x="3220" y="17705"/>
                  <a:pt x="3274" y="17587"/>
                </a:cubicBezTo>
                <a:cubicBezTo>
                  <a:pt x="3310" y="17507"/>
                  <a:pt x="3338" y="17403"/>
                  <a:pt x="3398" y="17338"/>
                </a:cubicBezTo>
                <a:cubicBezTo>
                  <a:pt x="3406" y="17330"/>
                  <a:pt x="3415" y="17322"/>
                  <a:pt x="3423" y="17314"/>
                </a:cubicBezTo>
                <a:cubicBezTo>
                  <a:pt x="3466" y="17400"/>
                  <a:pt x="3501" y="17508"/>
                  <a:pt x="3522" y="17611"/>
                </a:cubicBezTo>
                <a:cubicBezTo>
                  <a:pt x="3561" y="17798"/>
                  <a:pt x="3617" y="17974"/>
                  <a:pt x="3671" y="18157"/>
                </a:cubicBezTo>
                <a:cubicBezTo>
                  <a:pt x="3695" y="18238"/>
                  <a:pt x="3685" y="18340"/>
                  <a:pt x="3721" y="18331"/>
                </a:cubicBezTo>
                <a:cubicBezTo>
                  <a:pt x="3729" y="18323"/>
                  <a:pt x="3738" y="18314"/>
                  <a:pt x="3746" y="18306"/>
                </a:cubicBezTo>
              </a:path>
              <a:path w="943" h="1042">
                <a:moveTo>
                  <a:pt x="3225" y="17686"/>
                </a:moveTo>
                <a:cubicBezTo>
                  <a:pt x="3336" y="17705"/>
                  <a:pt x="3434" y="17767"/>
                  <a:pt x="3547" y="17785"/>
                </a:cubicBezTo>
                <a:cubicBezTo>
                  <a:pt x="3621" y="17793"/>
                  <a:pt x="3696" y="17802"/>
                  <a:pt x="3770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1120" y="5232240"/>
            <a:ext cx="357120" cy="438480"/>
          </a:xfrm>
          <a:custGeom>
            <a:avLst/>
            <a:gdLst/>
            <a:ahLst/>
            <a:rect l="l" t="t" r="r" b="b"/>
            <a:pathLst>
              <a:path w="994" h="1216">
                <a:moveTo>
                  <a:pt x="4589" y="15106"/>
                </a:moveTo>
                <a:cubicBezTo>
                  <a:pt x="4576" y="15145"/>
                  <a:pt x="4552" y="15122"/>
                  <a:pt x="4514" y="15156"/>
                </a:cubicBezTo>
                <a:cubicBezTo>
                  <a:pt x="4480" y="15186"/>
                  <a:pt x="4456" y="15208"/>
                  <a:pt x="4440" y="15230"/>
                </a:cubicBezTo>
                <a:cubicBezTo>
                  <a:pt x="4407" y="15274"/>
                  <a:pt x="4390" y="15272"/>
                  <a:pt x="4390" y="15329"/>
                </a:cubicBezTo>
                <a:cubicBezTo>
                  <a:pt x="4390" y="15374"/>
                  <a:pt x="4452" y="15412"/>
                  <a:pt x="4490" y="15429"/>
                </a:cubicBezTo>
                <a:cubicBezTo>
                  <a:pt x="4565" y="15462"/>
                  <a:pt x="4625" y="15497"/>
                  <a:pt x="4688" y="15553"/>
                </a:cubicBezTo>
                <a:cubicBezTo>
                  <a:pt x="4707" y="15570"/>
                  <a:pt x="4764" y="15628"/>
                  <a:pt x="4762" y="15652"/>
                </a:cubicBezTo>
                <a:cubicBezTo>
                  <a:pt x="4756" y="15706"/>
                  <a:pt x="4724" y="15747"/>
                  <a:pt x="4688" y="15751"/>
                </a:cubicBezTo>
                <a:cubicBezTo>
                  <a:pt x="4664" y="15754"/>
                  <a:pt x="4638" y="15751"/>
                  <a:pt x="4614" y="15751"/>
                </a:cubicBezTo>
                <a:cubicBezTo>
                  <a:pt x="4614" y="15695"/>
                  <a:pt x="4605" y="15694"/>
                  <a:pt x="4614" y="15652"/>
                </a:cubicBezTo>
                <a:cubicBezTo>
                  <a:pt x="4629" y="15587"/>
                  <a:pt x="4623" y="15518"/>
                  <a:pt x="4638" y="15453"/>
                </a:cubicBezTo>
                <a:cubicBezTo>
                  <a:pt x="4662" y="15347"/>
                  <a:pt x="4636" y="15206"/>
                  <a:pt x="4614" y="15106"/>
                </a:cubicBezTo>
                <a:cubicBezTo>
                  <a:pt x="4614" y="15073"/>
                  <a:pt x="4614" y="15057"/>
                  <a:pt x="4614" y="15032"/>
                </a:cubicBezTo>
              </a:path>
              <a:path w="994" h="1216">
                <a:moveTo>
                  <a:pt x="4738" y="14808"/>
                </a:moveTo>
                <a:cubicBezTo>
                  <a:pt x="4780" y="14900"/>
                  <a:pt x="4816" y="14989"/>
                  <a:pt x="4862" y="15081"/>
                </a:cubicBezTo>
                <a:cubicBezTo>
                  <a:pt x="4900" y="15157"/>
                  <a:pt x="4980" y="15200"/>
                  <a:pt x="5011" y="15280"/>
                </a:cubicBezTo>
                <a:cubicBezTo>
                  <a:pt x="5029" y="15328"/>
                  <a:pt x="5049" y="15346"/>
                  <a:pt x="5060" y="15379"/>
                </a:cubicBezTo>
              </a:path>
              <a:path w="994" h="1216">
                <a:moveTo>
                  <a:pt x="5035" y="14635"/>
                </a:moveTo>
                <a:cubicBezTo>
                  <a:pt x="5046" y="14691"/>
                  <a:pt x="5060" y="14725"/>
                  <a:pt x="5060" y="14784"/>
                </a:cubicBezTo>
                <a:cubicBezTo>
                  <a:pt x="5060" y="14843"/>
                  <a:pt x="5076" y="14887"/>
                  <a:pt x="5085" y="14932"/>
                </a:cubicBezTo>
                <a:cubicBezTo>
                  <a:pt x="5094" y="14978"/>
                  <a:pt x="5107" y="15052"/>
                  <a:pt x="5159" y="15081"/>
                </a:cubicBezTo>
                <a:cubicBezTo>
                  <a:pt x="5186" y="15096"/>
                  <a:pt x="5248" y="15124"/>
                  <a:pt x="5283" y="15106"/>
                </a:cubicBezTo>
                <a:cubicBezTo>
                  <a:pt x="5324" y="15085"/>
                  <a:pt x="5339" y="15035"/>
                  <a:pt x="5358" y="15007"/>
                </a:cubicBezTo>
                <a:cubicBezTo>
                  <a:pt x="5386" y="14965"/>
                  <a:pt x="5399" y="14888"/>
                  <a:pt x="5383" y="14833"/>
                </a:cubicBezTo>
                <a:cubicBezTo>
                  <a:pt x="5367" y="14776"/>
                  <a:pt x="5338" y="14733"/>
                  <a:pt x="5308" y="14684"/>
                </a:cubicBezTo>
                <a:cubicBezTo>
                  <a:pt x="5290" y="14654"/>
                  <a:pt x="5250" y="14572"/>
                  <a:pt x="5209" y="14560"/>
                </a:cubicBezTo>
                <a:cubicBezTo>
                  <a:pt x="5166" y="14548"/>
                  <a:pt x="5131" y="14536"/>
                  <a:pt x="5085" y="14536"/>
                </a:cubicBezTo>
                <a:cubicBezTo>
                  <a:pt x="5044" y="14536"/>
                  <a:pt x="5002" y="14536"/>
                  <a:pt x="4961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0080" y="470520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6028" y="13618"/>
                </a:moveTo>
                <a:cubicBezTo>
                  <a:pt x="6063" y="13559"/>
                  <a:pt x="6063" y="13532"/>
                  <a:pt x="6102" y="13519"/>
                </a:cubicBezTo>
                <a:cubicBezTo>
                  <a:pt x="6102" y="13580"/>
                  <a:pt x="6124" y="13631"/>
                  <a:pt x="6127" y="13692"/>
                </a:cubicBezTo>
                <a:cubicBezTo>
                  <a:pt x="6130" y="13758"/>
                  <a:pt x="6127" y="13825"/>
                  <a:pt x="6127" y="13891"/>
                </a:cubicBezTo>
                <a:cubicBezTo>
                  <a:pt x="6127" y="13950"/>
                  <a:pt x="6111" y="13825"/>
                  <a:pt x="6102" y="13767"/>
                </a:cubicBezTo>
                <a:cubicBezTo>
                  <a:pt x="6078" y="13606"/>
                  <a:pt x="6106" y="13427"/>
                  <a:pt x="6127" y="13271"/>
                </a:cubicBezTo>
                <a:cubicBezTo>
                  <a:pt x="6136" y="13206"/>
                  <a:pt x="6155" y="13105"/>
                  <a:pt x="6226" y="13072"/>
                </a:cubicBezTo>
                <a:cubicBezTo>
                  <a:pt x="6267" y="13053"/>
                  <a:pt x="6368" y="13074"/>
                  <a:pt x="6400" y="13097"/>
                </a:cubicBezTo>
                <a:cubicBezTo>
                  <a:pt x="6473" y="13149"/>
                  <a:pt x="6495" y="13236"/>
                  <a:pt x="6499" y="13320"/>
                </a:cubicBezTo>
                <a:cubicBezTo>
                  <a:pt x="6503" y="13397"/>
                  <a:pt x="6368" y="13464"/>
                  <a:pt x="6300" y="13494"/>
                </a:cubicBezTo>
                <a:cubicBezTo>
                  <a:pt x="6269" y="13508"/>
                  <a:pt x="6255" y="13515"/>
                  <a:pt x="6226" y="13543"/>
                </a:cubicBezTo>
                <a:cubicBezTo>
                  <a:pt x="6274" y="13579"/>
                  <a:pt x="6317" y="13578"/>
                  <a:pt x="6375" y="13593"/>
                </a:cubicBezTo>
                <a:cubicBezTo>
                  <a:pt x="6446" y="13612"/>
                  <a:pt x="6537" y="13650"/>
                  <a:pt x="6598" y="13692"/>
                </a:cubicBezTo>
                <a:cubicBezTo>
                  <a:pt x="6621" y="13715"/>
                  <a:pt x="6629" y="13719"/>
                  <a:pt x="6623" y="13742"/>
                </a:cubicBezTo>
                <a:cubicBezTo>
                  <a:pt x="6584" y="13810"/>
                  <a:pt x="6550" y="13836"/>
                  <a:pt x="6474" y="13866"/>
                </a:cubicBezTo>
                <a:cubicBezTo>
                  <a:pt x="6384" y="13902"/>
                  <a:pt x="6272" y="13911"/>
                  <a:pt x="6176" y="13915"/>
                </a:cubicBezTo>
                <a:cubicBezTo>
                  <a:pt x="6137" y="13917"/>
                  <a:pt x="6037" y="13943"/>
                  <a:pt x="6028" y="13915"/>
                </a:cubicBezTo>
                <a:cubicBezTo>
                  <a:pt x="6028" y="13899"/>
                  <a:pt x="6028" y="13882"/>
                  <a:pt x="6028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0200" y="4456080"/>
            <a:ext cx="3214800" cy="1812960"/>
          </a:xfrm>
          <a:custGeom>
            <a:avLst/>
            <a:gdLst/>
            <a:ahLst/>
            <a:rect l="l" t="t" r="r" b="b"/>
            <a:pathLst>
              <a:path w="8931" h="5036">
                <a:moveTo>
                  <a:pt x="3696" y="17214"/>
                </a:moveTo>
                <a:cubicBezTo>
                  <a:pt x="3696" y="17239"/>
                  <a:pt x="3696" y="17247"/>
                  <a:pt x="3696" y="17264"/>
                </a:cubicBezTo>
                <a:cubicBezTo>
                  <a:pt x="3726" y="17254"/>
                  <a:pt x="3739" y="17232"/>
                  <a:pt x="3721" y="17239"/>
                </a:cubicBezTo>
                <a:cubicBezTo>
                  <a:pt x="3696" y="17239"/>
                  <a:pt x="3688" y="17239"/>
                  <a:pt x="3696" y="17264"/>
                </a:cubicBezTo>
                <a:cubicBezTo>
                  <a:pt x="3749" y="17264"/>
                  <a:pt x="3733" y="17252"/>
                  <a:pt x="3770" y="17239"/>
                </a:cubicBezTo>
                <a:cubicBezTo>
                  <a:pt x="3718" y="17239"/>
                  <a:pt x="3721" y="17237"/>
                  <a:pt x="3721" y="17289"/>
                </a:cubicBezTo>
                <a:cubicBezTo>
                  <a:pt x="3721" y="17325"/>
                  <a:pt x="3736" y="17325"/>
                  <a:pt x="3770" y="17314"/>
                </a:cubicBezTo>
                <a:cubicBezTo>
                  <a:pt x="3778" y="17314"/>
                  <a:pt x="3787" y="17314"/>
                  <a:pt x="3795" y="17314"/>
                </a:cubicBezTo>
              </a:path>
              <a:path w="8931" h="5036">
                <a:moveTo>
                  <a:pt x="3770" y="17239"/>
                </a:moveTo>
                <a:cubicBezTo>
                  <a:pt x="3770" y="17231"/>
                  <a:pt x="3770" y="17222"/>
                  <a:pt x="3770" y="17214"/>
                </a:cubicBezTo>
                <a:cubicBezTo>
                  <a:pt x="3777" y="17204"/>
                  <a:pt x="3806" y="17161"/>
                  <a:pt x="3820" y="17140"/>
                </a:cubicBezTo>
                <a:cubicBezTo>
                  <a:pt x="3840" y="17122"/>
                  <a:pt x="3870" y="17125"/>
                  <a:pt x="3894" y="17090"/>
                </a:cubicBezTo>
                <a:cubicBezTo>
                  <a:pt x="3905" y="17073"/>
                  <a:pt x="3909" y="17033"/>
                  <a:pt x="3919" y="17016"/>
                </a:cubicBezTo>
                <a:cubicBezTo>
                  <a:pt x="3933" y="17000"/>
                  <a:pt x="3971" y="16975"/>
                  <a:pt x="3994" y="16942"/>
                </a:cubicBezTo>
                <a:cubicBezTo>
                  <a:pt x="4016" y="16911"/>
                  <a:pt x="4053" y="16887"/>
                  <a:pt x="4068" y="16867"/>
                </a:cubicBezTo>
                <a:cubicBezTo>
                  <a:pt x="4096" y="16831"/>
                  <a:pt x="4108" y="16804"/>
                  <a:pt x="4142" y="16768"/>
                </a:cubicBezTo>
                <a:cubicBezTo>
                  <a:pt x="4176" y="16732"/>
                  <a:pt x="4241" y="16696"/>
                  <a:pt x="4266" y="16669"/>
                </a:cubicBezTo>
                <a:cubicBezTo>
                  <a:pt x="4307" y="16624"/>
                  <a:pt x="4319" y="16586"/>
                  <a:pt x="4366" y="16545"/>
                </a:cubicBezTo>
                <a:cubicBezTo>
                  <a:pt x="4389" y="16525"/>
                  <a:pt x="4435" y="16499"/>
                  <a:pt x="4465" y="16470"/>
                </a:cubicBezTo>
                <a:cubicBezTo>
                  <a:pt x="4496" y="16441"/>
                  <a:pt x="4518" y="16394"/>
                  <a:pt x="4539" y="16371"/>
                </a:cubicBezTo>
                <a:cubicBezTo>
                  <a:pt x="4581" y="16324"/>
                  <a:pt x="4628" y="16261"/>
                  <a:pt x="4663" y="16222"/>
                </a:cubicBezTo>
                <a:cubicBezTo>
                  <a:pt x="4722" y="16156"/>
                  <a:pt x="4779" y="16089"/>
                  <a:pt x="4837" y="16024"/>
                </a:cubicBezTo>
                <a:cubicBezTo>
                  <a:pt x="4901" y="15952"/>
                  <a:pt x="4971" y="15893"/>
                  <a:pt x="5035" y="15825"/>
                </a:cubicBezTo>
                <a:cubicBezTo>
                  <a:pt x="5092" y="15764"/>
                  <a:pt x="5151" y="15680"/>
                  <a:pt x="5209" y="15627"/>
                </a:cubicBezTo>
                <a:cubicBezTo>
                  <a:pt x="5258" y="15582"/>
                  <a:pt x="5311" y="15557"/>
                  <a:pt x="5358" y="15503"/>
                </a:cubicBezTo>
                <a:cubicBezTo>
                  <a:pt x="5427" y="15424"/>
                  <a:pt x="5461" y="15394"/>
                  <a:pt x="5531" y="15329"/>
                </a:cubicBezTo>
                <a:cubicBezTo>
                  <a:pt x="5577" y="15286"/>
                  <a:pt x="5613" y="15218"/>
                  <a:pt x="5655" y="15180"/>
                </a:cubicBezTo>
                <a:cubicBezTo>
                  <a:pt x="5702" y="15137"/>
                  <a:pt x="5763" y="15104"/>
                  <a:pt x="5804" y="15056"/>
                </a:cubicBezTo>
                <a:cubicBezTo>
                  <a:pt x="5855" y="14996"/>
                  <a:pt x="5904" y="14921"/>
                  <a:pt x="5953" y="14858"/>
                </a:cubicBezTo>
                <a:cubicBezTo>
                  <a:pt x="5990" y="14811"/>
                  <a:pt x="6012" y="14755"/>
                  <a:pt x="6052" y="14709"/>
                </a:cubicBezTo>
                <a:cubicBezTo>
                  <a:pt x="6086" y="14669"/>
                  <a:pt x="6136" y="14628"/>
                  <a:pt x="6176" y="14585"/>
                </a:cubicBezTo>
                <a:cubicBezTo>
                  <a:pt x="6213" y="14545"/>
                  <a:pt x="6263" y="14470"/>
                  <a:pt x="6300" y="14436"/>
                </a:cubicBezTo>
                <a:cubicBezTo>
                  <a:pt x="6341" y="14399"/>
                  <a:pt x="6386" y="14379"/>
                  <a:pt x="6424" y="14337"/>
                </a:cubicBezTo>
                <a:cubicBezTo>
                  <a:pt x="6457" y="14300"/>
                  <a:pt x="6474" y="14276"/>
                  <a:pt x="6499" y="14238"/>
                </a:cubicBezTo>
                <a:cubicBezTo>
                  <a:pt x="6522" y="14215"/>
                  <a:pt x="6530" y="14211"/>
                  <a:pt x="6524" y="14188"/>
                </a:cubicBezTo>
                <a:cubicBezTo>
                  <a:pt x="6540" y="14155"/>
                  <a:pt x="6532" y="14172"/>
                  <a:pt x="6548" y="14139"/>
                </a:cubicBezTo>
              </a:path>
              <a:path w="8931" h="5036">
                <a:moveTo>
                  <a:pt x="6598" y="13990"/>
                </a:moveTo>
                <a:cubicBezTo>
                  <a:pt x="6650" y="13976"/>
                  <a:pt x="6697" y="13981"/>
                  <a:pt x="6747" y="13965"/>
                </a:cubicBezTo>
                <a:cubicBezTo>
                  <a:pt x="6782" y="13954"/>
                  <a:pt x="6809" y="13926"/>
                  <a:pt x="6846" y="13915"/>
                </a:cubicBezTo>
                <a:cubicBezTo>
                  <a:pt x="6923" y="13892"/>
                  <a:pt x="7000" y="13861"/>
                  <a:pt x="7069" y="13841"/>
                </a:cubicBezTo>
                <a:cubicBezTo>
                  <a:pt x="7123" y="13825"/>
                  <a:pt x="7189" y="13834"/>
                  <a:pt x="7243" y="13816"/>
                </a:cubicBezTo>
                <a:cubicBezTo>
                  <a:pt x="7308" y="13794"/>
                  <a:pt x="7350" y="13762"/>
                  <a:pt x="7417" y="13742"/>
                </a:cubicBezTo>
                <a:cubicBezTo>
                  <a:pt x="7504" y="13716"/>
                  <a:pt x="7582" y="13694"/>
                  <a:pt x="7665" y="13667"/>
                </a:cubicBezTo>
                <a:cubicBezTo>
                  <a:pt x="7739" y="13643"/>
                  <a:pt x="7812" y="13618"/>
                  <a:pt x="7888" y="13593"/>
                </a:cubicBezTo>
                <a:cubicBezTo>
                  <a:pt x="7959" y="13570"/>
                  <a:pt x="8037" y="13545"/>
                  <a:pt x="8111" y="13519"/>
                </a:cubicBezTo>
                <a:cubicBezTo>
                  <a:pt x="8221" y="13480"/>
                  <a:pt x="8326" y="13455"/>
                  <a:pt x="8434" y="13419"/>
                </a:cubicBezTo>
                <a:cubicBezTo>
                  <a:pt x="8510" y="13394"/>
                  <a:pt x="8583" y="13370"/>
                  <a:pt x="8657" y="13345"/>
                </a:cubicBezTo>
                <a:cubicBezTo>
                  <a:pt x="8732" y="13320"/>
                  <a:pt x="8803" y="13293"/>
                  <a:pt x="8880" y="13271"/>
                </a:cubicBezTo>
                <a:cubicBezTo>
                  <a:pt x="8970" y="13245"/>
                  <a:pt x="9061" y="13219"/>
                  <a:pt x="9153" y="13196"/>
                </a:cubicBezTo>
                <a:cubicBezTo>
                  <a:pt x="9243" y="13174"/>
                  <a:pt x="9336" y="13147"/>
                  <a:pt x="9426" y="13122"/>
                </a:cubicBezTo>
                <a:cubicBezTo>
                  <a:pt x="9507" y="13099"/>
                  <a:pt x="9595" y="13095"/>
                  <a:pt x="9674" y="13072"/>
                </a:cubicBezTo>
                <a:cubicBezTo>
                  <a:pt x="9752" y="13050"/>
                  <a:pt x="9821" y="13020"/>
                  <a:pt x="9897" y="12998"/>
                </a:cubicBezTo>
                <a:cubicBezTo>
                  <a:pt x="9986" y="12973"/>
                  <a:pt x="10078" y="12950"/>
                  <a:pt x="10170" y="12923"/>
                </a:cubicBezTo>
                <a:cubicBezTo>
                  <a:pt x="10244" y="12901"/>
                  <a:pt x="10317" y="12869"/>
                  <a:pt x="10393" y="12849"/>
                </a:cubicBezTo>
                <a:cubicBezTo>
                  <a:pt x="10464" y="12830"/>
                  <a:pt x="10545" y="12816"/>
                  <a:pt x="10616" y="12799"/>
                </a:cubicBezTo>
                <a:cubicBezTo>
                  <a:pt x="10692" y="12781"/>
                  <a:pt x="10765" y="12773"/>
                  <a:pt x="10840" y="12750"/>
                </a:cubicBezTo>
                <a:cubicBezTo>
                  <a:pt x="10909" y="12729"/>
                  <a:pt x="10968" y="12700"/>
                  <a:pt x="11038" y="12675"/>
                </a:cubicBezTo>
                <a:cubicBezTo>
                  <a:pt x="11089" y="12657"/>
                  <a:pt x="11162" y="12649"/>
                  <a:pt x="11212" y="12626"/>
                </a:cubicBezTo>
                <a:cubicBezTo>
                  <a:pt x="11252" y="12608"/>
                  <a:pt x="11295" y="12569"/>
                  <a:pt x="11336" y="12551"/>
                </a:cubicBezTo>
                <a:cubicBezTo>
                  <a:pt x="11366" y="12538"/>
                  <a:pt x="11406" y="12539"/>
                  <a:pt x="11435" y="12526"/>
                </a:cubicBezTo>
                <a:cubicBezTo>
                  <a:pt x="11470" y="12510"/>
                  <a:pt x="11499" y="12492"/>
                  <a:pt x="11534" y="12477"/>
                </a:cubicBezTo>
                <a:cubicBezTo>
                  <a:pt x="11523" y="12513"/>
                  <a:pt x="11589" y="12501"/>
                  <a:pt x="11559" y="12551"/>
                </a:cubicBezTo>
                <a:cubicBezTo>
                  <a:pt x="11547" y="12571"/>
                  <a:pt x="11512" y="12620"/>
                  <a:pt x="11509" y="12626"/>
                </a:cubicBezTo>
                <a:cubicBezTo>
                  <a:pt x="11493" y="12656"/>
                  <a:pt x="11476" y="12654"/>
                  <a:pt x="11460" y="12675"/>
                </a:cubicBezTo>
                <a:cubicBezTo>
                  <a:pt x="11432" y="12712"/>
                  <a:pt x="11421" y="12738"/>
                  <a:pt x="11385" y="12774"/>
                </a:cubicBezTo>
                <a:cubicBezTo>
                  <a:pt x="11310" y="12849"/>
                  <a:pt x="11219" y="12905"/>
                  <a:pt x="11137" y="12973"/>
                </a:cubicBezTo>
                <a:cubicBezTo>
                  <a:pt x="11090" y="13012"/>
                  <a:pt x="11040" y="13056"/>
                  <a:pt x="10988" y="13097"/>
                </a:cubicBezTo>
                <a:cubicBezTo>
                  <a:pt x="10908" y="13160"/>
                  <a:pt x="10824" y="13214"/>
                  <a:pt x="10740" y="13271"/>
                </a:cubicBezTo>
                <a:cubicBezTo>
                  <a:pt x="10633" y="13344"/>
                  <a:pt x="10527" y="13417"/>
                  <a:pt x="10418" y="13494"/>
                </a:cubicBezTo>
                <a:cubicBezTo>
                  <a:pt x="10338" y="13550"/>
                  <a:pt x="10251" y="13592"/>
                  <a:pt x="10170" y="13643"/>
                </a:cubicBezTo>
                <a:cubicBezTo>
                  <a:pt x="10087" y="13695"/>
                  <a:pt x="10006" y="13763"/>
                  <a:pt x="9922" y="13816"/>
                </a:cubicBezTo>
                <a:cubicBezTo>
                  <a:pt x="9842" y="13866"/>
                  <a:pt x="9755" y="13910"/>
                  <a:pt x="9674" y="13965"/>
                </a:cubicBezTo>
                <a:cubicBezTo>
                  <a:pt x="9430" y="14130"/>
                  <a:pt x="9175" y="14283"/>
                  <a:pt x="8930" y="14436"/>
                </a:cubicBezTo>
                <a:cubicBezTo>
                  <a:pt x="8845" y="14489"/>
                  <a:pt x="8763" y="14555"/>
                  <a:pt x="8682" y="14610"/>
                </a:cubicBezTo>
                <a:cubicBezTo>
                  <a:pt x="8598" y="14666"/>
                  <a:pt x="8523" y="14728"/>
                  <a:pt x="8434" y="14784"/>
                </a:cubicBezTo>
                <a:cubicBezTo>
                  <a:pt x="8315" y="14860"/>
                  <a:pt x="8186" y="14960"/>
                  <a:pt x="8062" y="15032"/>
                </a:cubicBezTo>
                <a:cubicBezTo>
                  <a:pt x="7975" y="15083"/>
                  <a:pt x="7878" y="15127"/>
                  <a:pt x="7789" y="15180"/>
                </a:cubicBezTo>
                <a:cubicBezTo>
                  <a:pt x="7709" y="15228"/>
                  <a:pt x="7624" y="15277"/>
                  <a:pt x="7541" y="15329"/>
                </a:cubicBezTo>
                <a:cubicBezTo>
                  <a:pt x="7396" y="15421"/>
                  <a:pt x="7243" y="15492"/>
                  <a:pt x="7094" y="15577"/>
                </a:cubicBezTo>
                <a:cubicBezTo>
                  <a:pt x="7013" y="15623"/>
                  <a:pt x="6934" y="15681"/>
                  <a:pt x="6846" y="15726"/>
                </a:cubicBezTo>
                <a:cubicBezTo>
                  <a:pt x="6753" y="15773"/>
                  <a:pt x="6665" y="15828"/>
                  <a:pt x="6573" y="15875"/>
                </a:cubicBezTo>
                <a:cubicBezTo>
                  <a:pt x="6464" y="15931"/>
                  <a:pt x="6354" y="15993"/>
                  <a:pt x="6251" y="16049"/>
                </a:cubicBezTo>
                <a:cubicBezTo>
                  <a:pt x="6128" y="16116"/>
                  <a:pt x="6000" y="16173"/>
                  <a:pt x="5879" y="16247"/>
                </a:cubicBezTo>
                <a:cubicBezTo>
                  <a:pt x="5729" y="16338"/>
                  <a:pt x="5578" y="16434"/>
                  <a:pt x="5432" y="16520"/>
                </a:cubicBezTo>
                <a:cubicBezTo>
                  <a:pt x="5322" y="16584"/>
                  <a:pt x="5215" y="16652"/>
                  <a:pt x="5110" y="16718"/>
                </a:cubicBezTo>
                <a:cubicBezTo>
                  <a:pt x="5043" y="16760"/>
                  <a:pt x="4979" y="16799"/>
                  <a:pt x="4911" y="16842"/>
                </a:cubicBezTo>
                <a:cubicBezTo>
                  <a:pt x="4844" y="16884"/>
                  <a:pt x="4780" y="16926"/>
                  <a:pt x="4713" y="16966"/>
                </a:cubicBezTo>
                <a:cubicBezTo>
                  <a:pt x="4600" y="17034"/>
                  <a:pt x="4479" y="17081"/>
                  <a:pt x="4366" y="17140"/>
                </a:cubicBezTo>
                <a:cubicBezTo>
                  <a:pt x="4324" y="17162"/>
                  <a:pt x="4283" y="17196"/>
                  <a:pt x="4242" y="17214"/>
                </a:cubicBezTo>
                <a:cubicBezTo>
                  <a:pt x="4190" y="17237"/>
                  <a:pt x="4142" y="17266"/>
                  <a:pt x="4093" y="17289"/>
                </a:cubicBezTo>
                <a:cubicBezTo>
                  <a:pt x="4059" y="17305"/>
                  <a:pt x="4028" y="17320"/>
                  <a:pt x="3994" y="17338"/>
                </a:cubicBezTo>
                <a:cubicBezTo>
                  <a:pt x="3970" y="17350"/>
                  <a:pt x="3926" y="17384"/>
                  <a:pt x="3919" y="17388"/>
                </a:cubicBezTo>
                <a:cubicBezTo>
                  <a:pt x="3884" y="17406"/>
                  <a:pt x="3874" y="17398"/>
                  <a:pt x="3845" y="17413"/>
                </a:cubicBezTo>
                <a:cubicBezTo>
                  <a:pt x="3832" y="17401"/>
                  <a:pt x="3806" y="17346"/>
                  <a:pt x="3795" y="17338"/>
                </a:cubicBezTo>
                <a:cubicBezTo>
                  <a:pt x="3782" y="17329"/>
                  <a:pt x="3702" y="17321"/>
                  <a:pt x="3696" y="17314"/>
                </a:cubicBezTo>
                <a:cubicBezTo>
                  <a:pt x="3679" y="17292"/>
                  <a:pt x="3768" y="17331"/>
                  <a:pt x="3746" y="17314"/>
                </a:cubicBezTo>
              </a:path>
              <a:path w="8931" h="5036">
                <a:moveTo>
                  <a:pt x="12278" y="12601"/>
                </a:moveTo>
                <a:cubicBezTo>
                  <a:pt x="12317" y="12639"/>
                  <a:pt x="12319" y="12656"/>
                  <a:pt x="12353" y="12650"/>
                </a:cubicBezTo>
                <a:cubicBezTo>
                  <a:pt x="12360" y="12596"/>
                  <a:pt x="12368" y="12568"/>
                  <a:pt x="12353" y="12526"/>
                </a:cubicBezTo>
                <a:cubicBezTo>
                  <a:pt x="12337" y="12480"/>
                  <a:pt x="12334" y="12439"/>
                  <a:pt x="12303" y="12402"/>
                </a:cubicBezTo>
                <a:cubicBezTo>
                  <a:pt x="12276" y="12370"/>
                  <a:pt x="12195" y="12368"/>
                  <a:pt x="12154" y="12378"/>
                </a:cubicBezTo>
                <a:cubicBezTo>
                  <a:pt x="12043" y="12406"/>
                  <a:pt x="11964" y="12486"/>
                  <a:pt x="11906" y="12576"/>
                </a:cubicBezTo>
                <a:cubicBezTo>
                  <a:pt x="11850" y="12663"/>
                  <a:pt x="11837" y="12726"/>
                  <a:pt x="11881" y="12824"/>
                </a:cubicBezTo>
                <a:cubicBezTo>
                  <a:pt x="11933" y="12940"/>
                  <a:pt x="12003" y="13001"/>
                  <a:pt x="12105" y="13072"/>
                </a:cubicBezTo>
                <a:cubicBezTo>
                  <a:pt x="12202" y="13140"/>
                  <a:pt x="12293" y="13153"/>
                  <a:pt x="12402" y="13196"/>
                </a:cubicBezTo>
                <a:cubicBezTo>
                  <a:pt x="12464" y="13220"/>
                  <a:pt x="12545" y="13242"/>
                  <a:pt x="12601" y="13271"/>
                </a:cubicBezTo>
                <a:cubicBezTo>
                  <a:pt x="12661" y="13302"/>
                  <a:pt x="12599" y="13261"/>
                  <a:pt x="12576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57240" y="6027840"/>
            <a:ext cx="384480" cy="2142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5159" y="16768"/>
                </a:moveTo>
                <a:cubicBezTo>
                  <a:pt x="5171" y="16818"/>
                  <a:pt x="5183" y="16818"/>
                  <a:pt x="5234" y="16818"/>
                </a:cubicBezTo>
                <a:cubicBezTo>
                  <a:pt x="5277" y="16818"/>
                  <a:pt x="5342" y="16827"/>
                  <a:pt x="5383" y="16842"/>
                </a:cubicBezTo>
                <a:cubicBezTo>
                  <a:pt x="5433" y="16860"/>
                  <a:pt x="5446" y="16858"/>
                  <a:pt x="5457" y="16892"/>
                </a:cubicBezTo>
                <a:cubicBezTo>
                  <a:pt x="5447" y="16923"/>
                  <a:pt x="5420" y="16947"/>
                  <a:pt x="5407" y="16991"/>
                </a:cubicBezTo>
                <a:cubicBezTo>
                  <a:pt x="5390" y="17047"/>
                  <a:pt x="5361" y="17083"/>
                  <a:pt x="5358" y="17140"/>
                </a:cubicBezTo>
                <a:cubicBezTo>
                  <a:pt x="5355" y="17199"/>
                  <a:pt x="5333" y="17226"/>
                  <a:pt x="5333" y="17289"/>
                </a:cubicBezTo>
                <a:cubicBezTo>
                  <a:pt x="5333" y="17365"/>
                  <a:pt x="5333" y="17318"/>
                  <a:pt x="5333" y="17264"/>
                </a:cubicBezTo>
              </a:path>
              <a:path w="1068" h="596">
                <a:moveTo>
                  <a:pt x="5705" y="16743"/>
                </a:moveTo>
                <a:cubicBezTo>
                  <a:pt x="5749" y="16776"/>
                  <a:pt x="5771" y="16768"/>
                  <a:pt x="5829" y="16768"/>
                </a:cubicBezTo>
                <a:cubicBezTo>
                  <a:pt x="5873" y="16768"/>
                  <a:pt x="5869" y="16769"/>
                  <a:pt x="5904" y="16743"/>
                </a:cubicBezTo>
              </a:path>
              <a:path w="1068" h="596">
                <a:moveTo>
                  <a:pt x="5631" y="16818"/>
                </a:moveTo>
                <a:cubicBezTo>
                  <a:pt x="5625" y="16825"/>
                  <a:pt x="5541" y="16910"/>
                  <a:pt x="5581" y="16942"/>
                </a:cubicBezTo>
                <a:cubicBezTo>
                  <a:pt x="5595" y="16953"/>
                  <a:pt x="5627" y="16982"/>
                  <a:pt x="5655" y="16991"/>
                </a:cubicBezTo>
                <a:cubicBezTo>
                  <a:pt x="5696" y="17005"/>
                  <a:pt x="5740" y="17033"/>
                  <a:pt x="5755" y="17041"/>
                </a:cubicBezTo>
                <a:cubicBezTo>
                  <a:pt x="5800" y="17064"/>
                  <a:pt x="5823" y="17077"/>
                  <a:pt x="5829" y="17140"/>
                </a:cubicBezTo>
                <a:cubicBezTo>
                  <a:pt x="5838" y="17226"/>
                  <a:pt x="5828" y="17220"/>
                  <a:pt x="5779" y="17264"/>
                </a:cubicBezTo>
                <a:cubicBezTo>
                  <a:pt x="5728" y="17310"/>
                  <a:pt x="5729" y="17280"/>
                  <a:pt x="5680" y="17264"/>
                </a:cubicBezTo>
                <a:cubicBezTo>
                  <a:pt x="5637" y="17250"/>
                  <a:pt x="5618" y="17236"/>
                  <a:pt x="5606" y="17190"/>
                </a:cubicBezTo>
              </a:path>
              <a:path w="1068" h="596">
                <a:moveTo>
                  <a:pt x="6028" y="16818"/>
                </a:moveTo>
                <a:cubicBezTo>
                  <a:pt x="6093" y="16905"/>
                  <a:pt x="6110" y="16920"/>
                  <a:pt x="6201" y="16892"/>
                </a:cubicBezTo>
                <a:cubicBezTo>
                  <a:pt x="6209" y="16892"/>
                  <a:pt x="6218" y="16892"/>
                  <a:pt x="6226" y="16892"/>
                </a:cubicBezTo>
                <a:cubicBezTo>
                  <a:pt x="6187" y="16839"/>
                  <a:pt x="6197" y="16847"/>
                  <a:pt x="6127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28920" y="4491000"/>
            <a:ext cx="519120" cy="777960"/>
          </a:xfrm>
          <a:custGeom>
            <a:avLst/>
            <a:gdLst/>
            <a:ahLst/>
            <a:rect l="l" t="t" r="r" b="b"/>
            <a:pathLst>
              <a:path w="1440" h="2159">
                <a:moveTo>
                  <a:pt x="7094" y="12898"/>
                </a:moveTo>
                <a:cubicBezTo>
                  <a:pt x="7094" y="12988"/>
                  <a:pt x="7090" y="13062"/>
                  <a:pt x="7069" y="13146"/>
                </a:cubicBezTo>
                <a:cubicBezTo>
                  <a:pt x="7052" y="13215"/>
                  <a:pt x="7077" y="13290"/>
                  <a:pt x="7094" y="13345"/>
                </a:cubicBezTo>
                <a:cubicBezTo>
                  <a:pt x="7102" y="13372"/>
                  <a:pt x="7113" y="13391"/>
                  <a:pt x="7144" y="13395"/>
                </a:cubicBezTo>
                <a:cubicBezTo>
                  <a:pt x="7194" y="13401"/>
                  <a:pt x="7199" y="13396"/>
                  <a:pt x="7218" y="13370"/>
                </a:cubicBezTo>
                <a:cubicBezTo>
                  <a:pt x="7251" y="13326"/>
                  <a:pt x="7313" y="13302"/>
                  <a:pt x="7317" y="13246"/>
                </a:cubicBezTo>
                <a:cubicBezTo>
                  <a:pt x="7321" y="13192"/>
                  <a:pt x="7342" y="13175"/>
                  <a:pt x="7342" y="13122"/>
                </a:cubicBezTo>
                <a:cubicBezTo>
                  <a:pt x="7342" y="13114"/>
                  <a:pt x="7342" y="13105"/>
                  <a:pt x="7342" y="13097"/>
                </a:cubicBezTo>
                <a:cubicBezTo>
                  <a:pt x="7298" y="13108"/>
                  <a:pt x="7287" y="13121"/>
                  <a:pt x="7268" y="13146"/>
                </a:cubicBezTo>
                <a:cubicBezTo>
                  <a:pt x="7245" y="13177"/>
                  <a:pt x="7222" y="13207"/>
                  <a:pt x="7218" y="13246"/>
                </a:cubicBezTo>
                <a:cubicBezTo>
                  <a:pt x="7214" y="13286"/>
                  <a:pt x="7218" y="13329"/>
                  <a:pt x="7218" y="13370"/>
                </a:cubicBezTo>
              </a:path>
              <a:path w="1440" h="2159">
                <a:moveTo>
                  <a:pt x="7516" y="12799"/>
                </a:moveTo>
                <a:cubicBezTo>
                  <a:pt x="7498" y="12840"/>
                  <a:pt x="7470" y="12883"/>
                  <a:pt x="7466" y="12923"/>
                </a:cubicBezTo>
                <a:cubicBezTo>
                  <a:pt x="7462" y="12955"/>
                  <a:pt x="7466" y="12990"/>
                  <a:pt x="7466" y="13022"/>
                </a:cubicBezTo>
                <a:cubicBezTo>
                  <a:pt x="7512" y="13037"/>
                  <a:pt x="7491" y="13066"/>
                  <a:pt x="7565" y="13072"/>
                </a:cubicBezTo>
                <a:cubicBezTo>
                  <a:pt x="7608" y="13076"/>
                  <a:pt x="7636" y="13115"/>
                  <a:pt x="7689" y="13097"/>
                </a:cubicBezTo>
                <a:cubicBezTo>
                  <a:pt x="7706" y="13089"/>
                  <a:pt x="7722" y="13080"/>
                  <a:pt x="7739" y="13072"/>
                </a:cubicBezTo>
              </a:path>
              <a:path w="1440" h="2159">
                <a:moveTo>
                  <a:pt x="7739" y="12650"/>
                </a:moveTo>
                <a:cubicBezTo>
                  <a:pt x="7730" y="12714"/>
                  <a:pt x="7714" y="12753"/>
                  <a:pt x="7714" y="12824"/>
                </a:cubicBezTo>
                <a:cubicBezTo>
                  <a:pt x="7714" y="12902"/>
                  <a:pt x="7706" y="12955"/>
                  <a:pt x="7714" y="13022"/>
                </a:cubicBezTo>
                <a:cubicBezTo>
                  <a:pt x="7721" y="13085"/>
                  <a:pt x="7684" y="13257"/>
                  <a:pt x="7739" y="13221"/>
                </a:cubicBezTo>
              </a:path>
              <a:path w="1440" h="2159">
                <a:moveTo>
                  <a:pt x="8086" y="12551"/>
                </a:moveTo>
                <a:cubicBezTo>
                  <a:pt x="8056" y="12574"/>
                  <a:pt x="8008" y="12612"/>
                  <a:pt x="7987" y="12626"/>
                </a:cubicBezTo>
                <a:cubicBezTo>
                  <a:pt x="7965" y="12641"/>
                  <a:pt x="7941" y="12675"/>
                  <a:pt x="7962" y="12725"/>
                </a:cubicBezTo>
                <a:cubicBezTo>
                  <a:pt x="7979" y="12765"/>
                  <a:pt x="8034" y="12839"/>
                  <a:pt x="8062" y="12874"/>
                </a:cubicBezTo>
                <a:cubicBezTo>
                  <a:pt x="8112" y="12935"/>
                  <a:pt x="8133" y="12951"/>
                  <a:pt x="8161" y="13022"/>
                </a:cubicBezTo>
                <a:cubicBezTo>
                  <a:pt x="8165" y="13032"/>
                  <a:pt x="8210" y="13127"/>
                  <a:pt x="8186" y="13146"/>
                </a:cubicBezTo>
                <a:cubicBezTo>
                  <a:pt x="8174" y="13155"/>
                  <a:pt x="8141" y="13188"/>
                  <a:pt x="8111" y="13171"/>
                </a:cubicBezTo>
                <a:cubicBezTo>
                  <a:pt x="8064" y="13145"/>
                  <a:pt x="8072" y="13136"/>
                  <a:pt x="8037" y="13097"/>
                </a:cubicBezTo>
                <a:cubicBezTo>
                  <a:pt x="8006" y="13062"/>
                  <a:pt x="8012" y="13044"/>
                  <a:pt x="8012" y="12998"/>
                </a:cubicBezTo>
                <a:cubicBezTo>
                  <a:pt x="8012" y="12946"/>
                  <a:pt x="8016" y="12869"/>
                  <a:pt x="8037" y="12824"/>
                </a:cubicBezTo>
                <a:cubicBezTo>
                  <a:pt x="8054" y="12787"/>
                  <a:pt x="8079" y="12738"/>
                  <a:pt x="8086" y="12700"/>
                </a:cubicBezTo>
                <a:cubicBezTo>
                  <a:pt x="8088" y="12689"/>
                  <a:pt x="8136" y="12577"/>
                  <a:pt x="8136" y="12576"/>
                </a:cubicBezTo>
                <a:cubicBezTo>
                  <a:pt x="8101" y="12541"/>
                  <a:pt x="8088" y="12519"/>
                  <a:pt x="8086" y="12477"/>
                </a:cubicBezTo>
              </a:path>
              <a:path w="1440" h="2159">
                <a:moveTo>
                  <a:pt x="6747" y="14238"/>
                </a:moveTo>
                <a:cubicBezTo>
                  <a:pt x="6756" y="14273"/>
                  <a:pt x="6789" y="14304"/>
                  <a:pt x="6796" y="14337"/>
                </a:cubicBezTo>
                <a:cubicBezTo>
                  <a:pt x="6807" y="14392"/>
                  <a:pt x="6798" y="14461"/>
                  <a:pt x="6821" y="14511"/>
                </a:cubicBezTo>
                <a:cubicBezTo>
                  <a:pt x="6841" y="14553"/>
                  <a:pt x="6846" y="14558"/>
                  <a:pt x="6846" y="14610"/>
                </a:cubicBezTo>
                <a:cubicBezTo>
                  <a:pt x="6846" y="14635"/>
                  <a:pt x="6846" y="14643"/>
                  <a:pt x="6871" y="14635"/>
                </a:cubicBezTo>
              </a:path>
              <a:path w="1440" h="2159">
                <a:moveTo>
                  <a:pt x="6945" y="14188"/>
                </a:moveTo>
                <a:cubicBezTo>
                  <a:pt x="6969" y="14147"/>
                  <a:pt x="6998" y="14099"/>
                  <a:pt x="7045" y="14089"/>
                </a:cubicBezTo>
                <a:cubicBezTo>
                  <a:pt x="7083" y="14081"/>
                  <a:pt x="7134" y="14095"/>
                  <a:pt x="7144" y="14114"/>
                </a:cubicBezTo>
                <a:cubicBezTo>
                  <a:pt x="7163" y="14153"/>
                  <a:pt x="7127" y="14207"/>
                  <a:pt x="7119" y="14238"/>
                </a:cubicBezTo>
                <a:cubicBezTo>
                  <a:pt x="7112" y="14267"/>
                  <a:pt x="7102" y="14283"/>
                  <a:pt x="7094" y="14312"/>
                </a:cubicBezTo>
                <a:cubicBezTo>
                  <a:pt x="7135" y="14282"/>
                  <a:pt x="7152" y="14276"/>
                  <a:pt x="7193" y="14312"/>
                </a:cubicBezTo>
                <a:cubicBezTo>
                  <a:pt x="7226" y="14341"/>
                  <a:pt x="7263" y="14370"/>
                  <a:pt x="7268" y="14412"/>
                </a:cubicBezTo>
                <a:cubicBezTo>
                  <a:pt x="7274" y="14467"/>
                  <a:pt x="7314" y="14460"/>
                  <a:pt x="7268" y="14511"/>
                </a:cubicBezTo>
                <a:cubicBezTo>
                  <a:pt x="7245" y="14537"/>
                  <a:pt x="7202" y="14556"/>
                  <a:pt x="7169" y="14560"/>
                </a:cubicBezTo>
                <a:cubicBezTo>
                  <a:pt x="7105" y="14567"/>
                  <a:pt x="7105" y="14563"/>
                  <a:pt x="7069" y="14511"/>
                </a:cubicBezTo>
              </a:path>
              <a:path w="1440" h="2159">
                <a:moveTo>
                  <a:pt x="7293" y="14015"/>
                </a:moveTo>
                <a:cubicBezTo>
                  <a:pt x="7293" y="14007"/>
                  <a:pt x="7293" y="13998"/>
                  <a:pt x="7293" y="13990"/>
                </a:cubicBezTo>
                <a:cubicBezTo>
                  <a:pt x="7316" y="13982"/>
                  <a:pt x="7339" y="13981"/>
                  <a:pt x="7367" y="13965"/>
                </a:cubicBezTo>
                <a:cubicBezTo>
                  <a:pt x="7408" y="13942"/>
                  <a:pt x="7415" y="13940"/>
                  <a:pt x="7466" y="13940"/>
                </a:cubicBezTo>
                <a:cubicBezTo>
                  <a:pt x="7474" y="13940"/>
                  <a:pt x="7483" y="13940"/>
                  <a:pt x="7491" y="13940"/>
                </a:cubicBezTo>
                <a:cubicBezTo>
                  <a:pt x="7499" y="13963"/>
                  <a:pt x="7500" y="13988"/>
                  <a:pt x="7516" y="14015"/>
                </a:cubicBezTo>
                <a:cubicBezTo>
                  <a:pt x="7544" y="14064"/>
                  <a:pt x="7520" y="14087"/>
                  <a:pt x="7541" y="14139"/>
                </a:cubicBezTo>
                <a:cubicBezTo>
                  <a:pt x="7555" y="14173"/>
                  <a:pt x="7549" y="14232"/>
                  <a:pt x="7565" y="14263"/>
                </a:cubicBezTo>
                <a:cubicBezTo>
                  <a:pt x="7584" y="14301"/>
                  <a:pt x="7605" y="14320"/>
                  <a:pt x="7615" y="14362"/>
                </a:cubicBezTo>
                <a:cubicBezTo>
                  <a:pt x="7640" y="14362"/>
                  <a:pt x="7648" y="14362"/>
                  <a:pt x="7640" y="14337"/>
                </a:cubicBezTo>
              </a:path>
              <a:path w="1440" h="2159">
                <a:moveTo>
                  <a:pt x="7714" y="13767"/>
                </a:moveTo>
                <a:cubicBezTo>
                  <a:pt x="7704" y="13806"/>
                  <a:pt x="7689" y="13821"/>
                  <a:pt x="7689" y="13866"/>
                </a:cubicBezTo>
                <a:cubicBezTo>
                  <a:pt x="7689" y="13903"/>
                  <a:pt x="7718" y="13899"/>
                  <a:pt x="7739" y="13915"/>
                </a:cubicBezTo>
                <a:cubicBezTo>
                  <a:pt x="7781" y="13947"/>
                  <a:pt x="7796" y="13952"/>
                  <a:pt x="7838" y="13915"/>
                </a:cubicBezTo>
                <a:cubicBezTo>
                  <a:pt x="7875" y="13883"/>
                  <a:pt x="7861" y="13850"/>
                  <a:pt x="7838" y="13816"/>
                </a:cubicBezTo>
                <a:cubicBezTo>
                  <a:pt x="7821" y="13791"/>
                  <a:pt x="7782" y="13769"/>
                  <a:pt x="7764" y="13767"/>
                </a:cubicBezTo>
                <a:cubicBezTo>
                  <a:pt x="7736" y="13767"/>
                  <a:pt x="7725" y="13769"/>
                  <a:pt x="7714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1760" y="6286680"/>
            <a:ext cx="214200" cy="26640"/>
          </a:xfrm>
          <a:custGeom>
            <a:avLst/>
            <a:gdLst/>
            <a:ahLst/>
            <a:rect l="l" t="t" r="r" b="b"/>
            <a:pathLst>
              <a:path w="596" h="76">
                <a:moveTo>
                  <a:pt x="4366" y="17537"/>
                </a:moveTo>
                <a:cubicBezTo>
                  <a:pt x="4428" y="17524"/>
                  <a:pt x="4473" y="17512"/>
                  <a:pt x="4539" y="17512"/>
                </a:cubicBezTo>
              </a:path>
              <a:path w="596" h="76">
                <a:moveTo>
                  <a:pt x="4762" y="17462"/>
                </a:moveTo>
                <a:cubicBezTo>
                  <a:pt x="4828" y="17462"/>
                  <a:pt x="4895" y="17462"/>
                  <a:pt x="4961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84240" y="625968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5234" y="17388"/>
                </a:moveTo>
                <a:cubicBezTo>
                  <a:pt x="5275" y="17388"/>
                  <a:pt x="5317" y="17388"/>
                  <a:pt x="5358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7800" y="6259680"/>
            <a:ext cx="3636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5606" y="17388"/>
                </a:moveTo>
                <a:cubicBezTo>
                  <a:pt x="5639" y="17388"/>
                  <a:pt x="5672" y="17388"/>
                  <a:pt x="5705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24080" y="6249960"/>
            <a:ext cx="81000" cy="1440"/>
          </a:xfrm>
          <a:custGeom>
            <a:avLst/>
            <a:gdLst/>
            <a:ahLst/>
            <a:rect l="l" t="t" r="r" b="b"/>
            <a:pathLst>
              <a:path w="225" h="1">
                <a:moveTo>
                  <a:pt x="6176" y="17363"/>
                </a:moveTo>
                <a:cubicBezTo>
                  <a:pt x="6251" y="17363"/>
                  <a:pt x="6325" y="17363"/>
                  <a:pt x="6400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6200" y="6232680"/>
            <a:ext cx="71640" cy="9360"/>
          </a:xfrm>
          <a:custGeom>
            <a:avLst/>
            <a:gdLst/>
            <a:ahLst/>
            <a:rect l="l" t="t" r="r" b="b"/>
            <a:pathLst>
              <a:path w="200" h="25">
                <a:moveTo>
                  <a:pt x="6796" y="17338"/>
                </a:moveTo>
                <a:cubicBezTo>
                  <a:pt x="6872" y="17338"/>
                  <a:pt x="6923" y="17330"/>
                  <a:pt x="6995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6224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491" y="17289"/>
                </a:moveTo>
                <a:lnTo>
                  <a:pt x="7491" y="1728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1320" y="6197760"/>
            <a:ext cx="231840" cy="172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8086" y="17239"/>
                </a:moveTo>
                <a:cubicBezTo>
                  <a:pt x="8246" y="17261"/>
                  <a:pt x="8323" y="17261"/>
                  <a:pt x="8483" y="17239"/>
                </a:cubicBezTo>
              </a:path>
              <a:path w="646" h="51">
                <a:moveTo>
                  <a:pt x="8657" y="17214"/>
                </a:moveTo>
                <a:cubicBezTo>
                  <a:pt x="8693" y="17250"/>
                  <a:pt x="8689" y="17225"/>
                  <a:pt x="8731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55920" y="5081760"/>
            <a:ext cx="2705040" cy="606240"/>
          </a:xfrm>
          <a:custGeom>
            <a:avLst/>
            <a:gdLst/>
            <a:ahLst/>
            <a:rect l="l" t="t" r="r" b="b"/>
            <a:pathLst>
              <a:path w="7517" h="1688">
                <a:moveTo>
                  <a:pt x="6821" y="14114"/>
                </a:moveTo>
                <a:lnTo>
                  <a:pt x="6821" y="14114"/>
                </a:lnTo>
              </a:path>
              <a:path w="7517" h="1688">
                <a:moveTo>
                  <a:pt x="7045" y="14188"/>
                </a:moveTo>
                <a:cubicBezTo>
                  <a:pt x="7061" y="14188"/>
                  <a:pt x="7078" y="14188"/>
                  <a:pt x="7094" y="14188"/>
                </a:cubicBezTo>
              </a:path>
              <a:path w="7517" h="1688">
                <a:moveTo>
                  <a:pt x="7541" y="14213"/>
                </a:moveTo>
                <a:cubicBezTo>
                  <a:pt x="7565" y="14213"/>
                  <a:pt x="7574" y="14213"/>
                  <a:pt x="7590" y="14213"/>
                </a:cubicBezTo>
              </a:path>
              <a:path w="7517" h="1688">
                <a:moveTo>
                  <a:pt x="7838" y="14213"/>
                </a:moveTo>
                <a:lnTo>
                  <a:pt x="7838" y="14213"/>
                </a:lnTo>
              </a:path>
              <a:path w="7517" h="1688">
                <a:moveTo>
                  <a:pt x="8310" y="14238"/>
                </a:moveTo>
                <a:lnTo>
                  <a:pt x="8310" y="14238"/>
                </a:lnTo>
              </a:path>
              <a:path w="7517" h="1688">
                <a:moveTo>
                  <a:pt x="8979" y="14288"/>
                </a:moveTo>
                <a:cubicBezTo>
                  <a:pt x="9027" y="14311"/>
                  <a:pt x="9042" y="14319"/>
                  <a:pt x="9079" y="14312"/>
                </a:cubicBezTo>
              </a:path>
              <a:path w="7517" h="1688">
                <a:moveTo>
                  <a:pt x="9302" y="14312"/>
                </a:moveTo>
                <a:cubicBezTo>
                  <a:pt x="9353" y="14312"/>
                  <a:pt x="9372" y="14313"/>
                  <a:pt x="9401" y="14337"/>
                </a:cubicBezTo>
              </a:path>
              <a:path w="7517" h="1688">
                <a:moveTo>
                  <a:pt x="9773" y="14263"/>
                </a:moveTo>
                <a:cubicBezTo>
                  <a:pt x="9837" y="14291"/>
                  <a:pt x="9823" y="14300"/>
                  <a:pt x="9872" y="14263"/>
                </a:cubicBezTo>
              </a:path>
              <a:path w="7517" h="1688">
                <a:moveTo>
                  <a:pt x="10046" y="14238"/>
                </a:moveTo>
                <a:cubicBezTo>
                  <a:pt x="10071" y="14238"/>
                  <a:pt x="10079" y="14238"/>
                  <a:pt x="10071" y="14213"/>
                </a:cubicBezTo>
              </a:path>
              <a:path w="7517" h="1688">
                <a:moveTo>
                  <a:pt x="10840" y="15180"/>
                </a:moveTo>
                <a:cubicBezTo>
                  <a:pt x="10777" y="15230"/>
                  <a:pt x="10711" y="15243"/>
                  <a:pt x="10641" y="15280"/>
                </a:cubicBezTo>
                <a:cubicBezTo>
                  <a:pt x="10547" y="15331"/>
                  <a:pt x="10469" y="15392"/>
                  <a:pt x="10368" y="15429"/>
                </a:cubicBezTo>
                <a:cubicBezTo>
                  <a:pt x="10186" y="15495"/>
                  <a:pt x="10022" y="15424"/>
                  <a:pt x="9847" y="15379"/>
                </a:cubicBezTo>
                <a:cubicBezTo>
                  <a:pt x="9711" y="15344"/>
                  <a:pt x="9582" y="15297"/>
                  <a:pt x="9451" y="15255"/>
                </a:cubicBezTo>
                <a:cubicBezTo>
                  <a:pt x="9337" y="15218"/>
                  <a:pt x="9222" y="15153"/>
                  <a:pt x="9103" y="15131"/>
                </a:cubicBezTo>
                <a:cubicBezTo>
                  <a:pt x="9085" y="15128"/>
                  <a:pt x="8964" y="15119"/>
                  <a:pt x="8954" y="15106"/>
                </a:cubicBezTo>
                <a:cubicBezTo>
                  <a:pt x="8954" y="15081"/>
                  <a:pt x="8954" y="15073"/>
                  <a:pt x="8954" y="15056"/>
                </a:cubicBezTo>
              </a:path>
              <a:path w="7517" h="1688">
                <a:moveTo>
                  <a:pt x="9004" y="14660"/>
                </a:moveTo>
                <a:cubicBezTo>
                  <a:pt x="8920" y="14629"/>
                  <a:pt x="8837" y="14598"/>
                  <a:pt x="8756" y="14560"/>
                </a:cubicBezTo>
                <a:cubicBezTo>
                  <a:pt x="8679" y="14524"/>
                  <a:pt x="8588" y="14496"/>
                  <a:pt x="8508" y="14486"/>
                </a:cubicBezTo>
                <a:cubicBezTo>
                  <a:pt x="8439" y="14477"/>
                  <a:pt x="8300" y="14457"/>
                  <a:pt x="8235" y="14461"/>
                </a:cubicBezTo>
                <a:cubicBezTo>
                  <a:pt x="8180" y="14465"/>
                  <a:pt x="8083" y="14505"/>
                  <a:pt x="8062" y="14511"/>
                </a:cubicBezTo>
                <a:cubicBezTo>
                  <a:pt x="8054" y="14511"/>
                  <a:pt x="8045" y="14511"/>
                  <a:pt x="8037" y="14511"/>
                </a:cubicBezTo>
                <a:cubicBezTo>
                  <a:pt x="8054" y="14540"/>
                  <a:pt x="8082" y="14610"/>
                  <a:pt x="8111" y="14635"/>
                </a:cubicBezTo>
                <a:cubicBezTo>
                  <a:pt x="8185" y="14698"/>
                  <a:pt x="8283" y="14743"/>
                  <a:pt x="8359" y="14808"/>
                </a:cubicBezTo>
                <a:cubicBezTo>
                  <a:pt x="8468" y="14901"/>
                  <a:pt x="8566" y="14996"/>
                  <a:pt x="8657" y="15106"/>
                </a:cubicBezTo>
                <a:cubicBezTo>
                  <a:pt x="8709" y="15170"/>
                  <a:pt x="8686" y="15115"/>
                  <a:pt x="8682" y="15156"/>
                </a:cubicBezTo>
                <a:cubicBezTo>
                  <a:pt x="8682" y="15164"/>
                  <a:pt x="8682" y="15172"/>
                  <a:pt x="8682" y="15180"/>
                </a:cubicBezTo>
              </a:path>
              <a:path w="7517" h="1688">
                <a:moveTo>
                  <a:pt x="11187" y="15205"/>
                </a:moveTo>
                <a:cubicBezTo>
                  <a:pt x="11177" y="15282"/>
                  <a:pt x="11162" y="15347"/>
                  <a:pt x="11162" y="15429"/>
                </a:cubicBezTo>
                <a:cubicBezTo>
                  <a:pt x="11162" y="15470"/>
                  <a:pt x="11170" y="15699"/>
                  <a:pt x="11187" y="15677"/>
                </a:cubicBezTo>
                <a:cubicBezTo>
                  <a:pt x="11187" y="15669"/>
                  <a:pt x="11187" y="15660"/>
                  <a:pt x="11187" y="15652"/>
                </a:cubicBezTo>
              </a:path>
              <a:path w="7517" h="1688">
                <a:moveTo>
                  <a:pt x="11559" y="15056"/>
                </a:moveTo>
                <a:cubicBezTo>
                  <a:pt x="11497" y="15118"/>
                  <a:pt x="11406" y="15188"/>
                  <a:pt x="11385" y="15280"/>
                </a:cubicBezTo>
                <a:cubicBezTo>
                  <a:pt x="11372" y="15338"/>
                  <a:pt x="11390" y="15436"/>
                  <a:pt x="11435" y="15478"/>
                </a:cubicBezTo>
                <a:cubicBezTo>
                  <a:pt x="11479" y="15519"/>
                  <a:pt x="11519" y="15571"/>
                  <a:pt x="11584" y="15577"/>
                </a:cubicBezTo>
                <a:cubicBezTo>
                  <a:pt x="11637" y="15582"/>
                  <a:pt x="11686" y="15519"/>
                  <a:pt x="11708" y="15478"/>
                </a:cubicBezTo>
                <a:cubicBezTo>
                  <a:pt x="11747" y="15408"/>
                  <a:pt x="11779" y="15314"/>
                  <a:pt x="11757" y="15230"/>
                </a:cubicBezTo>
                <a:cubicBezTo>
                  <a:pt x="11745" y="15186"/>
                  <a:pt x="11699" y="15079"/>
                  <a:pt x="11658" y="15056"/>
                </a:cubicBezTo>
                <a:cubicBezTo>
                  <a:pt x="11608" y="15028"/>
                  <a:pt x="11607" y="15045"/>
                  <a:pt x="11584" y="15056"/>
                </a:cubicBezTo>
                <a:cubicBezTo>
                  <a:pt x="11576" y="15056"/>
                  <a:pt x="11567" y="15056"/>
                  <a:pt x="11559" y="15056"/>
                </a:cubicBezTo>
              </a:path>
              <a:path w="7517" h="1688">
                <a:moveTo>
                  <a:pt x="11881" y="15106"/>
                </a:moveTo>
                <a:cubicBezTo>
                  <a:pt x="11980" y="15127"/>
                  <a:pt x="12054" y="15131"/>
                  <a:pt x="12154" y="15131"/>
                </a:cubicBezTo>
                <a:cubicBezTo>
                  <a:pt x="12214" y="15131"/>
                  <a:pt x="12230" y="15139"/>
                  <a:pt x="12254" y="15106"/>
                </a:cubicBezTo>
                <a:cubicBezTo>
                  <a:pt x="12262" y="15098"/>
                  <a:pt x="12270" y="15089"/>
                  <a:pt x="12278" y="15081"/>
                </a:cubicBezTo>
              </a:path>
              <a:path w="7517" h="1688">
                <a:moveTo>
                  <a:pt x="11956" y="15081"/>
                </a:moveTo>
                <a:cubicBezTo>
                  <a:pt x="11895" y="15243"/>
                  <a:pt x="11898" y="15188"/>
                  <a:pt x="11931" y="15255"/>
                </a:cubicBezTo>
                <a:cubicBezTo>
                  <a:pt x="11946" y="15286"/>
                  <a:pt x="11978" y="15301"/>
                  <a:pt x="12030" y="15304"/>
                </a:cubicBezTo>
                <a:cubicBezTo>
                  <a:pt x="12095" y="15308"/>
                  <a:pt x="12101" y="15336"/>
                  <a:pt x="12154" y="15354"/>
                </a:cubicBezTo>
                <a:cubicBezTo>
                  <a:pt x="12203" y="15370"/>
                  <a:pt x="12210" y="15384"/>
                  <a:pt x="12229" y="15429"/>
                </a:cubicBezTo>
                <a:cubicBezTo>
                  <a:pt x="12259" y="15497"/>
                  <a:pt x="12256" y="15534"/>
                  <a:pt x="12229" y="15602"/>
                </a:cubicBezTo>
                <a:cubicBezTo>
                  <a:pt x="12205" y="15661"/>
                  <a:pt x="12195" y="15694"/>
                  <a:pt x="12154" y="15726"/>
                </a:cubicBezTo>
                <a:cubicBezTo>
                  <a:pt x="12132" y="15743"/>
                  <a:pt x="12088" y="15770"/>
                  <a:pt x="12055" y="15751"/>
                </a:cubicBezTo>
                <a:cubicBezTo>
                  <a:pt x="12022" y="15733"/>
                  <a:pt x="12024" y="15686"/>
                  <a:pt x="12005" y="15677"/>
                </a:cubicBezTo>
                <a:cubicBezTo>
                  <a:pt x="11976" y="15662"/>
                  <a:pt x="11966" y="15666"/>
                  <a:pt x="12005" y="15652"/>
                </a:cubicBezTo>
              </a:path>
              <a:path w="7517" h="1688">
                <a:moveTo>
                  <a:pt x="12750" y="15081"/>
                </a:moveTo>
                <a:cubicBezTo>
                  <a:pt x="12774" y="15195"/>
                  <a:pt x="12754" y="15225"/>
                  <a:pt x="12750" y="15329"/>
                </a:cubicBezTo>
                <a:cubicBezTo>
                  <a:pt x="12747" y="15411"/>
                  <a:pt x="12731" y="15475"/>
                  <a:pt x="12725" y="15553"/>
                </a:cubicBezTo>
                <a:cubicBezTo>
                  <a:pt x="12725" y="15577"/>
                  <a:pt x="12725" y="15586"/>
                  <a:pt x="12725" y="15602"/>
                </a:cubicBezTo>
              </a:path>
              <a:path w="7517" h="1688">
                <a:moveTo>
                  <a:pt x="12601" y="15329"/>
                </a:moveTo>
                <a:cubicBezTo>
                  <a:pt x="12657" y="15337"/>
                  <a:pt x="12701" y="15369"/>
                  <a:pt x="12750" y="15379"/>
                </a:cubicBezTo>
                <a:cubicBezTo>
                  <a:pt x="12801" y="15389"/>
                  <a:pt x="12846" y="15397"/>
                  <a:pt x="12898" y="15404"/>
                </a:cubicBezTo>
              </a:path>
              <a:path w="7517" h="1688">
                <a:moveTo>
                  <a:pt x="13196" y="15156"/>
                </a:moveTo>
                <a:cubicBezTo>
                  <a:pt x="13272" y="15123"/>
                  <a:pt x="13276" y="15135"/>
                  <a:pt x="13345" y="15156"/>
                </a:cubicBezTo>
                <a:cubicBezTo>
                  <a:pt x="13409" y="15175"/>
                  <a:pt x="13425" y="15208"/>
                  <a:pt x="13444" y="15280"/>
                </a:cubicBezTo>
                <a:cubicBezTo>
                  <a:pt x="13444" y="15288"/>
                  <a:pt x="13444" y="15296"/>
                  <a:pt x="13444" y="15304"/>
                </a:cubicBezTo>
                <a:cubicBezTo>
                  <a:pt x="13395" y="15334"/>
                  <a:pt x="13343" y="15329"/>
                  <a:pt x="13295" y="15354"/>
                </a:cubicBezTo>
                <a:cubicBezTo>
                  <a:pt x="13256" y="15374"/>
                  <a:pt x="13268" y="15379"/>
                  <a:pt x="13221" y="15379"/>
                </a:cubicBezTo>
                <a:cubicBezTo>
                  <a:pt x="13234" y="15417"/>
                  <a:pt x="13250" y="15404"/>
                  <a:pt x="13295" y="15404"/>
                </a:cubicBezTo>
                <a:cubicBezTo>
                  <a:pt x="13350" y="15404"/>
                  <a:pt x="13398" y="15421"/>
                  <a:pt x="13444" y="15453"/>
                </a:cubicBezTo>
                <a:cubicBezTo>
                  <a:pt x="13529" y="15512"/>
                  <a:pt x="13501" y="15570"/>
                  <a:pt x="13494" y="15652"/>
                </a:cubicBezTo>
                <a:cubicBezTo>
                  <a:pt x="13489" y="15705"/>
                  <a:pt x="13477" y="15775"/>
                  <a:pt x="13419" y="15801"/>
                </a:cubicBezTo>
                <a:cubicBezTo>
                  <a:pt x="13373" y="15822"/>
                  <a:pt x="13328" y="15787"/>
                  <a:pt x="13295" y="15776"/>
                </a:cubicBezTo>
                <a:cubicBezTo>
                  <a:pt x="13247" y="15760"/>
                  <a:pt x="13240" y="15745"/>
                  <a:pt x="13221" y="15701"/>
                </a:cubicBezTo>
                <a:cubicBezTo>
                  <a:pt x="13213" y="15685"/>
                  <a:pt x="13204" y="15668"/>
                  <a:pt x="13196" y="15652"/>
                </a:cubicBezTo>
              </a:path>
              <a:path w="7517" h="1688">
                <a:moveTo>
                  <a:pt x="13717" y="15156"/>
                </a:moveTo>
                <a:cubicBezTo>
                  <a:pt x="13778" y="15130"/>
                  <a:pt x="13800" y="15131"/>
                  <a:pt x="13866" y="15131"/>
                </a:cubicBezTo>
                <a:cubicBezTo>
                  <a:pt x="13900" y="15131"/>
                  <a:pt x="13978" y="15200"/>
                  <a:pt x="13990" y="15230"/>
                </a:cubicBezTo>
                <a:cubicBezTo>
                  <a:pt x="14030" y="15326"/>
                  <a:pt x="13980" y="15448"/>
                  <a:pt x="13940" y="15528"/>
                </a:cubicBezTo>
                <a:cubicBezTo>
                  <a:pt x="13902" y="15603"/>
                  <a:pt x="13876" y="15624"/>
                  <a:pt x="13816" y="15677"/>
                </a:cubicBezTo>
                <a:cubicBezTo>
                  <a:pt x="13775" y="15713"/>
                  <a:pt x="13763" y="15712"/>
                  <a:pt x="13767" y="15701"/>
                </a:cubicBezTo>
                <a:cubicBezTo>
                  <a:pt x="13790" y="15646"/>
                  <a:pt x="13810" y="15650"/>
                  <a:pt x="13866" y="15627"/>
                </a:cubicBezTo>
                <a:cubicBezTo>
                  <a:pt x="13901" y="15613"/>
                  <a:pt x="13948" y="15587"/>
                  <a:pt x="13990" y="15602"/>
                </a:cubicBezTo>
                <a:cubicBezTo>
                  <a:pt x="14076" y="15633"/>
                  <a:pt x="14166" y="15718"/>
                  <a:pt x="14238" y="15776"/>
                </a:cubicBezTo>
                <a:cubicBezTo>
                  <a:pt x="14279" y="15809"/>
                  <a:pt x="14280" y="15801"/>
                  <a:pt x="14337" y="15801"/>
                </a:cubicBezTo>
                <a:cubicBezTo>
                  <a:pt x="14337" y="15751"/>
                  <a:pt x="14337" y="15702"/>
                  <a:pt x="14337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6800" y="1246320"/>
            <a:ext cx="7610400" cy="43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iz Tomorrow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w of Sines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w of Cosines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523880"/>
            <a:ext cx="6019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eck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7160" y="1214280"/>
            <a:ext cx="1857600" cy="2374920"/>
          </a:xfrm>
          <a:custGeom>
            <a:avLst/>
            <a:gdLst/>
            <a:ahLst/>
            <a:rect l="l" t="t" r="r" b="b"/>
            <a:pathLst>
              <a:path w="5161" h="6599">
                <a:moveTo>
                  <a:pt x="2803" y="6499"/>
                </a:moveTo>
                <a:cubicBezTo>
                  <a:pt x="2799" y="6552"/>
                  <a:pt x="2792" y="6570"/>
                  <a:pt x="2778" y="6623"/>
                </a:cubicBezTo>
                <a:cubicBezTo>
                  <a:pt x="2756" y="6708"/>
                  <a:pt x="2738" y="6807"/>
                  <a:pt x="2729" y="6896"/>
                </a:cubicBezTo>
                <a:cubicBezTo>
                  <a:pt x="2715" y="7026"/>
                  <a:pt x="2715" y="7163"/>
                  <a:pt x="2704" y="7293"/>
                </a:cubicBezTo>
                <a:cubicBezTo>
                  <a:pt x="2692" y="7432"/>
                  <a:pt x="2690" y="7575"/>
                  <a:pt x="2679" y="7714"/>
                </a:cubicBezTo>
                <a:cubicBezTo>
                  <a:pt x="2667" y="7870"/>
                  <a:pt x="2670" y="8030"/>
                  <a:pt x="2654" y="8186"/>
                </a:cubicBezTo>
                <a:cubicBezTo>
                  <a:pt x="2637" y="8359"/>
                  <a:pt x="2623" y="8534"/>
                  <a:pt x="2604" y="8706"/>
                </a:cubicBezTo>
                <a:cubicBezTo>
                  <a:pt x="2582" y="8913"/>
                  <a:pt x="2549" y="9121"/>
                  <a:pt x="2530" y="9327"/>
                </a:cubicBezTo>
                <a:cubicBezTo>
                  <a:pt x="2515" y="9491"/>
                  <a:pt x="2503" y="9664"/>
                  <a:pt x="2456" y="9823"/>
                </a:cubicBezTo>
                <a:cubicBezTo>
                  <a:pt x="2440" y="9877"/>
                  <a:pt x="2436" y="9914"/>
                  <a:pt x="2431" y="9971"/>
                </a:cubicBezTo>
                <a:cubicBezTo>
                  <a:pt x="2431" y="9908"/>
                  <a:pt x="2431" y="9901"/>
                  <a:pt x="2431" y="9823"/>
                </a:cubicBezTo>
              </a:path>
              <a:path w="5161" h="6599">
                <a:moveTo>
                  <a:pt x="2753" y="6449"/>
                </a:moveTo>
                <a:cubicBezTo>
                  <a:pt x="2769" y="6435"/>
                  <a:pt x="2797" y="6402"/>
                  <a:pt x="2828" y="6375"/>
                </a:cubicBezTo>
                <a:cubicBezTo>
                  <a:pt x="2917" y="6298"/>
                  <a:pt x="3007" y="6224"/>
                  <a:pt x="3101" y="6152"/>
                </a:cubicBezTo>
                <a:cubicBezTo>
                  <a:pt x="3566" y="5798"/>
                  <a:pt x="4051" y="5476"/>
                  <a:pt x="4539" y="5159"/>
                </a:cubicBezTo>
                <a:cubicBezTo>
                  <a:pt x="4767" y="5011"/>
                  <a:pt x="5005" y="4883"/>
                  <a:pt x="5234" y="4738"/>
                </a:cubicBezTo>
                <a:cubicBezTo>
                  <a:pt x="5420" y="4620"/>
                  <a:pt x="5610" y="4496"/>
                  <a:pt x="5804" y="4390"/>
                </a:cubicBezTo>
                <a:cubicBezTo>
                  <a:pt x="6083" y="4237"/>
                  <a:pt x="6369" y="4098"/>
                  <a:pt x="6648" y="3944"/>
                </a:cubicBezTo>
                <a:cubicBezTo>
                  <a:pt x="6812" y="3854"/>
                  <a:pt x="6976" y="3754"/>
                  <a:pt x="7144" y="3671"/>
                </a:cubicBezTo>
                <a:cubicBezTo>
                  <a:pt x="7246" y="3621"/>
                  <a:pt x="7326" y="3594"/>
                  <a:pt x="7417" y="3522"/>
                </a:cubicBezTo>
                <a:cubicBezTo>
                  <a:pt x="7471" y="3480"/>
                  <a:pt x="7502" y="3442"/>
                  <a:pt x="7541" y="3398"/>
                </a:cubicBezTo>
                <a:cubicBezTo>
                  <a:pt x="7541" y="3390"/>
                  <a:pt x="7541" y="3381"/>
                  <a:pt x="7541" y="3373"/>
                </a:cubicBezTo>
                <a:cubicBezTo>
                  <a:pt x="7526" y="3400"/>
                  <a:pt x="7534" y="3416"/>
                  <a:pt x="7516" y="3448"/>
                </a:cubicBezTo>
                <a:cubicBezTo>
                  <a:pt x="7487" y="3499"/>
                  <a:pt x="7454" y="3543"/>
                  <a:pt x="7417" y="3597"/>
                </a:cubicBezTo>
                <a:cubicBezTo>
                  <a:pt x="7367" y="3670"/>
                  <a:pt x="7322" y="3750"/>
                  <a:pt x="7268" y="3820"/>
                </a:cubicBezTo>
                <a:cubicBezTo>
                  <a:pt x="7207" y="3898"/>
                  <a:pt x="7130" y="3965"/>
                  <a:pt x="7069" y="4043"/>
                </a:cubicBezTo>
                <a:cubicBezTo>
                  <a:pt x="7002" y="4128"/>
                  <a:pt x="6944" y="4233"/>
                  <a:pt x="6871" y="4316"/>
                </a:cubicBezTo>
                <a:cubicBezTo>
                  <a:pt x="6748" y="4457"/>
                  <a:pt x="6604" y="4583"/>
                  <a:pt x="6474" y="4713"/>
                </a:cubicBezTo>
                <a:cubicBezTo>
                  <a:pt x="6352" y="4835"/>
                  <a:pt x="6220" y="4958"/>
                  <a:pt x="6102" y="5085"/>
                </a:cubicBezTo>
                <a:cubicBezTo>
                  <a:pt x="5969" y="5227"/>
                  <a:pt x="5843" y="5386"/>
                  <a:pt x="5705" y="5531"/>
                </a:cubicBezTo>
                <a:cubicBezTo>
                  <a:pt x="5557" y="5687"/>
                  <a:pt x="5399" y="5838"/>
                  <a:pt x="5259" y="6003"/>
                </a:cubicBezTo>
                <a:cubicBezTo>
                  <a:pt x="5084" y="6209"/>
                  <a:pt x="4911" y="6416"/>
                  <a:pt x="4738" y="6623"/>
                </a:cubicBezTo>
                <a:cubicBezTo>
                  <a:pt x="4458" y="6959"/>
                  <a:pt x="4210" y="7319"/>
                  <a:pt x="3944" y="7665"/>
                </a:cubicBezTo>
                <a:cubicBezTo>
                  <a:pt x="3818" y="7830"/>
                  <a:pt x="3692" y="7992"/>
                  <a:pt x="3572" y="8161"/>
                </a:cubicBezTo>
                <a:cubicBezTo>
                  <a:pt x="3458" y="8322"/>
                  <a:pt x="3338" y="8472"/>
                  <a:pt x="3225" y="8632"/>
                </a:cubicBezTo>
                <a:cubicBezTo>
                  <a:pt x="3132" y="8763"/>
                  <a:pt x="3027" y="8877"/>
                  <a:pt x="2927" y="9004"/>
                </a:cubicBezTo>
                <a:cubicBezTo>
                  <a:pt x="2764" y="9210"/>
                  <a:pt x="2642" y="9510"/>
                  <a:pt x="2456" y="9674"/>
                </a:cubicBezTo>
                <a:cubicBezTo>
                  <a:pt x="2415" y="9710"/>
                  <a:pt x="2429" y="9672"/>
                  <a:pt x="2381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760" y="4125960"/>
            <a:ext cx="1571400" cy="1608120"/>
          </a:xfrm>
          <a:custGeom>
            <a:avLst/>
            <a:gdLst/>
            <a:ahLst/>
            <a:rect l="l" t="t" r="r" b="b"/>
            <a:pathLst>
              <a:path w="4366" h="4466">
                <a:moveTo>
                  <a:pt x="3175" y="11460"/>
                </a:moveTo>
                <a:cubicBezTo>
                  <a:pt x="3175" y="11817"/>
                  <a:pt x="3165" y="12171"/>
                  <a:pt x="3150" y="12526"/>
                </a:cubicBezTo>
                <a:cubicBezTo>
                  <a:pt x="3138" y="12815"/>
                  <a:pt x="3129" y="13106"/>
                  <a:pt x="3125" y="13395"/>
                </a:cubicBezTo>
                <a:cubicBezTo>
                  <a:pt x="3121" y="13694"/>
                  <a:pt x="3087" y="13990"/>
                  <a:pt x="3076" y="14288"/>
                </a:cubicBezTo>
                <a:cubicBezTo>
                  <a:pt x="3065" y="14578"/>
                  <a:pt x="3051" y="14865"/>
                  <a:pt x="3051" y="15156"/>
                </a:cubicBezTo>
                <a:cubicBezTo>
                  <a:pt x="3051" y="15358"/>
                  <a:pt x="3031" y="15552"/>
                  <a:pt x="3026" y="15751"/>
                </a:cubicBezTo>
                <a:cubicBezTo>
                  <a:pt x="3026" y="15842"/>
                  <a:pt x="3026" y="15867"/>
                  <a:pt x="3026" y="15925"/>
                </a:cubicBezTo>
              </a:path>
              <a:path w="4366" h="4466">
                <a:moveTo>
                  <a:pt x="1042" y="13494"/>
                </a:moveTo>
                <a:cubicBezTo>
                  <a:pt x="1162" y="13494"/>
                  <a:pt x="1269" y="13516"/>
                  <a:pt x="1389" y="13519"/>
                </a:cubicBezTo>
                <a:cubicBezTo>
                  <a:pt x="1638" y="13524"/>
                  <a:pt x="1883" y="13543"/>
                  <a:pt x="2133" y="13543"/>
                </a:cubicBezTo>
                <a:cubicBezTo>
                  <a:pt x="2460" y="13543"/>
                  <a:pt x="2798" y="13549"/>
                  <a:pt x="3125" y="13568"/>
                </a:cubicBezTo>
                <a:cubicBezTo>
                  <a:pt x="3504" y="13590"/>
                  <a:pt x="3888" y="13614"/>
                  <a:pt x="4266" y="13643"/>
                </a:cubicBezTo>
                <a:cubicBezTo>
                  <a:pt x="4525" y="13663"/>
                  <a:pt x="4777" y="13736"/>
                  <a:pt x="5035" y="13742"/>
                </a:cubicBezTo>
                <a:cubicBezTo>
                  <a:pt x="5140" y="13745"/>
                  <a:pt x="5262" y="13799"/>
                  <a:pt x="5358" y="13742"/>
                </a:cubicBezTo>
                <a:cubicBezTo>
                  <a:pt x="5453" y="13686"/>
                  <a:pt x="5369" y="13699"/>
                  <a:pt x="5358" y="13618"/>
                </a:cubicBezTo>
              </a:path>
              <a:path w="4366" h="4466">
                <a:moveTo>
                  <a:pt x="4192" y="12750"/>
                </a:moveTo>
                <a:cubicBezTo>
                  <a:pt x="4159" y="12904"/>
                  <a:pt x="4114" y="13067"/>
                  <a:pt x="4093" y="13221"/>
                </a:cubicBezTo>
                <a:cubicBezTo>
                  <a:pt x="4091" y="13232"/>
                  <a:pt x="4093" y="13400"/>
                  <a:pt x="4093" y="13271"/>
                </a:cubicBezTo>
                <a:cubicBezTo>
                  <a:pt x="4093" y="13096"/>
                  <a:pt x="4081" y="12921"/>
                  <a:pt x="4118" y="12750"/>
                </a:cubicBezTo>
                <a:cubicBezTo>
                  <a:pt x="4147" y="12617"/>
                  <a:pt x="4163" y="12452"/>
                  <a:pt x="4217" y="12328"/>
                </a:cubicBezTo>
                <a:cubicBezTo>
                  <a:pt x="4254" y="12243"/>
                  <a:pt x="4327" y="12147"/>
                  <a:pt x="4390" y="12080"/>
                </a:cubicBezTo>
                <a:cubicBezTo>
                  <a:pt x="4429" y="12041"/>
                  <a:pt x="4431" y="12024"/>
                  <a:pt x="4465" y="12030"/>
                </a:cubicBezTo>
                <a:cubicBezTo>
                  <a:pt x="4486" y="12067"/>
                  <a:pt x="4516" y="12111"/>
                  <a:pt x="4539" y="12154"/>
                </a:cubicBezTo>
                <a:cubicBezTo>
                  <a:pt x="4606" y="12280"/>
                  <a:pt x="4613" y="12415"/>
                  <a:pt x="4638" y="12551"/>
                </a:cubicBezTo>
                <a:cubicBezTo>
                  <a:pt x="4662" y="12685"/>
                  <a:pt x="4710" y="12824"/>
                  <a:pt x="4762" y="12948"/>
                </a:cubicBezTo>
                <a:cubicBezTo>
                  <a:pt x="4807" y="13055"/>
                  <a:pt x="4844" y="13164"/>
                  <a:pt x="4887" y="13271"/>
                </a:cubicBezTo>
                <a:cubicBezTo>
                  <a:pt x="4901" y="13305"/>
                  <a:pt x="4922" y="13342"/>
                  <a:pt x="4936" y="13370"/>
                </a:cubicBezTo>
              </a:path>
              <a:path w="4366" h="4466">
                <a:moveTo>
                  <a:pt x="4142" y="12774"/>
                </a:moveTo>
                <a:cubicBezTo>
                  <a:pt x="4262" y="12751"/>
                  <a:pt x="4367" y="12750"/>
                  <a:pt x="4490" y="12750"/>
                </a:cubicBezTo>
                <a:cubicBezTo>
                  <a:pt x="4515" y="12750"/>
                  <a:pt x="4539" y="12750"/>
                  <a:pt x="4564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960" y="2867040"/>
            <a:ext cx="17928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1712" y="8210"/>
                </a:moveTo>
                <a:cubicBezTo>
                  <a:pt x="1723" y="8156"/>
                  <a:pt x="1733" y="8132"/>
                  <a:pt x="1761" y="8111"/>
                </a:cubicBezTo>
                <a:cubicBezTo>
                  <a:pt x="1808" y="8076"/>
                  <a:pt x="1808" y="8034"/>
                  <a:pt x="1860" y="8012"/>
                </a:cubicBezTo>
                <a:cubicBezTo>
                  <a:pt x="1895" y="7997"/>
                  <a:pt x="1966" y="7938"/>
                  <a:pt x="2009" y="7962"/>
                </a:cubicBezTo>
                <a:cubicBezTo>
                  <a:pt x="2053" y="7986"/>
                  <a:pt x="2059" y="8018"/>
                  <a:pt x="2059" y="8062"/>
                </a:cubicBezTo>
                <a:cubicBezTo>
                  <a:pt x="2059" y="8148"/>
                  <a:pt x="2044" y="8205"/>
                  <a:pt x="2009" y="8285"/>
                </a:cubicBezTo>
                <a:cubicBezTo>
                  <a:pt x="1978" y="8357"/>
                  <a:pt x="1962" y="8437"/>
                  <a:pt x="1935" y="8508"/>
                </a:cubicBezTo>
                <a:cubicBezTo>
                  <a:pt x="1910" y="8574"/>
                  <a:pt x="1895" y="8564"/>
                  <a:pt x="1885" y="8632"/>
                </a:cubicBezTo>
                <a:cubicBezTo>
                  <a:pt x="1961" y="8632"/>
                  <a:pt x="1971" y="8635"/>
                  <a:pt x="2034" y="8582"/>
                </a:cubicBezTo>
                <a:cubicBezTo>
                  <a:pt x="2093" y="8533"/>
                  <a:pt x="2133" y="8587"/>
                  <a:pt x="2183" y="8508"/>
                </a:cubicBezTo>
                <a:cubicBezTo>
                  <a:pt x="2212" y="8462"/>
                  <a:pt x="2205" y="8496"/>
                  <a:pt x="215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120" y="3616200"/>
            <a:ext cx="1295640" cy="2071800"/>
          </a:xfrm>
          <a:custGeom>
            <a:avLst/>
            <a:gdLst/>
            <a:ahLst/>
            <a:rect l="l" t="t" r="r" b="b"/>
            <a:pathLst>
              <a:path w="3598" h="5756">
                <a:moveTo>
                  <a:pt x="1860" y="10368"/>
                </a:moveTo>
                <a:cubicBezTo>
                  <a:pt x="1878" y="10421"/>
                  <a:pt x="1875" y="10423"/>
                  <a:pt x="1860" y="10492"/>
                </a:cubicBezTo>
                <a:cubicBezTo>
                  <a:pt x="1839" y="10586"/>
                  <a:pt x="1816" y="10670"/>
                  <a:pt x="1811" y="10765"/>
                </a:cubicBezTo>
                <a:cubicBezTo>
                  <a:pt x="1808" y="10836"/>
                  <a:pt x="1786" y="10890"/>
                  <a:pt x="1786" y="10964"/>
                </a:cubicBezTo>
                <a:cubicBezTo>
                  <a:pt x="1786" y="10992"/>
                  <a:pt x="1789" y="11002"/>
                  <a:pt x="1811" y="11013"/>
                </a:cubicBezTo>
                <a:cubicBezTo>
                  <a:pt x="1811" y="11054"/>
                  <a:pt x="1811" y="10980"/>
                  <a:pt x="1811" y="10939"/>
                </a:cubicBezTo>
                <a:cubicBezTo>
                  <a:pt x="1811" y="10857"/>
                  <a:pt x="1833" y="10797"/>
                  <a:pt x="1836" y="10716"/>
                </a:cubicBezTo>
                <a:cubicBezTo>
                  <a:pt x="1841" y="10593"/>
                  <a:pt x="1836" y="10464"/>
                  <a:pt x="1860" y="10344"/>
                </a:cubicBezTo>
                <a:cubicBezTo>
                  <a:pt x="1876" y="10266"/>
                  <a:pt x="1896" y="10189"/>
                  <a:pt x="1935" y="10120"/>
                </a:cubicBezTo>
                <a:cubicBezTo>
                  <a:pt x="1981" y="10037"/>
                  <a:pt x="1968" y="10046"/>
                  <a:pt x="2034" y="10046"/>
                </a:cubicBezTo>
                <a:cubicBezTo>
                  <a:pt x="2102" y="10095"/>
                  <a:pt x="2116" y="10147"/>
                  <a:pt x="2158" y="10220"/>
                </a:cubicBezTo>
                <a:cubicBezTo>
                  <a:pt x="2200" y="10293"/>
                  <a:pt x="2249" y="10370"/>
                  <a:pt x="2282" y="10443"/>
                </a:cubicBezTo>
                <a:cubicBezTo>
                  <a:pt x="2325" y="10538"/>
                  <a:pt x="2358" y="10642"/>
                  <a:pt x="2381" y="10740"/>
                </a:cubicBezTo>
                <a:cubicBezTo>
                  <a:pt x="2381" y="10765"/>
                  <a:pt x="2381" y="10773"/>
                  <a:pt x="2381" y="10790"/>
                </a:cubicBezTo>
                <a:cubicBezTo>
                  <a:pt x="2341" y="10817"/>
                  <a:pt x="2352" y="10784"/>
                  <a:pt x="2307" y="10740"/>
                </a:cubicBezTo>
                <a:cubicBezTo>
                  <a:pt x="2282" y="10716"/>
                  <a:pt x="2273" y="10708"/>
                  <a:pt x="2257" y="10691"/>
                </a:cubicBezTo>
              </a:path>
              <a:path w="3598" h="5756">
                <a:moveTo>
                  <a:pt x="1860" y="10567"/>
                </a:moveTo>
                <a:cubicBezTo>
                  <a:pt x="1981" y="10567"/>
                  <a:pt x="2008" y="10545"/>
                  <a:pt x="2133" y="10517"/>
                </a:cubicBezTo>
                <a:cubicBezTo>
                  <a:pt x="2200" y="10502"/>
                  <a:pt x="2260" y="10492"/>
                  <a:pt x="2332" y="10492"/>
                </a:cubicBezTo>
                <a:cubicBezTo>
                  <a:pt x="2340" y="10492"/>
                  <a:pt x="2348" y="10492"/>
                  <a:pt x="2356" y="10492"/>
                </a:cubicBezTo>
              </a:path>
              <a:path w="3598" h="5756">
                <a:moveTo>
                  <a:pt x="2282" y="11906"/>
                </a:moveTo>
                <a:cubicBezTo>
                  <a:pt x="2197" y="11949"/>
                  <a:pt x="2126" y="11958"/>
                  <a:pt x="2034" y="11981"/>
                </a:cubicBezTo>
                <a:cubicBezTo>
                  <a:pt x="1938" y="12005"/>
                  <a:pt x="1794" y="12048"/>
                  <a:pt x="1712" y="12105"/>
                </a:cubicBezTo>
                <a:cubicBezTo>
                  <a:pt x="1668" y="12135"/>
                  <a:pt x="1610" y="12194"/>
                  <a:pt x="1637" y="12254"/>
                </a:cubicBezTo>
                <a:cubicBezTo>
                  <a:pt x="1674" y="12335"/>
                  <a:pt x="1888" y="12440"/>
                  <a:pt x="1960" y="12477"/>
                </a:cubicBezTo>
                <a:cubicBezTo>
                  <a:pt x="2072" y="12534"/>
                  <a:pt x="2200" y="12595"/>
                  <a:pt x="2282" y="12700"/>
                </a:cubicBezTo>
                <a:cubicBezTo>
                  <a:pt x="2290" y="12717"/>
                  <a:pt x="2299" y="12733"/>
                  <a:pt x="2307" y="12750"/>
                </a:cubicBezTo>
                <a:cubicBezTo>
                  <a:pt x="2238" y="12818"/>
                  <a:pt x="2181" y="12851"/>
                  <a:pt x="2084" y="12874"/>
                </a:cubicBezTo>
                <a:cubicBezTo>
                  <a:pt x="1973" y="12901"/>
                  <a:pt x="1812" y="12913"/>
                  <a:pt x="1712" y="12973"/>
                </a:cubicBezTo>
                <a:cubicBezTo>
                  <a:pt x="1657" y="13027"/>
                  <a:pt x="1637" y="13049"/>
                  <a:pt x="1612" y="13097"/>
                </a:cubicBezTo>
              </a:path>
              <a:path w="3598" h="5756">
                <a:moveTo>
                  <a:pt x="2059" y="14238"/>
                </a:moveTo>
                <a:cubicBezTo>
                  <a:pt x="2038" y="14500"/>
                  <a:pt x="1999" y="14795"/>
                  <a:pt x="2034" y="15056"/>
                </a:cubicBezTo>
                <a:cubicBezTo>
                  <a:pt x="2041" y="15109"/>
                  <a:pt x="2074" y="15154"/>
                  <a:pt x="2084" y="15205"/>
                </a:cubicBezTo>
              </a:path>
              <a:path w="3598" h="5756">
                <a:moveTo>
                  <a:pt x="1513" y="14064"/>
                </a:moveTo>
                <a:cubicBezTo>
                  <a:pt x="1680" y="14037"/>
                  <a:pt x="1817" y="14034"/>
                  <a:pt x="1984" y="14064"/>
                </a:cubicBezTo>
                <a:cubicBezTo>
                  <a:pt x="2159" y="14095"/>
                  <a:pt x="2331" y="14113"/>
                  <a:pt x="2505" y="14139"/>
                </a:cubicBezTo>
              </a:path>
              <a:path w="3598" h="5756">
                <a:moveTo>
                  <a:pt x="4291" y="14684"/>
                </a:moveTo>
                <a:cubicBezTo>
                  <a:pt x="4346" y="14654"/>
                  <a:pt x="4400" y="14647"/>
                  <a:pt x="4366" y="14560"/>
                </a:cubicBezTo>
                <a:cubicBezTo>
                  <a:pt x="4347" y="14510"/>
                  <a:pt x="4264" y="14478"/>
                  <a:pt x="4217" y="14486"/>
                </a:cubicBezTo>
                <a:cubicBezTo>
                  <a:pt x="4100" y="14506"/>
                  <a:pt x="3992" y="14573"/>
                  <a:pt x="3894" y="14635"/>
                </a:cubicBezTo>
                <a:cubicBezTo>
                  <a:pt x="3771" y="14714"/>
                  <a:pt x="3710" y="14821"/>
                  <a:pt x="3671" y="14957"/>
                </a:cubicBezTo>
                <a:cubicBezTo>
                  <a:pt x="3616" y="15148"/>
                  <a:pt x="3670" y="15334"/>
                  <a:pt x="3770" y="15503"/>
                </a:cubicBezTo>
                <a:cubicBezTo>
                  <a:pt x="3901" y="15725"/>
                  <a:pt x="4069" y="15838"/>
                  <a:pt x="4291" y="15726"/>
                </a:cubicBezTo>
              </a:path>
              <a:path w="3598" h="5756">
                <a:moveTo>
                  <a:pt x="2828" y="11311"/>
                </a:moveTo>
                <a:cubicBezTo>
                  <a:pt x="2710" y="11253"/>
                  <a:pt x="2674" y="11237"/>
                  <a:pt x="2530" y="11237"/>
                </a:cubicBezTo>
                <a:cubicBezTo>
                  <a:pt x="2327" y="11237"/>
                  <a:pt x="2174" y="11297"/>
                  <a:pt x="1984" y="11361"/>
                </a:cubicBezTo>
                <a:cubicBezTo>
                  <a:pt x="1786" y="11428"/>
                  <a:pt x="1565" y="11518"/>
                  <a:pt x="1389" y="11633"/>
                </a:cubicBezTo>
                <a:cubicBezTo>
                  <a:pt x="1236" y="11733"/>
                  <a:pt x="1069" y="11903"/>
                  <a:pt x="967" y="12055"/>
                </a:cubicBezTo>
                <a:cubicBezTo>
                  <a:pt x="847" y="12235"/>
                  <a:pt x="795" y="12498"/>
                  <a:pt x="893" y="12700"/>
                </a:cubicBezTo>
                <a:cubicBezTo>
                  <a:pt x="990" y="12900"/>
                  <a:pt x="1204" y="13008"/>
                  <a:pt x="1364" y="13146"/>
                </a:cubicBezTo>
                <a:cubicBezTo>
                  <a:pt x="1522" y="13283"/>
                  <a:pt x="1680" y="13364"/>
                  <a:pt x="1885" y="13419"/>
                </a:cubicBezTo>
                <a:cubicBezTo>
                  <a:pt x="2058" y="13466"/>
                  <a:pt x="2282" y="13465"/>
                  <a:pt x="2456" y="13419"/>
                </a:cubicBezTo>
                <a:cubicBezTo>
                  <a:pt x="2622" y="13375"/>
                  <a:pt x="2831" y="13243"/>
                  <a:pt x="2952" y="13122"/>
                </a:cubicBezTo>
                <a:cubicBezTo>
                  <a:pt x="3135" y="12938"/>
                  <a:pt x="3228" y="12727"/>
                  <a:pt x="3274" y="12477"/>
                </a:cubicBezTo>
                <a:cubicBezTo>
                  <a:pt x="3314" y="12260"/>
                  <a:pt x="3296" y="12091"/>
                  <a:pt x="3249" y="11881"/>
                </a:cubicBezTo>
                <a:cubicBezTo>
                  <a:pt x="3187" y="11602"/>
                  <a:pt x="3049" y="11374"/>
                  <a:pt x="2828" y="11187"/>
                </a:cubicBezTo>
                <a:cubicBezTo>
                  <a:pt x="2697" y="11076"/>
                  <a:pt x="2474" y="11006"/>
                  <a:pt x="2307" y="10988"/>
                </a:cubicBezTo>
                <a:cubicBezTo>
                  <a:pt x="2057" y="10962"/>
                  <a:pt x="1762" y="10992"/>
                  <a:pt x="1538" y="11112"/>
                </a:cubicBezTo>
                <a:cubicBezTo>
                  <a:pt x="1380" y="11197"/>
                  <a:pt x="1234" y="11326"/>
                  <a:pt x="1116" y="11460"/>
                </a:cubicBezTo>
                <a:cubicBezTo>
                  <a:pt x="975" y="11620"/>
                  <a:pt x="875" y="11771"/>
                  <a:pt x="769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170080"/>
            <a:ext cx="231840" cy="34776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860" y="6424"/>
                </a:moveTo>
                <a:cubicBezTo>
                  <a:pt x="1860" y="6489"/>
                  <a:pt x="1875" y="6537"/>
                  <a:pt x="1885" y="6598"/>
                </a:cubicBezTo>
                <a:cubicBezTo>
                  <a:pt x="1898" y="6674"/>
                  <a:pt x="1894" y="6747"/>
                  <a:pt x="1910" y="6821"/>
                </a:cubicBezTo>
                <a:cubicBezTo>
                  <a:pt x="1926" y="6894"/>
                  <a:pt x="1935" y="6928"/>
                  <a:pt x="1935" y="6995"/>
                </a:cubicBezTo>
                <a:cubicBezTo>
                  <a:pt x="1935" y="6932"/>
                  <a:pt x="1913" y="6905"/>
                  <a:pt x="1910" y="6846"/>
                </a:cubicBezTo>
                <a:cubicBezTo>
                  <a:pt x="1905" y="6769"/>
                  <a:pt x="1888" y="6699"/>
                  <a:pt x="1885" y="6623"/>
                </a:cubicBezTo>
                <a:cubicBezTo>
                  <a:pt x="1880" y="6513"/>
                  <a:pt x="1876" y="6401"/>
                  <a:pt x="1910" y="6300"/>
                </a:cubicBezTo>
                <a:cubicBezTo>
                  <a:pt x="1943" y="6201"/>
                  <a:pt x="1978" y="6172"/>
                  <a:pt x="2034" y="6102"/>
                </a:cubicBezTo>
                <a:cubicBezTo>
                  <a:pt x="2093" y="6029"/>
                  <a:pt x="2064" y="6035"/>
                  <a:pt x="2158" y="6028"/>
                </a:cubicBezTo>
                <a:cubicBezTo>
                  <a:pt x="2233" y="6022"/>
                  <a:pt x="2228" y="6124"/>
                  <a:pt x="2232" y="6176"/>
                </a:cubicBezTo>
                <a:cubicBezTo>
                  <a:pt x="2235" y="6215"/>
                  <a:pt x="2214" y="6344"/>
                  <a:pt x="2183" y="6375"/>
                </a:cubicBezTo>
                <a:cubicBezTo>
                  <a:pt x="2136" y="6422"/>
                  <a:pt x="2106" y="6472"/>
                  <a:pt x="2059" y="6524"/>
                </a:cubicBezTo>
                <a:cubicBezTo>
                  <a:pt x="2025" y="6562"/>
                  <a:pt x="2035" y="6535"/>
                  <a:pt x="2059" y="6499"/>
                </a:cubicBezTo>
                <a:cubicBezTo>
                  <a:pt x="2085" y="6460"/>
                  <a:pt x="2121" y="6439"/>
                  <a:pt x="2158" y="6424"/>
                </a:cubicBezTo>
                <a:cubicBezTo>
                  <a:pt x="2210" y="6402"/>
                  <a:pt x="2244" y="6354"/>
                  <a:pt x="2307" y="6375"/>
                </a:cubicBezTo>
                <a:cubicBezTo>
                  <a:pt x="2362" y="6394"/>
                  <a:pt x="2443" y="6397"/>
                  <a:pt x="2480" y="6449"/>
                </a:cubicBezTo>
                <a:cubicBezTo>
                  <a:pt x="2502" y="6480"/>
                  <a:pt x="2524" y="6561"/>
                  <a:pt x="2505" y="6598"/>
                </a:cubicBezTo>
                <a:cubicBezTo>
                  <a:pt x="2472" y="6664"/>
                  <a:pt x="2420" y="6711"/>
                  <a:pt x="2356" y="6747"/>
                </a:cubicBezTo>
                <a:cubicBezTo>
                  <a:pt x="2290" y="6784"/>
                  <a:pt x="2235" y="6854"/>
                  <a:pt x="2158" y="6871"/>
                </a:cubicBezTo>
                <a:cubicBezTo>
                  <a:pt x="2131" y="6877"/>
                  <a:pt x="2007" y="6919"/>
                  <a:pt x="1984" y="6896"/>
                </a:cubicBezTo>
                <a:cubicBezTo>
                  <a:pt x="1955" y="6867"/>
                  <a:pt x="1958" y="6842"/>
                  <a:pt x="1984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8080" y="1687680"/>
            <a:ext cx="204840" cy="768240"/>
          </a:xfrm>
          <a:custGeom>
            <a:avLst/>
            <a:gdLst/>
            <a:ahLst/>
            <a:rect l="l" t="t" r="r" b="b"/>
            <a:pathLst>
              <a:path w="571" h="2134">
                <a:moveTo>
                  <a:pt x="3125" y="4911"/>
                </a:moveTo>
                <a:cubicBezTo>
                  <a:pt x="3136" y="4868"/>
                  <a:pt x="3166" y="4846"/>
                  <a:pt x="3200" y="4812"/>
                </a:cubicBezTo>
                <a:cubicBezTo>
                  <a:pt x="3245" y="4767"/>
                  <a:pt x="3341" y="4705"/>
                  <a:pt x="3398" y="4688"/>
                </a:cubicBezTo>
                <a:cubicBezTo>
                  <a:pt x="3448" y="4673"/>
                  <a:pt x="3523" y="4685"/>
                  <a:pt x="3547" y="4738"/>
                </a:cubicBezTo>
                <a:cubicBezTo>
                  <a:pt x="3566" y="4780"/>
                  <a:pt x="3570" y="4838"/>
                  <a:pt x="3547" y="4887"/>
                </a:cubicBezTo>
                <a:cubicBezTo>
                  <a:pt x="3526" y="4932"/>
                  <a:pt x="3458" y="4997"/>
                  <a:pt x="3423" y="5035"/>
                </a:cubicBezTo>
                <a:cubicBezTo>
                  <a:pt x="3394" y="5067"/>
                  <a:pt x="3379" y="5166"/>
                  <a:pt x="3349" y="5135"/>
                </a:cubicBezTo>
                <a:cubicBezTo>
                  <a:pt x="3325" y="5110"/>
                  <a:pt x="3411" y="5090"/>
                  <a:pt x="3423" y="5085"/>
                </a:cubicBezTo>
                <a:cubicBezTo>
                  <a:pt x="3502" y="5051"/>
                  <a:pt x="3492" y="5077"/>
                  <a:pt x="3572" y="5085"/>
                </a:cubicBezTo>
                <a:cubicBezTo>
                  <a:pt x="3598" y="5088"/>
                  <a:pt x="3641" y="5126"/>
                  <a:pt x="3646" y="5135"/>
                </a:cubicBezTo>
                <a:cubicBezTo>
                  <a:pt x="3646" y="5143"/>
                  <a:pt x="3646" y="5151"/>
                  <a:pt x="3646" y="5159"/>
                </a:cubicBezTo>
                <a:cubicBezTo>
                  <a:pt x="3590" y="5216"/>
                  <a:pt x="3568" y="5262"/>
                  <a:pt x="3497" y="5308"/>
                </a:cubicBezTo>
                <a:cubicBezTo>
                  <a:pt x="3454" y="5336"/>
                  <a:pt x="3375" y="5366"/>
                  <a:pt x="3324" y="5383"/>
                </a:cubicBezTo>
                <a:cubicBezTo>
                  <a:pt x="3282" y="5397"/>
                  <a:pt x="3234" y="5387"/>
                  <a:pt x="3225" y="5358"/>
                </a:cubicBezTo>
              </a:path>
              <a:path w="571" h="2134">
                <a:moveTo>
                  <a:pt x="3200" y="6276"/>
                </a:moveTo>
                <a:cubicBezTo>
                  <a:pt x="3177" y="6383"/>
                  <a:pt x="3164" y="6492"/>
                  <a:pt x="3150" y="6598"/>
                </a:cubicBezTo>
                <a:cubicBezTo>
                  <a:pt x="3141" y="6665"/>
                  <a:pt x="3185" y="6712"/>
                  <a:pt x="3200" y="6772"/>
                </a:cubicBezTo>
                <a:cubicBezTo>
                  <a:pt x="3213" y="6823"/>
                  <a:pt x="3271" y="6802"/>
                  <a:pt x="3299" y="6796"/>
                </a:cubicBezTo>
                <a:cubicBezTo>
                  <a:pt x="3355" y="6784"/>
                  <a:pt x="3371" y="6748"/>
                  <a:pt x="3398" y="6697"/>
                </a:cubicBezTo>
                <a:cubicBezTo>
                  <a:pt x="3432" y="6634"/>
                  <a:pt x="3448" y="6595"/>
                  <a:pt x="3448" y="6524"/>
                </a:cubicBezTo>
                <a:cubicBezTo>
                  <a:pt x="3448" y="6454"/>
                  <a:pt x="3418" y="6401"/>
                  <a:pt x="3373" y="6350"/>
                </a:cubicBezTo>
                <a:cubicBezTo>
                  <a:pt x="3319" y="6289"/>
                  <a:pt x="3310" y="6281"/>
                  <a:pt x="3225" y="6276"/>
                </a:cubicBezTo>
                <a:cubicBezTo>
                  <a:pt x="3175" y="6273"/>
                  <a:pt x="3169" y="6291"/>
                  <a:pt x="3150" y="6300"/>
                </a:cubicBezTo>
                <a:cubicBezTo>
                  <a:pt x="3125" y="6300"/>
                  <a:pt x="3117" y="6300"/>
                  <a:pt x="3125" y="6325"/>
                </a:cubicBezTo>
              </a:path>
              <a:path w="571" h="2134">
                <a:moveTo>
                  <a:pt x="3076" y="6548"/>
                </a:moveTo>
                <a:cubicBezTo>
                  <a:pt x="3088" y="6583"/>
                  <a:pt x="3127" y="6581"/>
                  <a:pt x="3175" y="6573"/>
                </a:cubicBezTo>
                <a:cubicBezTo>
                  <a:pt x="3270" y="6558"/>
                  <a:pt x="3384" y="6525"/>
                  <a:pt x="3473" y="6499"/>
                </a:cubicBezTo>
                <a:cubicBezTo>
                  <a:pt x="3526" y="6484"/>
                  <a:pt x="3644" y="6399"/>
                  <a:pt x="3621" y="6449"/>
                </a:cubicBezTo>
                <a:cubicBezTo>
                  <a:pt x="3613" y="6457"/>
                  <a:pt x="3605" y="6466"/>
                  <a:pt x="3597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3240" y="2286000"/>
            <a:ext cx="519120" cy="339840"/>
          </a:xfrm>
          <a:custGeom>
            <a:avLst/>
            <a:gdLst/>
            <a:ahLst/>
            <a:rect l="l" t="t" r="r" b="b"/>
            <a:pathLst>
              <a:path w="1439" h="944">
                <a:moveTo>
                  <a:pt x="5135" y="6573"/>
                </a:moveTo>
                <a:cubicBezTo>
                  <a:pt x="5135" y="6615"/>
                  <a:pt x="5125" y="6638"/>
                  <a:pt x="5110" y="6672"/>
                </a:cubicBezTo>
                <a:cubicBezTo>
                  <a:pt x="5082" y="6736"/>
                  <a:pt x="5061" y="6788"/>
                  <a:pt x="5035" y="6846"/>
                </a:cubicBezTo>
                <a:cubicBezTo>
                  <a:pt x="5016" y="6888"/>
                  <a:pt x="5001" y="6929"/>
                  <a:pt x="5035" y="6945"/>
                </a:cubicBezTo>
                <a:cubicBezTo>
                  <a:pt x="5043" y="6945"/>
                  <a:pt x="5052" y="6945"/>
                  <a:pt x="5060" y="6945"/>
                </a:cubicBezTo>
                <a:cubicBezTo>
                  <a:pt x="5098" y="6918"/>
                  <a:pt x="5112" y="6921"/>
                  <a:pt x="5159" y="6921"/>
                </a:cubicBezTo>
                <a:cubicBezTo>
                  <a:pt x="5214" y="6921"/>
                  <a:pt x="5253" y="6900"/>
                  <a:pt x="5308" y="6896"/>
                </a:cubicBezTo>
                <a:cubicBezTo>
                  <a:pt x="5356" y="6892"/>
                  <a:pt x="5370" y="6904"/>
                  <a:pt x="5407" y="6871"/>
                </a:cubicBezTo>
                <a:cubicBezTo>
                  <a:pt x="5415" y="6863"/>
                  <a:pt x="5424" y="6854"/>
                  <a:pt x="5432" y="6846"/>
                </a:cubicBezTo>
              </a:path>
              <a:path w="1439" h="944">
                <a:moveTo>
                  <a:pt x="5407" y="6449"/>
                </a:moveTo>
                <a:cubicBezTo>
                  <a:pt x="5407" y="6682"/>
                  <a:pt x="5412" y="6919"/>
                  <a:pt x="5383" y="7144"/>
                </a:cubicBezTo>
                <a:cubicBezTo>
                  <a:pt x="5372" y="7230"/>
                  <a:pt x="5378" y="7227"/>
                  <a:pt x="5358" y="7268"/>
                </a:cubicBezTo>
                <a:cubicBezTo>
                  <a:pt x="5358" y="7293"/>
                  <a:pt x="5358" y="7301"/>
                  <a:pt x="5358" y="7268"/>
                </a:cubicBezTo>
              </a:path>
              <a:path w="1439" h="944">
                <a:moveTo>
                  <a:pt x="5606" y="7119"/>
                </a:moveTo>
                <a:cubicBezTo>
                  <a:pt x="5614" y="7119"/>
                  <a:pt x="5623" y="7119"/>
                  <a:pt x="5631" y="7119"/>
                </a:cubicBezTo>
              </a:path>
              <a:path w="1439" h="944">
                <a:moveTo>
                  <a:pt x="6028" y="6400"/>
                </a:moveTo>
                <a:cubicBezTo>
                  <a:pt x="6103" y="6400"/>
                  <a:pt x="6156" y="6387"/>
                  <a:pt x="6226" y="6375"/>
                </a:cubicBezTo>
                <a:cubicBezTo>
                  <a:pt x="6291" y="6364"/>
                  <a:pt x="6344" y="6367"/>
                  <a:pt x="6400" y="6350"/>
                </a:cubicBezTo>
                <a:cubicBezTo>
                  <a:pt x="6424" y="6350"/>
                  <a:pt x="6433" y="6350"/>
                  <a:pt x="6449" y="6350"/>
                </a:cubicBezTo>
              </a:path>
              <a:path w="1439" h="944">
                <a:moveTo>
                  <a:pt x="6028" y="6499"/>
                </a:moveTo>
                <a:cubicBezTo>
                  <a:pt x="5971" y="6565"/>
                  <a:pt x="5978" y="6562"/>
                  <a:pt x="5978" y="6648"/>
                </a:cubicBezTo>
                <a:cubicBezTo>
                  <a:pt x="5978" y="6673"/>
                  <a:pt x="5978" y="6697"/>
                  <a:pt x="5978" y="6722"/>
                </a:cubicBezTo>
                <a:cubicBezTo>
                  <a:pt x="6025" y="6722"/>
                  <a:pt x="6041" y="6705"/>
                  <a:pt x="6077" y="6697"/>
                </a:cubicBezTo>
                <a:cubicBezTo>
                  <a:pt x="6112" y="6689"/>
                  <a:pt x="6188" y="6653"/>
                  <a:pt x="6226" y="6672"/>
                </a:cubicBezTo>
                <a:cubicBezTo>
                  <a:pt x="6290" y="6704"/>
                  <a:pt x="6316" y="6714"/>
                  <a:pt x="6375" y="6772"/>
                </a:cubicBezTo>
                <a:cubicBezTo>
                  <a:pt x="6406" y="6802"/>
                  <a:pt x="6420" y="6852"/>
                  <a:pt x="6424" y="6896"/>
                </a:cubicBezTo>
                <a:cubicBezTo>
                  <a:pt x="6430" y="6963"/>
                  <a:pt x="6365" y="6978"/>
                  <a:pt x="6325" y="6995"/>
                </a:cubicBezTo>
                <a:cubicBezTo>
                  <a:pt x="6260" y="7022"/>
                  <a:pt x="6196" y="7060"/>
                  <a:pt x="6127" y="7069"/>
                </a:cubicBezTo>
                <a:cubicBezTo>
                  <a:pt x="6030" y="7081"/>
                  <a:pt x="5918" y="7074"/>
                  <a:pt x="5829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866960"/>
            <a:ext cx="919440" cy="419040"/>
          </a:xfrm>
          <a:custGeom>
            <a:avLst/>
            <a:gdLst/>
            <a:ahLst/>
            <a:rect l="l" t="t" r="r" b="b"/>
            <a:pathLst>
              <a:path w="2556" h="1167">
                <a:moveTo>
                  <a:pt x="10294" y="5829"/>
                </a:moveTo>
                <a:cubicBezTo>
                  <a:pt x="10294" y="5778"/>
                  <a:pt x="10283" y="5771"/>
                  <a:pt x="10269" y="5730"/>
                </a:cubicBezTo>
                <a:cubicBezTo>
                  <a:pt x="10256" y="5691"/>
                  <a:pt x="10273" y="5654"/>
                  <a:pt x="10220" y="5631"/>
                </a:cubicBezTo>
                <a:cubicBezTo>
                  <a:pt x="10183" y="5615"/>
                  <a:pt x="10145" y="5659"/>
                  <a:pt x="10120" y="5680"/>
                </a:cubicBezTo>
                <a:cubicBezTo>
                  <a:pt x="10061" y="5729"/>
                  <a:pt x="10051" y="5785"/>
                  <a:pt x="10021" y="5854"/>
                </a:cubicBezTo>
                <a:cubicBezTo>
                  <a:pt x="9993" y="5919"/>
                  <a:pt x="9961" y="6007"/>
                  <a:pt x="9947" y="6077"/>
                </a:cubicBezTo>
                <a:cubicBezTo>
                  <a:pt x="9936" y="6129"/>
                  <a:pt x="9950" y="6232"/>
                  <a:pt x="9971" y="6276"/>
                </a:cubicBezTo>
                <a:cubicBezTo>
                  <a:pt x="9986" y="6307"/>
                  <a:pt x="10039" y="6349"/>
                  <a:pt x="10071" y="6350"/>
                </a:cubicBezTo>
                <a:cubicBezTo>
                  <a:pt x="10189" y="6355"/>
                  <a:pt x="10201" y="6318"/>
                  <a:pt x="10294" y="6276"/>
                </a:cubicBezTo>
                <a:cubicBezTo>
                  <a:pt x="10361" y="6253"/>
                  <a:pt x="10382" y="6252"/>
                  <a:pt x="10393" y="6201"/>
                </a:cubicBezTo>
              </a:path>
              <a:path w="2556" h="1167">
                <a:moveTo>
                  <a:pt x="10492" y="6102"/>
                </a:moveTo>
                <a:cubicBezTo>
                  <a:pt x="10498" y="6205"/>
                  <a:pt x="10470" y="6315"/>
                  <a:pt x="10592" y="6325"/>
                </a:cubicBezTo>
                <a:cubicBezTo>
                  <a:pt x="10626" y="6328"/>
                  <a:pt x="10673" y="6279"/>
                  <a:pt x="10691" y="6251"/>
                </a:cubicBezTo>
                <a:cubicBezTo>
                  <a:pt x="10734" y="6184"/>
                  <a:pt x="10777" y="6131"/>
                  <a:pt x="10790" y="6052"/>
                </a:cubicBezTo>
                <a:cubicBezTo>
                  <a:pt x="10802" y="5981"/>
                  <a:pt x="10786" y="5931"/>
                  <a:pt x="10740" y="5879"/>
                </a:cubicBezTo>
                <a:cubicBezTo>
                  <a:pt x="10711" y="5846"/>
                  <a:pt x="10657" y="5809"/>
                  <a:pt x="10616" y="5804"/>
                </a:cubicBezTo>
                <a:cubicBezTo>
                  <a:pt x="10570" y="5799"/>
                  <a:pt x="10547" y="5807"/>
                  <a:pt x="10542" y="5854"/>
                </a:cubicBezTo>
                <a:cubicBezTo>
                  <a:pt x="10542" y="5862"/>
                  <a:pt x="10542" y="5871"/>
                  <a:pt x="10542" y="5879"/>
                </a:cubicBezTo>
              </a:path>
              <a:path w="2556" h="1167">
                <a:moveTo>
                  <a:pt x="11187" y="5730"/>
                </a:moveTo>
                <a:cubicBezTo>
                  <a:pt x="11116" y="5758"/>
                  <a:pt x="11076" y="5790"/>
                  <a:pt x="11013" y="5829"/>
                </a:cubicBezTo>
                <a:cubicBezTo>
                  <a:pt x="10969" y="5856"/>
                  <a:pt x="10926" y="5868"/>
                  <a:pt x="10914" y="5904"/>
                </a:cubicBezTo>
                <a:cubicBezTo>
                  <a:pt x="10953" y="5913"/>
                  <a:pt x="11003" y="5952"/>
                  <a:pt x="11038" y="5978"/>
                </a:cubicBezTo>
                <a:cubicBezTo>
                  <a:pt x="11092" y="6019"/>
                  <a:pt x="11156" y="6039"/>
                  <a:pt x="11212" y="6077"/>
                </a:cubicBezTo>
                <a:cubicBezTo>
                  <a:pt x="11245" y="6100"/>
                  <a:pt x="11252" y="6166"/>
                  <a:pt x="11261" y="6201"/>
                </a:cubicBezTo>
                <a:cubicBezTo>
                  <a:pt x="11197" y="6255"/>
                  <a:pt x="11156" y="6276"/>
                  <a:pt x="11088" y="6300"/>
                </a:cubicBezTo>
                <a:cubicBezTo>
                  <a:pt x="11015" y="6326"/>
                  <a:pt x="10952" y="6347"/>
                  <a:pt x="10889" y="6300"/>
                </a:cubicBezTo>
              </a:path>
              <a:path w="2556" h="1167">
                <a:moveTo>
                  <a:pt x="11485" y="5606"/>
                </a:moveTo>
                <a:cubicBezTo>
                  <a:pt x="11485" y="5714"/>
                  <a:pt x="11464" y="5801"/>
                  <a:pt x="11460" y="5904"/>
                </a:cubicBezTo>
                <a:cubicBezTo>
                  <a:pt x="11455" y="6028"/>
                  <a:pt x="11460" y="6152"/>
                  <a:pt x="11460" y="6276"/>
                </a:cubicBezTo>
                <a:cubicBezTo>
                  <a:pt x="11460" y="6075"/>
                  <a:pt x="11458" y="5876"/>
                  <a:pt x="11485" y="5680"/>
                </a:cubicBezTo>
                <a:cubicBezTo>
                  <a:pt x="11502" y="5560"/>
                  <a:pt x="11481" y="5471"/>
                  <a:pt x="11534" y="5358"/>
                </a:cubicBezTo>
                <a:cubicBezTo>
                  <a:pt x="11558" y="5307"/>
                  <a:pt x="11583" y="5241"/>
                  <a:pt x="11633" y="5209"/>
                </a:cubicBezTo>
                <a:cubicBezTo>
                  <a:pt x="11693" y="5170"/>
                  <a:pt x="11708" y="5181"/>
                  <a:pt x="11757" y="5209"/>
                </a:cubicBezTo>
                <a:cubicBezTo>
                  <a:pt x="11821" y="5246"/>
                  <a:pt x="11856" y="5274"/>
                  <a:pt x="11832" y="5358"/>
                </a:cubicBezTo>
                <a:cubicBezTo>
                  <a:pt x="11807" y="5448"/>
                  <a:pt x="11757" y="5507"/>
                  <a:pt x="11708" y="5581"/>
                </a:cubicBezTo>
                <a:cubicBezTo>
                  <a:pt x="11660" y="5654"/>
                  <a:pt x="11565" y="5736"/>
                  <a:pt x="11485" y="5779"/>
                </a:cubicBezTo>
                <a:cubicBezTo>
                  <a:pt x="11433" y="5807"/>
                  <a:pt x="11425" y="5799"/>
                  <a:pt x="11485" y="5779"/>
                </a:cubicBezTo>
                <a:cubicBezTo>
                  <a:pt x="11526" y="5765"/>
                  <a:pt x="11586" y="5742"/>
                  <a:pt x="11633" y="5755"/>
                </a:cubicBezTo>
                <a:cubicBezTo>
                  <a:pt x="11706" y="5776"/>
                  <a:pt x="11733" y="5839"/>
                  <a:pt x="11782" y="5879"/>
                </a:cubicBezTo>
                <a:cubicBezTo>
                  <a:pt x="11822" y="5911"/>
                  <a:pt x="11879" y="5982"/>
                  <a:pt x="11857" y="6052"/>
                </a:cubicBezTo>
                <a:cubicBezTo>
                  <a:pt x="11837" y="6116"/>
                  <a:pt x="11821" y="6163"/>
                  <a:pt x="11757" y="6201"/>
                </a:cubicBezTo>
                <a:cubicBezTo>
                  <a:pt x="11695" y="6238"/>
                  <a:pt x="11658" y="6272"/>
                  <a:pt x="11584" y="6276"/>
                </a:cubicBezTo>
                <a:cubicBezTo>
                  <a:pt x="11535" y="6279"/>
                  <a:pt x="11484" y="6276"/>
                  <a:pt x="11435" y="6276"/>
                </a:cubicBezTo>
                <a:cubicBezTo>
                  <a:pt x="11473" y="6225"/>
                  <a:pt x="11506" y="6202"/>
                  <a:pt x="11559" y="6152"/>
                </a:cubicBezTo>
                <a:cubicBezTo>
                  <a:pt x="11576" y="6135"/>
                  <a:pt x="11592" y="6119"/>
                  <a:pt x="11609" y="6102"/>
                </a:cubicBezTo>
              </a:path>
              <a:path w="2556" h="1167">
                <a:moveTo>
                  <a:pt x="12229" y="5829"/>
                </a:moveTo>
                <a:cubicBezTo>
                  <a:pt x="12279" y="5816"/>
                  <a:pt x="12292" y="5804"/>
                  <a:pt x="12353" y="5804"/>
                </a:cubicBezTo>
                <a:cubicBezTo>
                  <a:pt x="12403" y="5804"/>
                  <a:pt x="12452" y="5804"/>
                  <a:pt x="12502" y="5804"/>
                </a:cubicBezTo>
              </a:path>
              <a:path w="2556" h="1167">
                <a:moveTo>
                  <a:pt x="12179" y="6052"/>
                </a:moveTo>
                <a:cubicBezTo>
                  <a:pt x="12262" y="6077"/>
                  <a:pt x="12338" y="6077"/>
                  <a:pt x="12427" y="6077"/>
                </a:cubicBezTo>
                <a:cubicBezTo>
                  <a:pt x="12460" y="6077"/>
                  <a:pt x="12477" y="6077"/>
                  <a:pt x="12502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5200" y="1714680"/>
            <a:ext cx="2135160" cy="553680"/>
          </a:xfrm>
          <a:custGeom>
            <a:avLst/>
            <a:gdLst/>
            <a:ahLst/>
            <a:rect l="l" t="t" r="r" b="b"/>
            <a:pathLst>
              <a:path w="5929" h="1539">
                <a:moveTo>
                  <a:pt x="13097" y="5333"/>
                </a:moveTo>
                <a:cubicBezTo>
                  <a:pt x="13127" y="5313"/>
                  <a:pt x="13151" y="5316"/>
                  <a:pt x="13196" y="5283"/>
                </a:cubicBezTo>
                <a:cubicBezTo>
                  <a:pt x="13241" y="5250"/>
                  <a:pt x="13286" y="5237"/>
                  <a:pt x="13345" y="5234"/>
                </a:cubicBezTo>
                <a:cubicBezTo>
                  <a:pt x="13397" y="5231"/>
                  <a:pt x="13475" y="5254"/>
                  <a:pt x="13519" y="5283"/>
                </a:cubicBezTo>
                <a:cubicBezTo>
                  <a:pt x="13583" y="5324"/>
                  <a:pt x="13570" y="5377"/>
                  <a:pt x="13543" y="5432"/>
                </a:cubicBezTo>
                <a:cubicBezTo>
                  <a:pt x="13514" y="5492"/>
                  <a:pt x="13459" y="5532"/>
                  <a:pt x="13419" y="5581"/>
                </a:cubicBezTo>
                <a:cubicBezTo>
                  <a:pt x="13402" y="5602"/>
                  <a:pt x="13322" y="5672"/>
                  <a:pt x="13295" y="5680"/>
                </a:cubicBezTo>
                <a:cubicBezTo>
                  <a:pt x="13271" y="5680"/>
                  <a:pt x="13262" y="5680"/>
                  <a:pt x="13246" y="5680"/>
                </a:cubicBezTo>
                <a:cubicBezTo>
                  <a:pt x="13296" y="5673"/>
                  <a:pt x="13318" y="5658"/>
                  <a:pt x="13370" y="5655"/>
                </a:cubicBezTo>
                <a:cubicBezTo>
                  <a:pt x="13424" y="5652"/>
                  <a:pt x="13475" y="5674"/>
                  <a:pt x="13519" y="5705"/>
                </a:cubicBezTo>
                <a:cubicBezTo>
                  <a:pt x="13570" y="5741"/>
                  <a:pt x="13611" y="5775"/>
                  <a:pt x="13643" y="5829"/>
                </a:cubicBezTo>
                <a:cubicBezTo>
                  <a:pt x="13677" y="5887"/>
                  <a:pt x="13711" y="5959"/>
                  <a:pt x="13692" y="6028"/>
                </a:cubicBezTo>
                <a:cubicBezTo>
                  <a:pt x="13674" y="6092"/>
                  <a:pt x="13622" y="6163"/>
                  <a:pt x="13568" y="6201"/>
                </a:cubicBezTo>
                <a:cubicBezTo>
                  <a:pt x="13513" y="6240"/>
                  <a:pt x="13410" y="6289"/>
                  <a:pt x="13345" y="6300"/>
                </a:cubicBezTo>
                <a:cubicBezTo>
                  <a:pt x="13274" y="6312"/>
                  <a:pt x="13209" y="6302"/>
                  <a:pt x="13146" y="6276"/>
                </a:cubicBezTo>
                <a:cubicBezTo>
                  <a:pt x="13074" y="6246"/>
                  <a:pt x="13081" y="6238"/>
                  <a:pt x="13072" y="6152"/>
                </a:cubicBezTo>
              </a:path>
              <a:path w="5929" h="1539">
                <a:moveTo>
                  <a:pt x="13692" y="4911"/>
                </a:moveTo>
                <a:cubicBezTo>
                  <a:pt x="13723" y="4881"/>
                  <a:pt x="13748" y="4840"/>
                  <a:pt x="13791" y="4837"/>
                </a:cubicBezTo>
                <a:cubicBezTo>
                  <a:pt x="13863" y="4832"/>
                  <a:pt x="13925" y="4833"/>
                  <a:pt x="13990" y="4862"/>
                </a:cubicBezTo>
                <a:cubicBezTo>
                  <a:pt x="14067" y="4897"/>
                  <a:pt x="14091" y="4981"/>
                  <a:pt x="14015" y="5035"/>
                </a:cubicBezTo>
                <a:cubicBezTo>
                  <a:pt x="13958" y="5075"/>
                  <a:pt x="13898" y="5121"/>
                  <a:pt x="13841" y="5159"/>
                </a:cubicBezTo>
                <a:cubicBezTo>
                  <a:pt x="13791" y="5192"/>
                  <a:pt x="13780" y="5180"/>
                  <a:pt x="13767" y="5234"/>
                </a:cubicBezTo>
                <a:cubicBezTo>
                  <a:pt x="13824" y="5251"/>
                  <a:pt x="13892" y="5234"/>
                  <a:pt x="13965" y="5234"/>
                </a:cubicBezTo>
                <a:cubicBezTo>
                  <a:pt x="13990" y="5234"/>
                  <a:pt x="13998" y="5234"/>
                  <a:pt x="14015" y="5234"/>
                </a:cubicBezTo>
              </a:path>
              <a:path w="5929" h="1539">
                <a:moveTo>
                  <a:pt x="14486" y="5358"/>
                </a:moveTo>
                <a:cubicBezTo>
                  <a:pt x="14475" y="5442"/>
                  <a:pt x="14461" y="5516"/>
                  <a:pt x="14461" y="5606"/>
                </a:cubicBezTo>
                <a:cubicBezTo>
                  <a:pt x="14461" y="5647"/>
                  <a:pt x="14442" y="5986"/>
                  <a:pt x="14436" y="5978"/>
                </a:cubicBezTo>
                <a:cubicBezTo>
                  <a:pt x="14436" y="5970"/>
                  <a:pt x="14436" y="5961"/>
                  <a:pt x="14436" y="5953"/>
                </a:cubicBezTo>
              </a:path>
              <a:path w="5929" h="1539">
                <a:moveTo>
                  <a:pt x="14163" y="5730"/>
                </a:moveTo>
                <a:cubicBezTo>
                  <a:pt x="14255" y="5730"/>
                  <a:pt x="14323" y="5709"/>
                  <a:pt x="14412" y="5705"/>
                </a:cubicBezTo>
                <a:cubicBezTo>
                  <a:pt x="14505" y="5701"/>
                  <a:pt x="14592" y="5689"/>
                  <a:pt x="14684" y="5680"/>
                </a:cubicBezTo>
              </a:path>
              <a:path w="5929" h="1539">
                <a:moveTo>
                  <a:pt x="15106" y="5308"/>
                </a:moveTo>
                <a:cubicBezTo>
                  <a:pt x="15205" y="5259"/>
                  <a:pt x="15248" y="5234"/>
                  <a:pt x="15354" y="5234"/>
                </a:cubicBezTo>
                <a:cubicBezTo>
                  <a:pt x="15428" y="5234"/>
                  <a:pt x="15459" y="5260"/>
                  <a:pt x="15503" y="5308"/>
                </a:cubicBezTo>
                <a:cubicBezTo>
                  <a:pt x="15547" y="5356"/>
                  <a:pt x="15529" y="5399"/>
                  <a:pt x="15503" y="5457"/>
                </a:cubicBezTo>
                <a:cubicBezTo>
                  <a:pt x="15467" y="5538"/>
                  <a:pt x="15413" y="5615"/>
                  <a:pt x="15354" y="5680"/>
                </a:cubicBezTo>
                <a:cubicBezTo>
                  <a:pt x="15273" y="5770"/>
                  <a:pt x="15181" y="5858"/>
                  <a:pt x="15106" y="5953"/>
                </a:cubicBezTo>
                <a:cubicBezTo>
                  <a:pt x="15052" y="6022"/>
                  <a:pt x="15016" y="6095"/>
                  <a:pt x="14982" y="6152"/>
                </a:cubicBezTo>
                <a:cubicBezTo>
                  <a:pt x="14957" y="6176"/>
                  <a:pt x="14948" y="6184"/>
                  <a:pt x="14932" y="6201"/>
                </a:cubicBezTo>
                <a:cubicBezTo>
                  <a:pt x="15081" y="6201"/>
                  <a:pt x="15473" y="6265"/>
                  <a:pt x="15354" y="6176"/>
                </a:cubicBezTo>
                <a:cubicBezTo>
                  <a:pt x="15329" y="6176"/>
                  <a:pt x="15321" y="6176"/>
                  <a:pt x="15329" y="6152"/>
                </a:cubicBezTo>
              </a:path>
              <a:path w="5929" h="1539">
                <a:moveTo>
                  <a:pt x="15627" y="4862"/>
                </a:moveTo>
                <a:cubicBezTo>
                  <a:pt x="15668" y="4804"/>
                  <a:pt x="15679" y="4787"/>
                  <a:pt x="15751" y="4787"/>
                </a:cubicBezTo>
                <a:cubicBezTo>
                  <a:pt x="15842" y="4787"/>
                  <a:pt x="15823" y="4792"/>
                  <a:pt x="15875" y="4862"/>
                </a:cubicBezTo>
                <a:cubicBezTo>
                  <a:pt x="15919" y="4921"/>
                  <a:pt x="15892" y="4975"/>
                  <a:pt x="15850" y="5035"/>
                </a:cubicBezTo>
                <a:cubicBezTo>
                  <a:pt x="15814" y="5086"/>
                  <a:pt x="15726" y="5127"/>
                  <a:pt x="15701" y="5184"/>
                </a:cubicBezTo>
                <a:cubicBezTo>
                  <a:pt x="15701" y="5209"/>
                  <a:pt x="15701" y="5217"/>
                  <a:pt x="15701" y="5234"/>
                </a:cubicBezTo>
                <a:cubicBezTo>
                  <a:pt x="15800" y="5234"/>
                  <a:pt x="15898" y="5149"/>
                  <a:pt x="15949" y="5234"/>
                </a:cubicBezTo>
                <a:cubicBezTo>
                  <a:pt x="15971" y="5256"/>
                  <a:pt x="15980" y="5261"/>
                  <a:pt x="15974" y="5283"/>
                </a:cubicBezTo>
              </a:path>
              <a:path w="5929" h="1539">
                <a:moveTo>
                  <a:pt x="16049" y="5854"/>
                </a:moveTo>
                <a:cubicBezTo>
                  <a:pt x="16223" y="5854"/>
                  <a:pt x="16694" y="5854"/>
                  <a:pt x="16520" y="5854"/>
                </a:cubicBezTo>
              </a:path>
              <a:path w="5929" h="1539">
                <a:moveTo>
                  <a:pt x="16842" y="5333"/>
                </a:moveTo>
                <a:cubicBezTo>
                  <a:pt x="16832" y="5374"/>
                  <a:pt x="16834" y="5441"/>
                  <a:pt x="16818" y="5482"/>
                </a:cubicBezTo>
                <a:cubicBezTo>
                  <a:pt x="16801" y="5526"/>
                  <a:pt x="16781" y="5579"/>
                  <a:pt x="16768" y="5631"/>
                </a:cubicBezTo>
                <a:cubicBezTo>
                  <a:pt x="16761" y="5660"/>
                  <a:pt x="16768" y="5700"/>
                  <a:pt x="16768" y="5730"/>
                </a:cubicBezTo>
                <a:cubicBezTo>
                  <a:pt x="16826" y="5730"/>
                  <a:pt x="16871" y="5714"/>
                  <a:pt x="16917" y="5705"/>
                </a:cubicBezTo>
                <a:cubicBezTo>
                  <a:pt x="16985" y="5691"/>
                  <a:pt x="17025" y="5699"/>
                  <a:pt x="17090" y="5655"/>
                </a:cubicBezTo>
                <a:cubicBezTo>
                  <a:pt x="17117" y="5636"/>
                  <a:pt x="17142" y="5604"/>
                  <a:pt x="17165" y="5581"/>
                </a:cubicBezTo>
              </a:path>
              <a:path w="5929" h="1539">
                <a:moveTo>
                  <a:pt x="17140" y="5135"/>
                </a:moveTo>
                <a:cubicBezTo>
                  <a:pt x="17106" y="5179"/>
                  <a:pt x="17093" y="5224"/>
                  <a:pt x="17090" y="5283"/>
                </a:cubicBezTo>
                <a:cubicBezTo>
                  <a:pt x="17086" y="5385"/>
                  <a:pt x="17069" y="5480"/>
                  <a:pt x="17066" y="5581"/>
                </a:cubicBezTo>
                <a:cubicBezTo>
                  <a:pt x="17063" y="5679"/>
                  <a:pt x="17068" y="6201"/>
                  <a:pt x="17066" y="6201"/>
                </a:cubicBezTo>
                <a:cubicBezTo>
                  <a:pt x="17038" y="6201"/>
                  <a:pt x="17032" y="6199"/>
                  <a:pt x="17066" y="6176"/>
                </a:cubicBezTo>
              </a:path>
              <a:path w="5929" h="1539">
                <a:moveTo>
                  <a:pt x="17314" y="6176"/>
                </a:moveTo>
                <a:cubicBezTo>
                  <a:pt x="17314" y="6201"/>
                  <a:pt x="17314" y="6209"/>
                  <a:pt x="17338" y="6201"/>
                </a:cubicBezTo>
                <a:cubicBezTo>
                  <a:pt x="17314" y="6201"/>
                  <a:pt x="17306" y="6201"/>
                  <a:pt x="17314" y="6176"/>
                </a:cubicBezTo>
                <a:cubicBezTo>
                  <a:pt x="17347" y="6165"/>
                  <a:pt x="17357" y="6115"/>
                  <a:pt x="17388" y="6077"/>
                </a:cubicBezTo>
              </a:path>
              <a:path w="5929" h="1539">
                <a:moveTo>
                  <a:pt x="17760" y="5259"/>
                </a:moveTo>
                <a:cubicBezTo>
                  <a:pt x="17847" y="5236"/>
                  <a:pt x="17997" y="5236"/>
                  <a:pt x="18083" y="5209"/>
                </a:cubicBezTo>
                <a:cubicBezTo>
                  <a:pt x="18132" y="5194"/>
                  <a:pt x="18282" y="5184"/>
                  <a:pt x="18231" y="5184"/>
                </a:cubicBezTo>
                <a:cubicBezTo>
                  <a:pt x="18223" y="5184"/>
                  <a:pt x="18215" y="5184"/>
                  <a:pt x="18207" y="5184"/>
                </a:cubicBezTo>
              </a:path>
              <a:path w="5929" h="1539">
                <a:moveTo>
                  <a:pt x="17686" y="5333"/>
                </a:moveTo>
                <a:cubicBezTo>
                  <a:pt x="17668" y="5441"/>
                  <a:pt x="17636" y="5531"/>
                  <a:pt x="17636" y="5631"/>
                </a:cubicBezTo>
                <a:cubicBezTo>
                  <a:pt x="17636" y="5668"/>
                  <a:pt x="17654" y="5737"/>
                  <a:pt x="17711" y="5705"/>
                </a:cubicBezTo>
                <a:cubicBezTo>
                  <a:pt x="17750" y="5683"/>
                  <a:pt x="17794" y="5645"/>
                  <a:pt x="17835" y="5631"/>
                </a:cubicBezTo>
                <a:cubicBezTo>
                  <a:pt x="17884" y="5615"/>
                  <a:pt x="17972" y="5623"/>
                  <a:pt x="18008" y="5655"/>
                </a:cubicBezTo>
                <a:cubicBezTo>
                  <a:pt x="18033" y="5677"/>
                  <a:pt x="18056" y="5723"/>
                  <a:pt x="18058" y="5755"/>
                </a:cubicBezTo>
                <a:cubicBezTo>
                  <a:pt x="18063" y="5848"/>
                  <a:pt x="18071" y="5943"/>
                  <a:pt x="18033" y="6028"/>
                </a:cubicBezTo>
                <a:cubicBezTo>
                  <a:pt x="18004" y="6092"/>
                  <a:pt x="17967" y="6142"/>
                  <a:pt x="17909" y="6176"/>
                </a:cubicBezTo>
                <a:cubicBezTo>
                  <a:pt x="17846" y="6213"/>
                  <a:pt x="17810" y="6247"/>
                  <a:pt x="17735" y="6251"/>
                </a:cubicBezTo>
                <a:cubicBezTo>
                  <a:pt x="17702" y="6253"/>
                  <a:pt x="17669" y="6251"/>
                  <a:pt x="17636" y="6251"/>
                </a:cubicBezTo>
                <a:cubicBezTo>
                  <a:pt x="17649" y="6175"/>
                  <a:pt x="17672" y="6144"/>
                  <a:pt x="17711" y="6077"/>
                </a:cubicBezTo>
              </a:path>
              <a:path w="5929" h="1539">
                <a:moveTo>
                  <a:pt x="18306" y="4862"/>
                </a:moveTo>
                <a:cubicBezTo>
                  <a:pt x="18387" y="4795"/>
                  <a:pt x="18423" y="4768"/>
                  <a:pt x="18529" y="4762"/>
                </a:cubicBezTo>
                <a:cubicBezTo>
                  <a:pt x="18575" y="4759"/>
                  <a:pt x="18632" y="4790"/>
                  <a:pt x="18653" y="4837"/>
                </a:cubicBezTo>
                <a:cubicBezTo>
                  <a:pt x="18670" y="4875"/>
                  <a:pt x="18678" y="4899"/>
                  <a:pt x="18653" y="4936"/>
                </a:cubicBezTo>
                <a:cubicBezTo>
                  <a:pt x="18622" y="4982"/>
                  <a:pt x="18568" y="5021"/>
                  <a:pt x="18529" y="5060"/>
                </a:cubicBezTo>
                <a:cubicBezTo>
                  <a:pt x="18506" y="5083"/>
                  <a:pt x="18498" y="5087"/>
                  <a:pt x="18504" y="5110"/>
                </a:cubicBezTo>
                <a:cubicBezTo>
                  <a:pt x="18562" y="5120"/>
                  <a:pt x="18626" y="5141"/>
                  <a:pt x="18678" y="5159"/>
                </a:cubicBezTo>
                <a:cubicBezTo>
                  <a:pt x="18741" y="5181"/>
                  <a:pt x="18811" y="5222"/>
                  <a:pt x="18876" y="5234"/>
                </a:cubicBezTo>
                <a:cubicBezTo>
                  <a:pt x="18925" y="5243"/>
                  <a:pt x="18950" y="5259"/>
                  <a:pt x="19000" y="5259"/>
                </a:cubicBezTo>
                <a:cubicBezTo>
                  <a:pt x="18954" y="5293"/>
                  <a:pt x="18912" y="5283"/>
                  <a:pt x="18852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7760" y="2527200"/>
            <a:ext cx="1258920" cy="420840"/>
          </a:xfrm>
          <a:custGeom>
            <a:avLst/>
            <a:gdLst/>
            <a:ahLst/>
            <a:rect l="l" t="t" r="r" b="b"/>
            <a:pathLst>
              <a:path w="3498" h="1167">
                <a:moveTo>
                  <a:pt x="14139" y="7268"/>
                </a:moveTo>
                <a:cubicBezTo>
                  <a:pt x="14139" y="7324"/>
                  <a:pt x="14161" y="7237"/>
                  <a:pt x="14163" y="7218"/>
                </a:cubicBezTo>
                <a:cubicBezTo>
                  <a:pt x="14168" y="7175"/>
                  <a:pt x="14222" y="7114"/>
                  <a:pt x="14263" y="7094"/>
                </a:cubicBezTo>
                <a:cubicBezTo>
                  <a:pt x="14301" y="7075"/>
                  <a:pt x="14352" y="7074"/>
                  <a:pt x="14387" y="7094"/>
                </a:cubicBezTo>
                <a:cubicBezTo>
                  <a:pt x="14422" y="7114"/>
                  <a:pt x="14477" y="7180"/>
                  <a:pt x="14486" y="7218"/>
                </a:cubicBezTo>
                <a:cubicBezTo>
                  <a:pt x="14507" y="7308"/>
                  <a:pt x="14488" y="7430"/>
                  <a:pt x="14461" y="7516"/>
                </a:cubicBezTo>
                <a:cubicBezTo>
                  <a:pt x="14431" y="7613"/>
                  <a:pt x="14389" y="7682"/>
                  <a:pt x="14337" y="7764"/>
                </a:cubicBezTo>
                <a:cubicBezTo>
                  <a:pt x="14271" y="7867"/>
                  <a:pt x="14203" y="7930"/>
                  <a:pt x="14089" y="7987"/>
                </a:cubicBezTo>
                <a:cubicBezTo>
                  <a:pt x="14055" y="8004"/>
                  <a:pt x="14012" y="7981"/>
                  <a:pt x="13990" y="7962"/>
                </a:cubicBezTo>
                <a:cubicBezTo>
                  <a:pt x="13963" y="7938"/>
                  <a:pt x="13955" y="7900"/>
                  <a:pt x="13965" y="7863"/>
                </a:cubicBezTo>
                <a:cubicBezTo>
                  <a:pt x="13995" y="7750"/>
                  <a:pt x="14011" y="7778"/>
                  <a:pt x="14089" y="7739"/>
                </a:cubicBezTo>
                <a:cubicBezTo>
                  <a:pt x="14148" y="7709"/>
                  <a:pt x="14158" y="7707"/>
                  <a:pt x="14213" y="7739"/>
                </a:cubicBezTo>
                <a:cubicBezTo>
                  <a:pt x="14272" y="7773"/>
                  <a:pt x="14335" y="7798"/>
                  <a:pt x="14362" y="7863"/>
                </a:cubicBezTo>
                <a:cubicBezTo>
                  <a:pt x="14378" y="7901"/>
                  <a:pt x="14387" y="7944"/>
                  <a:pt x="14387" y="7987"/>
                </a:cubicBezTo>
                <a:cubicBezTo>
                  <a:pt x="14387" y="7992"/>
                  <a:pt x="14391" y="8101"/>
                  <a:pt x="14362" y="8062"/>
                </a:cubicBezTo>
                <a:cubicBezTo>
                  <a:pt x="14350" y="8046"/>
                  <a:pt x="14383" y="8004"/>
                  <a:pt x="14387" y="7987"/>
                </a:cubicBezTo>
              </a:path>
              <a:path w="3498" h="1167">
                <a:moveTo>
                  <a:pt x="14957" y="7069"/>
                </a:moveTo>
                <a:cubicBezTo>
                  <a:pt x="14912" y="7129"/>
                  <a:pt x="14890" y="7221"/>
                  <a:pt x="14858" y="7293"/>
                </a:cubicBezTo>
                <a:cubicBezTo>
                  <a:pt x="14819" y="7379"/>
                  <a:pt x="14794" y="7472"/>
                  <a:pt x="14784" y="7565"/>
                </a:cubicBezTo>
                <a:cubicBezTo>
                  <a:pt x="14772" y="7676"/>
                  <a:pt x="14779" y="7753"/>
                  <a:pt x="14784" y="7863"/>
                </a:cubicBezTo>
                <a:cubicBezTo>
                  <a:pt x="14787" y="7933"/>
                  <a:pt x="14811" y="7985"/>
                  <a:pt x="14858" y="8037"/>
                </a:cubicBezTo>
                <a:cubicBezTo>
                  <a:pt x="14903" y="8087"/>
                  <a:pt x="14913" y="8052"/>
                  <a:pt x="14957" y="8037"/>
                </a:cubicBezTo>
                <a:cubicBezTo>
                  <a:pt x="14965" y="8037"/>
                  <a:pt x="14974" y="8037"/>
                  <a:pt x="14982" y="8037"/>
                </a:cubicBezTo>
              </a:path>
              <a:path w="3498" h="1167">
                <a:moveTo>
                  <a:pt x="15230" y="7342"/>
                </a:moveTo>
                <a:cubicBezTo>
                  <a:pt x="15281" y="7292"/>
                  <a:pt x="15310" y="7260"/>
                  <a:pt x="15379" y="7243"/>
                </a:cubicBezTo>
                <a:cubicBezTo>
                  <a:pt x="15440" y="7228"/>
                  <a:pt x="15485" y="7255"/>
                  <a:pt x="15528" y="7293"/>
                </a:cubicBezTo>
                <a:cubicBezTo>
                  <a:pt x="15553" y="7315"/>
                  <a:pt x="15566" y="7357"/>
                  <a:pt x="15553" y="7392"/>
                </a:cubicBezTo>
                <a:cubicBezTo>
                  <a:pt x="15533" y="7447"/>
                  <a:pt x="15485" y="7497"/>
                  <a:pt x="15429" y="7516"/>
                </a:cubicBezTo>
                <a:cubicBezTo>
                  <a:pt x="15394" y="7528"/>
                  <a:pt x="15384" y="7536"/>
                  <a:pt x="15354" y="7565"/>
                </a:cubicBezTo>
                <a:cubicBezTo>
                  <a:pt x="15389" y="7554"/>
                  <a:pt x="15395" y="7541"/>
                  <a:pt x="15453" y="7541"/>
                </a:cubicBezTo>
                <a:cubicBezTo>
                  <a:pt x="15521" y="7541"/>
                  <a:pt x="15561" y="7539"/>
                  <a:pt x="15627" y="7565"/>
                </a:cubicBezTo>
                <a:cubicBezTo>
                  <a:pt x="15702" y="7595"/>
                  <a:pt x="15701" y="7616"/>
                  <a:pt x="15701" y="7689"/>
                </a:cubicBezTo>
                <a:cubicBezTo>
                  <a:pt x="15701" y="7788"/>
                  <a:pt x="15700" y="7802"/>
                  <a:pt x="15627" y="7863"/>
                </a:cubicBezTo>
                <a:cubicBezTo>
                  <a:pt x="15592" y="7892"/>
                  <a:pt x="15547" y="7951"/>
                  <a:pt x="15503" y="7962"/>
                </a:cubicBezTo>
                <a:cubicBezTo>
                  <a:pt x="15466" y="7972"/>
                  <a:pt x="15378" y="7997"/>
                  <a:pt x="15354" y="7962"/>
                </a:cubicBezTo>
                <a:cubicBezTo>
                  <a:pt x="15336" y="7936"/>
                  <a:pt x="15329" y="7934"/>
                  <a:pt x="15329" y="7888"/>
                </a:cubicBezTo>
                <a:cubicBezTo>
                  <a:pt x="15329" y="7871"/>
                  <a:pt x="15329" y="7855"/>
                  <a:pt x="15329" y="7838"/>
                </a:cubicBezTo>
              </a:path>
              <a:path w="3498" h="1167">
                <a:moveTo>
                  <a:pt x="15776" y="7045"/>
                </a:moveTo>
                <a:cubicBezTo>
                  <a:pt x="15870" y="7147"/>
                  <a:pt x="15950" y="7236"/>
                  <a:pt x="15999" y="7367"/>
                </a:cubicBezTo>
                <a:cubicBezTo>
                  <a:pt x="16038" y="7470"/>
                  <a:pt x="16069" y="7577"/>
                  <a:pt x="16049" y="7689"/>
                </a:cubicBezTo>
                <a:cubicBezTo>
                  <a:pt x="16035" y="7768"/>
                  <a:pt x="15986" y="7886"/>
                  <a:pt x="15925" y="7938"/>
                </a:cubicBezTo>
                <a:cubicBezTo>
                  <a:pt x="15880" y="7977"/>
                  <a:pt x="15812" y="8031"/>
                  <a:pt x="15751" y="8037"/>
                </a:cubicBezTo>
                <a:cubicBezTo>
                  <a:pt x="15671" y="8045"/>
                  <a:pt x="15771" y="7944"/>
                  <a:pt x="15776" y="7938"/>
                </a:cubicBezTo>
              </a:path>
              <a:path w="3498" h="1167">
                <a:moveTo>
                  <a:pt x="16371" y="7144"/>
                </a:moveTo>
                <a:cubicBezTo>
                  <a:pt x="16333" y="7257"/>
                  <a:pt x="16283" y="7352"/>
                  <a:pt x="16247" y="7466"/>
                </a:cubicBezTo>
                <a:cubicBezTo>
                  <a:pt x="16207" y="7595"/>
                  <a:pt x="16155" y="7697"/>
                  <a:pt x="16173" y="7838"/>
                </a:cubicBezTo>
                <a:cubicBezTo>
                  <a:pt x="16179" y="7886"/>
                  <a:pt x="16230" y="7960"/>
                  <a:pt x="16272" y="7987"/>
                </a:cubicBezTo>
                <a:cubicBezTo>
                  <a:pt x="16332" y="8026"/>
                  <a:pt x="16346" y="8015"/>
                  <a:pt x="16396" y="7987"/>
                </a:cubicBezTo>
                <a:cubicBezTo>
                  <a:pt x="16413" y="7979"/>
                  <a:pt x="16429" y="7970"/>
                  <a:pt x="16446" y="7962"/>
                </a:cubicBezTo>
              </a:path>
              <a:path w="3498" h="1167">
                <a:moveTo>
                  <a:pt x="16570" y="7293"/>
                </a:moveTo>
                <a:cubicBezTo>
                  <a:pt x="16670" y="7238"/>
                  <a:pt x="16677" y="7232"/>
                  <a:pt x="16768" y="7243"/>
                </a:cubicBezTo>
                <a:cubicBezTo>
                  <a:pt x="16819" y="7249"/>
                  <a:pt x="16863" y="7256"/>
                  <a:pt x="16867" y="7317"/>
                </a:cubicBezTo>
                <a:cubicBezTo>
                  <a:pt x="16871" y="7377"/>
                  <a:pt x="16880" y="7446"/>
                  <a:pt x="16842" y="7491"/>
                </a:cubicBezTo>
                <a:cubicBezTo>
                  <a:pt x="16784" y="7559"/>
                  <a:pt x="16728" y="7625"/>
                  <a:pt x="16669" y="7689"/>
                </a:cubicBezTo>
                <a:cubicBezTo>
                  <a:pt x="16622" y="7740"/>
                  <a:pt x="16585" y="7785"/>
                  <a:pt x="16545" y="7838"/>
                </a:cubicBezTo>
                <a:cubicBezTo>
                  <a:pt x="16522" y="7861"/>
                  <a:pt x="16514" y="7865"/>
                  <a:pt x="16520" y="7888"/>
                </a:cubicBezTo>
                <a:cubicBezTo>
                  <a:pt x="16564" y="7921"/>
                  <a:pt x="16586" y="7913"/>
                  <a:pt x="16644" y="7913"/>
                </a:cubicBezTo>
                <a:cubicBezTo>
                  <a:pt x="16720" y="7913"/>
                  <a:pt x="16832" y="7936"/>
                  <a:pt x="16892" y="7888"/>
                </a:cubicBezTo>
                <a:cubicBezTo>
                  <a:pt x="16953" y="7839"/>
                  <a:pt x="16970" y="7868"/>
                  <a:pt x="17016" y="7789"/>
                </a:cubicBezTo>
              </a:path>
              <a:path w="3498" h="1167">
                <a:moveTo>
                  <a:pt x="16991" y="7020"/>
                </a:moveTo>
                <a:cubicBezTo>
                  <a:pt x="17056" y="7084"/>
                  <a:pt x="17111" y="7143"/>
                  <a:pt x="17165" y="7218"/>
                </a:cubicBezTo>
                <a:cubicBezTo>
                  <a:pt x="17268" y="7362"/>
                  <a:pt x="17370" y="7501"/>
                  <a:pt x="17438" y="7665"/>
                </a:cubicBezTo>
                <a:cubicBezTo>
                  <a:pt x="17467" y="7735"/>
                  <a:pt x="17480" y="7861"/>
                  <a:pt x="17462" y="7938"/>
                </a:cubicBezTo>
                <a:cubicBezTo>
                  <a:pt x="17444" y="8015"/>
                  <a:pt x="17373" y="8027"/>
                  <a:pt x="17314" y="8062"/>
                </a:cubicBezTo>
                <a:cubicBezTo>
                  <a:pt x="17190" y="8137"/>
                  <a:pt x="17086" y="8158"/>
                  <a:pt x="16942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6000" y="3241800"/>
            <a:ext cx="2527200" cy="455400"/>
          </a:xfrm>
          <a:custGeom>
            <a:avLst/>
            <a:gdLst/>
            <a:ahLst/>
            <a:rect l="l" t="t" r="r" b="b"/>
            <a:pathLst>
              <a:path w="7021" h="1266">
                <a:moveTo>
                  <a:pt x="10071" y="9327"/>
                </a:moveTo>
                <a:cubicBezTo>
                  <a:pt x="10089" y="9392"/>
                  <a:pt x="10096" y="9434"/>
                  <a:pt x="10096" y="9500"/>
                </a:cubicBezTo>
                <a:cubicBezTo>
                  <a:pt x="10096" y="9525"/>
                  <a:pt x="10096" y="9533"/>
                  <a:pt x="10096" y="9550"/>
                </a:cubicBezTo>
                <a:cubicBezTo>
                  <a:pt x="10086" y="9511"/>
                  <a:pt x="10071" y="9495"/>
                  <a:pt x="10071" y="9451"/>
                </a:cubicBezTo>
                <a:cubicBezTo>
                  <a:pt x="10071" y="9422"/>
                  <a:pt x="10041" y="9319"/>
                  <a:pt x="10021" y="9302"/>
                </a:cubicBezTo>
                <a:cubicBezTo>
                  <a:pt x="9989" y="9275"/>
                  <a:pt x="9845" y="9307"/>
                  <a:pt x="9823" y="9327"/>
                </a:cubicBezTo>
                <a:cubicBezTo>
                  <a:pt x="9777" y="9370"/>
                  <a:pt x="9701" y="9471"/>
                  <a:pt x="9674" y="9525"/>
                </a:cubicBezTo>
                <a:cubicBezTo>
                  <a:pt x="9629" y="9615"/>
                  <a:pt x="9603" y="9725"/>
                  <a:pt x="9599" y="9823"/>
                </a:cubicBezTo>
                <a:cubicBezTo>
                  <a:pt x="9596" y="9898"/>
                  <a:pt x="9587" y="9979"/>
                  <a:pt x="9624" y="10046"/>
                </a:cubicBezTo>
                <a:cubicBezTo>
                  <a:pt x="9645" y="10085"/>
                  <a:pt x="9749" y="10175"/>
                  <a:pt x="9798" y="10195"/>
                </a:cubicBezTo>
                <a:cubicBezTo>
                  <a:pt x="9860" y="10221"/>
                  <a:pt x="9981" y="10157"/>
                  <a:pt x="10021" y="10120"/>
                </a:cubicBezTo>
                <a:cubicBezTo>
                  <a:pt x="10046" y="10071"/>
                  <a:pt x="10055" y="10054"/>
                  <a:pt x="10096" y="10046"/>
                </a:cubicBezTo>
              </a:path>
              <a:path w="7021" h="1266">
                <a:moveTo>
                  <a:pt x="10319" y="9624"/>
                </a:moveTo>
                <a:cubicBezTo>
                  <a:pt x="10296" y="9763"/>
                  <a:pt x="10304" y="9838"/>
                  <a:pt x="10319" y="9971"/>
                </a:cubicBezTo>
                <a:cubicBezTo>
                  <a:pt x="10329" y="10057"/>
                  <a:pt x="10360" y="10117"/>
                  <a:pt x="10443" y="10145"/>
                </a:cubicBezTo>
                <a:cubicBezTo>
                  <a:pt x="10474" y="10155"/>
                  <a:pt x="10597" y="10136"/>
                  <a:pt x="10616" y="10120"/>
                </a:cubicBezTo>
                <a:cubicBezTo>
                  <a:pt x="10680" y="10067"/>
                  <a:pt x="10724" y="9986"/>
                  <a:pt x="10740" y="9897"/>
                </a:cubicBezTo>
                <a:cubicBezTo>
                  <a:pt x="10753" y="9825"/>
                  <a:pt x="10743" y="9741"/>
                  <a:pt x="10716" y="9674"/>
                </a:cubicBezTo>
                <a:cubicBezTo>
                  <a:pt x="10664" y="9543"/>
                  <a:pt x="10588" y="9573"/>
                  <a:pt x="10468" y="9525"/>
                </a:cubicBezTo>
                <a:cubicBezTo>
                  <a:pt x="10455" y="9520"/>
                  <a:pt x="10362" y="9502"/>
                  <a:pt x="10344" y="9525"/>
                </a:cubicBezTo>
                <a:cubicBezTo>
                  <a:pt x="10319" y="9557"/>
                  <a:pt x="10353" y="9589"/>
                  <a:pt x="10368" y="9599"/>
                </a:cubicBezTo>
              </a:path>
              <a:path w="7021" h="1266">
                <a:moveTo>
                  <a:pt x="11137" y="9451"/>
                </a:moveTo>
                <a:cubicBezTo>
                  <a:pt x="11060" y="9460"/>
                  <a:pt x="10988" y="9493"/>
                  <a:pt x="10914" y="9525"/>
                </a:cubicBezTo>
                <a:cubicBezTo>
                  <a:pt x="10864" y="9547"/>
                  <a:pt x="10802" y="9588"/>
                  <a:pt x="10790" y="9624"/>
                </a:cubicBezTo>
                <a:cubicBezTo>
                  <a:pt x="10803" y="9663"/>
                  <a:pt x="10869" y="9729"/>
                  <a:pt x="10939" y="9748"/>
                </a:cubicBezTo>
                <a:cubicBezTo>
                  <a:pt x="11060" y="9782"/>
                  <a:pt x="11087" y="9822"/>
                  <a:pt x="11187" y="9897"/>
                </a:cubicBezTo>
                <a:cubicBezTo>
                  <a:pt x="11223" y="9924"/>
                  <a:pt x="11181" y="9952"/>
                  <a:pt x="11137" y="9971"/>
                </a:cubicBezTo>
                <a:cubicBezTo>
                  <a:pt x="11049" y="10010"/>
                  <a:pt x="11040" y="10046"/>
                  <a:pt x="10939" y="10046"/>
                </a:cubicBezTo>
                <a:cubicBezTo>
                  <a:pt x="10857" y="10046"/>
                  <a:pt x="10864" y="10052"/>
                  <a:pt x="10864" y="9971"/>
                </a:cubicBezTo>
              </a:path>
              <a:path w="7021" h="1266">
                <a:moveTo>
                  <a:pt x="11534" y="9103"/>
                </a:moveTo>
                <a:cubicBezTo>
                  <a:pt x="11534" y="9271"/>
                  <a:pt x="11545" y="9432"/>
                  <a:pt x="11559" y="9599"/>
                </a:cubicBezTo>
                <a:cubicBezTo>
                  <a:pt x="11567" y="9694"/>
                  <a:pt x="11566" y="9803"/>
                  <a:pt x="11584" y="9897"/>
                </a:cubicBezTo>
                <a:cubicBezTo>
                  <a:pt x="11590" y="9931"/>
                  <a:pt x="11617" y="10154"/>
                  <a:pt x="11559" y="9996"/>
                </a:cubicBezTo>
                <a:cubicBezTo>
                  <a:pt x="11559" y="9988"/>
                  <a:pt x="11559" y="9979"/>
                  <a:pt x="11559" y="9971"/>
                </a:cubicBezTo>
              </a:path>
              <a:path w="7021" h="1266">
                <a:moveTo>
                  <a:pt x="11311" y="9079"/>
                </a:moveTo>
                <a:cubicBezTo>
                  <a:pt x="11421" y="9008"/>
                  <a:pt x="11452" y="9004"/>
                  <a:pt x="11584" y="9004"/>
                </a:cubicBezTo>
                <a:cubicBezTo>
                  <a:pt x="11699" y="9004"/>
                  <a:pt x="11799" y="8984"/>
                  <a:pt x="11881" y="9079"/>
                </a:cubicBezTo>
                <a:cubicBezTo>
                  <a:pt x="11957" y="9167"/>
                  <a:pt x="11970" y="9187"/>
                  <a:pt x="11906" y="9302"/>
                </a:cubicBezTo>
                <a:cubicBezTo>
                  <a:pt x="11852" y="9399"/>
                  <a:pt x="11753" y="9417"/>
                  <a:pt x="11658" y="9451"/>
                </a:cubicBezTo>
                <a:cubicBezTo>
                  <a:pt x="11615" y="9466"/>
                  <a:pt x="11569" y="9505"/>
                  <a:pt x="11534" y="9525"/>
                </a:cubicBezTo>
                <a:cubicBezTo>
                  <a:pt x="11584" y="9518"/>
                  <a:pt x="11607" y="9502"/>
                  <a:pt x="11658" y="9500"/>
                </a:cubicBezTo>
                <a:cubicBezTo>
                  <a:pt x="11755" y="9496"/>
                  <a:pt x="11839" y="9496"/>
                  <a:pt x="11931" y="9525"/>
                </a:cubicBezTo>
                <a:cubicBezTo>
                  <a:pt x="11985" y="9542"/>
                  <a:pt x="12132" y="9613"/>
                  <a:pt x="12154" y="9674"/>
                </a:cubicBezTo>
                <a:cubicBezTo>
                  <a:pt x="12170" y="9719"/>
                  <a:pt x="12139" y="9869"/>
                  <a:pt x="12105" y="9897"/>
                </a:cubicBezTo>
                <a:cubicBezTo>
                  <a:pt x="12042" y="9950"/>
                  <a:pt x="11910" y="10011"/>
                  <a:pt x="11832" y="10046"/>
                </a:cubicBezTo>
                <a:cubicBezTo>
                  <a:pt x="11742" y="10086"/>
                  <a:pt x="11654" y="10107"/>
                  <a:pt x="11559" y="10120"/>
                </a:cubicBezTo>
                <a:cubicBezTo>
                  <a:pt x="11507" y="10127"/>
                  <a:pt x="11606" y="10066"/>
                  <a:pt x="11633" y="10046"/>
                </a:cubicBezTo>
              </a:path>
              <a:path w="7021" h="1266">
                <a:moveTo>
                  <a:pt x="12477" y="9599"/>
                </a:moveTo>
                <a:cubicBezTo>
                  <a:pt x="12659" y="9599"/>
                  <a:pt x="13155" y="9599"/>
                  <a:pt x="12973" y="9599"/>
                </a:cubicBezTo>
              </a:path>
              <a:path w="7021" h="1266">
                <a:moveTo>
                  <a:pt x="12502" y="9897"/>
                </a:moveTo>
                <a:cubicBezTo>
                  <a:pt x="12566" y="9906"/>
                  <a:pt x="12604" y="9922"/>
                  <a:pt x="12675" y="9922"/>
                </a:cubicBezTo>
                <a:cubicBezTo>
                  <a:pt x="12709" y="9922"/>
                  <a:pt x="13012" y="9908"/>
                  <a:pt x="12998" y="9897"/>
                </a:cubicBezTo>
                <a:cubicBezTo>
                  <a:pt x="12990" y="9897"/>
                  <a:pt x="12981" y="9897"/>
                  <a:pt x="12973" y="9897"/>
                </a:cubicBezTo>
              </a:path>
              <a:path w="7021" h="1266">
                <a:moveTo>
                  <a:pt x="13469" y="9327"/>
                </a:moveTo>
                <a:cubicBezTo>
                  <a:pt x="13629" y="9327"/>
                  <a:pt x="13781" y="9319"/>
                  <a:pt x="13940" y="9302"/>
                </a:cubicBezTo>
                <a:cubicBezTo>
                  <a:pt x="13981" y="9298"/>
                  <a:pt x="14181" y="9302"/>
                  <a:pt x="14139" y="9302"/>
                </a:cubicBezTo>
              </a:path>
              <a:path w="7021" h="1266">
                <a:moveTo>
                  <a:pt x="14263" y="10071"/>
                </a:moveTo>
                <a:lnTo>
                  <a:pt x="14263" y="10071"/>
                </a:lnTo>
              </a:path>
              <a:path w="7021" h="1266">
                <a:moveTo>
                  <a:pt x="14858" y="9153"/>
                </a:moveTo>
                <a:cubicBezTo>
                  <a:pt x="14827" y="9205"/>
                  <a:pt x="14823" y="9244"/>
                  <a:pt x="14808" y="9302"/>
                </a:cubicBezTo>
                <a:cubicBezTo>
                  <a:pt x="14787" y="9382"/>
                  <a:pt x="14765" y="9473"/>
                  <a:pt x="14734" y="9550"/>
                </a:cubicBezTo>
                <a:cubicBezTo>
                  <a:pt x="14697" y="9641"/>
                  <a:pt x="14677" y="9726"/>
                  <a:pt x="14660" y="9823"/>
                </a:cubicBezTo>
                <a:cubicBezTo>
                  <a:pt x="14649" y="9890"/>
                  <a:pt x="14674" y="9943"/>
                  <a:pt x="14684" y="9996"/>
                </a:cubicBezTo>
                <a:cubicBezTo>
                  <a:pt x="14698" y="10069"/>
                  <a:pt x="14704" y="10046"/>
                  <a:pt x="14784" y="10046"/>
                </a:cubicBezTo>
                <a:cubicBezTo>
                  <a:pt x="14876" y="10046"/>
                  <a:pt x="14891" y="10037"/>
                  <a:pt x="14957" y="9971"/>
                </a:cubicBezTo>
                <a:cubicBezTo>
                  <a:pt x="15034" y="9895"/>
                  <a:pt x="15100" y="9857"/>
                  <a:pt x="15106" y="9748"/>
                </a:cubicBezTo>
                <a:cubicBezTo>
                  <a:pt x="15106" y="9704"/>
                  <a:pt x="15109" y="9690"/>
                  <a:pt x="15081" y="9674"/>
                </a:cubicBezTo>
                <a:cubicBezTo>
                  <a:pt x="15045" y="9702"/>
                  <a:pt x="15012" y="9725"/>
                  <a:pt x="14982" y="9748"/>
                </a:cubicBezTo>
                <a:cubicBezTo>
                  <a:pt x="14932" y="9786"/>
                  <a:pt x="14912" y="9863"/>
                  <a:pt x="14908" y="9922"/>
                </a:cubicBezTo>
                <a:cubicBezTo>
                  <a:pt x="14905" y="9979"/>
                  <a:pt x="14903" y="10021"/>
                  <a:pt x="14932" y="10046"/>
                </a:cubicBezTo>
                <a:cubicBezTo>
                  <a:pt x="14957" y="10071"/>
                  <a:pt x="14965" y="10079"/>
                  <a:pt x="14982" y="10046"/>
                </a:cubicBezTo>
              </a:path>
              <a:path w="7021" h="1266">
                <a:moveTo>
                  <a:pt x="15528" y="9302"/>
                </a:moveTo>
                <a:cubicBezTo>
                  <a:pt x="15520" y="9375"/>
                  <a:pt x="15491" y="9404"/>
                  <a:pt x="15478" y="9475"/>
                </a:cubicBezTo>
                <a:cubicBezTo>
                  <a:pt x="15464" y="9548"/>
                  <a:pt x="15441" y="9635"/>
                  <a:pt x="15429" y="9699"/>
                </a:cubicBezTo>
                <a:cubicBezTo>
                  <a:pt x="15415" y="9776"/>
                  <a:pt x="15444" y="9830"/>
                  <a:pt x="15453" y="9897"/>
                </a:cubicBezTo>
                <a:cubicBezTo>
                  <a:pt x="15462" y="9966"/>
                  <a:pt x="15452" y="9988"/>
                  <a:pt x="15528" y="9996"/>
                </a:cubicBezTo>
                <a:cubicBezTo>
                  <a:pt x="15561" y="10000"/>
                  <a:pt x="15605" y="9988"/>
                  <a:pt x="15627" y="9971"/>
                </a:cubicBezTo>
                <a:cubicBezTo>
                  <a:pt x="15696" y="9918"/>
                  <a:pt x="15721" y="9852"/>
                  <a:pt x="15751" y="9773"/>
                </a:cubicBezTo>
                <a:cubicBezTo>
                  <a:pt x="15807" y="9625"/>
                  <a:pt x="15785" y="9548"/>
                  <a:pt x="15776" y="9376"/>
                </a:cubicBezTo>
                <a:cubicBezTo>
                  <a:pt x="15772" y="9288"/>
                  <a:pt x="15715" y="9268"/>
                  <a:pt x="15677" y="9227"/>
                </a:cubicBezTo>
                <a:cubicBezTo>
                  <a:pt x="15611" y="9156"/>
                  <a:pt x="15646" y="9150"/>
                  <a:pt x="15553" y="9178"/>
                </a:cubicBezTo>
                <a:cubicBezTo>
                  <a:pt x="15518" y="9178"/>
                  <a:pt x="15505" y="9187"/>
                  <a:pt x="15503" y="9227"/>
                </a:cubicBezTo>
              </a:path>
              <a:path w="7021" h="1266">
                <a:moveTo>
                  <a:pt x="16173" y="9103"/>
                </a:moveTo>
                <a:cubicBezTo>
                  <a:pt x="16144" y="9184"/>
                  <a:pt x="16107" y="9250"/>
                  <a:pt x="16073" y="9327"/>
                </a:cubicBezTo>
                <a:cubicBezTo>
                  <a:pt x="16047" y="9385"/>
                  <a:pt x="16029" y="9436"/>
                  <a:pt x="16024" y="9500"/>
                </a:cubicBezTo>
                <a:cubicBezTo>
                  <a:pt x="16022" y="9532"/>
                  <a:pt x="16024" y="9567"/>
                  <a:pt x="16024" y="9599"/>
                </a:cubicBezTo>
                <a:cubicBezTo>
                  <a:pt x="16078" y="9599"/>
                  <a:pt x="16106" y="9615"/>
                  <a:pt x="16148" y="9624"/>
                </a:cubicBezTo>
                <a:cubicBezTo>
                  <a:pt x="16258" y="9648"/>
                  <a:pt x="16427" y="9630"/>
                  <a:pt x="16520" y="9599"/>
                </a:cubicBezTo>
                <a:cubicBezTo>
                  <a:pt x="16590" y="9576"/>
                  <a:pt x="16556" y="9654"/>
                  <a:pt x="16570" y="9525"/>
                </a:cubicBezTo>
              </a:path>
              <a:path w="7021" h="1266">
                <a:moveTo>
                  <a:pt x="16619" y="9079"/>
                </a:moveTo>
                <a:cubicBezTo>
                  <a:pt x="16583" y="9186"/>
                  <a:pt x="16590" y="9270"/>
                  <a:pt x="16570" y="9376"/>
                </a:cubicBezTo>
                <a:cubicBezTo>
                  <a:pt x="16551" y="9479"/>
                  <a:pt x="16528" y="9595"/>
                  <a:pt x="16520" y="9699"/>
                </a:cubicBezTo>
                <a:cubicBezTo>
                  <a:pt x="16508" y="9859"/>
                  <a:pt x="16507" y="10044"/>
                  <a:pt x="16545" y="10195"/>
                </a:cubicBezTo>
                <a:cubicBezTo>
                  <a:pt x="16545" y="10228"/>
                  <a:pt x="16545" y="10244"/>
                  <a:pt x="16545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76760" y="4010040"/>
            <a:ext cx="528480" cy="392040"/>
          </a:xfrm>
          <a:custGeom>
            <a:avLst/>
            <a:gdLst/>
            <a:ahLst/>
            <a:rect l="l" t="t" r="r" b="b"/>
            <a:pathLst>
              <a:path w="1465" h="1093">
                <a:moveTo>
                  <a:pt x="10592" y="11261"/>
                </a:moveTo>
                <a:cubicBezTo>
                  <a:pt x="10592" y="11495"/>
                  <a:pt x="10586" y="11727"/>
                  <a:pt x="10616" y="11956"/>
                </a:cubicBezTo>
                <a:cubicBezTo>
                  <a:pt x="10624" y="12019"/>
                  <a:pt x="10616" y="12090"/>
                  <a:pt x="10616" y="12154"/>
                </a:cubicBezTo>
                <a:cubicBezTo>
                  <a:pt x="10585" y="12122"/>
                  <a:pt x="10606" y="12122"/>
                  <a:pt x="10592" y="12080"/>
                </a:cubicBezTo>
                <a:cubicBezTo>
                  <a:pt x="10567" y="12006"/>
                  <a:pt x="10558" y="11934"/>
                  <a:pt x="10542" y="11857"/>
                </a:cubicBezTo>
                <a:cubicBezTo>
                  <a:pt x="10517" y="11734"/>
                  <a:pt x="10461" y="11547"/>
                  <a:pt x="10492" y="11410"/>
                </a:cubicBezTo>
                <a:cubicBezTo>
                  <a:pt x="10514" y="11316"/>
                  <a:pt x="10571" y="11200"/>
                  <a:pt x="10666" y="11162"/>
                </a:cubicBezTo>
                <a:cubicBezTo>
                  <a:pt x="10728" y="11138"/>
                  <a:pt x="10852" y="11124"/>
                  <a:pt x="10914" y="11162"/>
                </a:cubicBezTo>
                <a:cubicBezTo>
                  <a:pt x="10987" y="11208"/>
                  <a:pt x="11033" y="11250"/>
                  <a:pt x="11038" y="11336"/>
                </a:cubicBezTo>
                <a:cubicBezTo>
                  <a:pt x="11043" y="11418"/>
                  <a:pt x="10992" y="11477"/>
                  <a:pt x="10939" y="11534"/>
                </a:cubicBezTo>
                <a:cubicBezTo>
                  <a:pt x="10876" y="11601"/>
                  <a:pt x="10832" y="11600"/>
                  <a:pt x="10765" y="11633"/>
                </a:cubicBezTo>
                <a:cubicBezTo>
                  <a:pt x="10740" y="11645"/>
                  <a:pt x="10760" y="11638"/>
                  <a:pt x="10740" y="11658"/>
                </a:cubicBezTo>
                <a:cubicBezTo>
                  <a:pt x="10826" y="11658"/>
                  <a:pt x="10936" y="11638"/>
                  <a:pt x="11013" y="11683"/>
                </a:cubicBezTo>
                <a:cubicBezTo>
                  <a:pt x="11094" y="11730"/>
                  <a:pt x="11177" y="11816"/>
                  <a:pt x="11187" y="11906"/>
                </a:cubicBezTo>
                <a:cubicBezTo>
                  <a:pt x="11193" y="11960"/>
                  <a:pt x="11188" y="12070"/>
                  <a:pt x="11137" y="12105"/>
                </a:cubicBezTo>
                <a:cubicBezTo>
                  <a:pt x="11065" y="12154"/>
                  <a:pt x="10955" y="12215"/>
                  <a:pt x="10864" y="12229"/>
                </a:cubicBezTo>
                <a:cubicBezTo>
                  <a:pt x="10798" y="12239"/>
                  <a:pt x="10642" y="12246"/>
                  <a:pt x="10616" y="12204"/>
                </a:cubicBezTo>
                <a:cubicBezTo>
                  <a:pt x="10616" y="12196"/>
                  <a:pt x="10616" y="12187"/>
                  <a:pt x="10616" y="12179"/>
                </a:cubicBezTo>
              </a:path>
              <a:path w="1465" h="1093">
                <a:moveTo>
                  <a:pt x="11559" y="11633"/>
                </a:moveTo>
                <a:cubicBezTo>
                  <a:pt x="11666" y="11633"/>
                  <a:pt x="11782" y="11625"/>
                  <a:pt x="11881" y="11658"/>
                </a:cubicBezTo>
                <a:cubicBezTo>
                  <a:pt x="11922" y="11678"/>
                  <a:pt x="11928" y="11687"/>
                  <a:pt x="11956" y="11683"/>
                </a:cubicBezTo>
              </a:path>
              <a:path w="1465" h="1093">
                <a:moveTo>
                  <a:pt x="11534" y="11881"/>
                </a:moveTo>
                <a:cubicBezTo>
                  <a:pt x="11628" y="11905"/>
                  <a:pt x="11733" y="11922"/>
                  <a:pt x="11832" y="11906"/>
                </a:cubicBezTo>
                <a:cubicBezTo>
                  <a:pt x="11865" y="11898"/>
                  <a:pt x="11898" y="11889"/>
                  <a:pt x="11931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46720" y="3946680"/>
            <a:ext cx="2046240" cy="527040"/>
          </a:xfrm>
          <a:custGeom>
            <a:avLst/>
            <a:gdLst/>
            <a:ahLst/>
            <a:rect l="l" t="t" r="r" b="b"/>
            <a:pathLst>
              <a:path w="5681" h="1464">
                <a:moveTo>
                  <a:pt x="12799" y="11633"/>
                </a:moveTo>
                <a:cubicBezTo>
                  <a:pt x="12862" y="11696"/>
                  <a:pt x="12779" y="11600"/>
                  <a:pt x="12774" y="11584"/>
                </a:cubicBezTo>
                <a:cubicBezTo>
                  <a:pt x="12764" y="11554"/>
                  <a:pt x="12719" y="11524"/>
                  <a:pt x="12675" y="11509"/>
                </a:cubicBezTo>
                <a:cubicBezTo>
                  <a:pt x="12645" y="11499"/>
                  <a:pt x="12548" y="11520"/>
                  <a:pt x="12526" y="11534"/>
                </a:cubicBezTo>
                <a:cubicBezTo>
                  <a:pt x="12436" y="11593"/>
                  <a:pt x="12377" y="11673"/>
                  <a:pt x="12353" y="11782"/>
                </a:cubicBezTo>
                <a:cubicBezTo>
                  <a:pt x="12337" y="11854"/>
                  <a:pt x="12352" y="11941"/>
                  <a:pt x="12378" y="12005"/>
                </a:cubicBezTo>
                <a:cubicBezTo>
                  <a:pt x="12423" y="12114"/>
                  <a:pt x="12471" y="12142"/>
                  <a:pt x="12576" y="12179"/>
                </a:cubicBezTo>
                <a:cubicBezTo>
                  <a:pt x="12690" y="12219"/>
                  <a:pt x="12736" y="12214"/>
                  <a:pt x="12849" y="12204"/>
                </a:cubicBezTo>
              </a:path>
              <a:path w="5681" h="1464">
                <a:moveTo>
                  <a:pt x="13146" y="11633"/>
                </a:moveTo>
                <a:cubicBezTo>
                  <a:pt x="13106" y="11737"/>
                  <a:pt x="13052" y="11844"/>
                  <a:pt x="13047" y="11956"/>
                </a:cubicBezTo>
                <a:cubicBezTo>
                  <a:pt x="13043" y="12060"/>
                  <a:pt x="13075" y="12095"/>
                  <a:pt x="13146" y="12154"/>
                </a:cubicBezTo>
                <a:cubicBezTo>
                  <a:pt x="13195" y="12195"/>
                  <a:pt x="13252" y="12223"/>
                  <a:pt x="13320" y="12204"/>
                </a:cubicBezTo>
                <a:cubicBezTo>
                  <a:pt x="13386" y="12185"/>
                  <a:pt x="13466" y="12141"/>
                  <a:pt x="13494" y="12080"/>
                </a:cubicBezTo>
                <a:cubicBezTo>
                  <a:pt x="13543" y="11972"/>
                  <a:pt x="13561" y="11868"/>
                  <a:pt x="13519" y="11757"/>
                </a:cubicBezTo>
                <a:cubicBezTo>
                  <a:pt x="13483" y="11663"/>
                  <a:pt x="13445" y="11661"/>
                  <a:pt x="13370" y="11609"/>
                </a:cubicBezTo>
                <a:cubicBezTo>
                  <a:pt x="13323" y="11577"/>
                  <a:pt x="13272" y="11579"/>
                  <a:pt x="13221" y="11609"/>
                </a:cubicBezTo>
                <a:cubicBezTo>
                  <a:pt x="13174" y="11636"/>
                  <a:pt x="13199" y="11654"/>
                  <a:pt x="13221" y="11683"/>
                </a:cubicBezTo>
              </a:path>
              <a:path w="5681" h="1464">
                <a:moveTo>
                  <a:pt x="13915" y="11609"/>
                </a:moveTo>
                <a:cubicBezTo>
                  <a:pt x="13858" y="11609"/>
                  <a:pt x="13821" y="11621"/>
                  <a:pt x="13767" y="11633"/>
                </a:cubicBezTo>
                <a:cubicBezTo>
                  <a:pt x="13746" y="11638"/>
                  <a:pt x="13668" y="11669"/>
                  <a:pt x="13692" y="11708"/>
                </a:cubicBezTo>
                <a:cubicBezTo>
                  <a:pt x="13745" y="11794"/>
                  <a:pt x="13922" y="11933"/>
                  <a:pt x="13965" y="12030"/>
                </a:cubicBezTo>
                <a:cubicBezTo>
                  <a:pt x="13986" y="12078"/>
                  <a:pt x="14001" y="12152"/>
                  <a:pt x="13940" y="12179"/>
                </a:cubicBezTo>
                <a:cubicBezTo>
                  <a:pt x="13892" y="12200"/>
                  <a:pt x="13827" y="12174"/>
                  <a:pt x="13791" y="12154"/>
                </a:cubicBezTo>
                <a:cubicBezTo>
                  <a:pt x="13740" y="12127"/>
                  <a:pt x="13729" y="12129"/>
                  <a:pt x="13717" y="12080"/>
                </a:cubicBezTo>
              </a:path>
              <a:path w="5681" h="1464">
                <a:moveTo>
                  <a:pt x="14163" y="11410"/>
                </a:moveTo>
                <a:cubicBezTo>
                  <a:pt x="14262" y="11390"/>
                  <a:pt x="14278" y="11382"/>
                  <a:pt x="14337" y="11385"/>
                </a:cubicBezTo>
              </a:path>
              <a:path w="5681" h="1464">
                <a:moveTo>
                  <a:pt x="14585" y="10964"/>
                </a:moveTo>
                <a:cubicBezTo>
                  <a:pt x="14590" y="11056"/>
                  <a:pt x="14610" y="11124"/>
                  <a:pt x="14610" y="11212"/>
                </a:cubicBezTo>
                <a:cubicBezTo>
                  <a:pt x="14610" y="11270"/>
                  <a:pt x="14610" y="11327"/>
                  <a:pt x="14610" y="11385"/>
                </a:cubicBezTo>
              </a:path>
              <a:path w="5681" h="1464">
                <a:moveTo>
                  <a:pt x="15205" y="10988"/>
                </a:moveTo>
                <a:cubicBezTo>
                  <a:pt x="15173" y="11075"/>
                  <a:pt x="15148" y="11179"/>
                  <a:pt x="15106" y="11261"/>
                </a:cubicBezTo>
                <a:cubicBezTo>
                  <a:pt x="15034" y="11402"/>
                  <a:pt x="14951" y="11546"/>
                  <a:pt x="14932" y="11708"/>
                </a:cubicBezTo>
                <a:cubicBezTo>
                  <a:pt x="14918" y="11825"/>
                  <a:pt x="14889" y="11960"/>
                  <a:pt x="14908" y="12080"/>
                </a:cubicBezTo>
                <a:cubicBezTo>
                  <a:pt x="14920" y="12158"/>
                  <a:pt x="14961" y="12262"/>
                  <a:pt x="15007" y="12328"/>
                </a:cubicBezTo>
                <a:cubicBezTo>
                  <a:pt x="15046" y="12384"/>
                  <a:pt x="15098" y="12373"/>
                  <a:pt x="15156" y="12378"/>
                </a:cubicBezTo>
              </a:path>
              <a:path w="5681" h="1464">
                <a:moveTo>
                  <a:pt x="15453" y="11881"/>
                </a:moveTo>
                <a:cubicBezTo>
                  <a:pt x="15546" y="11901"/>
                  <a:pt x="15637" y="11912"/>
                  <a:pt x="15726" y="11931"/>
                </a:cubicBezTo>
                <a:cubicBezTo>
                  <a:pt x="15734" y="11931"/>
                  <a:pt x="15743" y="11931"/>
                  <a:pt x="15751" y="11931"/>
                </a:cubicBezTo>
              </a:path>
              <a:path w="5681" h="1464">
                <a:moveTo>
                  <a:pt x="15925" y="12328"/>
                </a:moveTo>
                <a:cubicBezTo>
                  <a:pt x="15964" y="12448"/>
                  <a:pt x="15983" y="12381"/>
                  <a:pt x="15999" y="12303"/>
                </a:cubicBezTo>
              </a:path>
              <a:path w="5681" h="1464">
                <a:moveTo>
                  <a:pt x="16272" y="11633"/>
                </a:moveTo>
                <a:cubicBezTo>
                  <a:pt x="16272" y="11733"/>
                  <a:pt x="16267" y="11835"/>
                  <a:pt x="16247" y="11931"/>
                </a:cubicBezTo>
                <a:cubicBezTo>
                  <a:pt x="16228" y="12022"/>
                  <a:pt x="16171" y="12106"/>
                  <a:pt x="16197" y="12204"/>
                </a:cubicBezTo>
                <a:cubicBezTo>
                  <a:pt x="16208" y="12246"/>
                  <a:pt x="16278" y="12412"/>
                  <a:pt x="16321" y="12427"/>
                </a:cubicBezTo>
                <a:cubicBezTo>
                  <a:pt x="16383" y="12449"/>
                  <a:pt x="16499" y="12432"/>
                  <a:pt x="16545" y="12378"/>
                </a:cubicBezTo>
                <a:cubicBezTo>
                  <a:pt x="16595" y="12320"/>
                  <a:pt x="16627" y="12252"/>
                  <a:pt x="16644" y="12179"/>
                </a:cubicBezTo>
                <a:cubicBezTo>
                  <a:pt x="16655" y="12130"/>
                  <a:pt x="16612" y="12085"/>
                  <a:pt x="16570" y="12080"/>
                </a:cubicBezTo>
                <a:cubicBezTo>
                  <a:pt x="16523" y="12075"/>
                  <a:pt x="16490" y="12145"/>
                  <a:pt x="16470" y="12179"/>
                </a:cubicBezTo>
                <a:cubicBezTo>
                  <a:pt x="16424" y="12257"/>
                  <a:pt x="16441" y="12293"/>
                  <a:pt x="16495" y="12353"/>
                </a:cubicBezTo>
                <a:cubicBezTo>
                  <a:pt x="16503" y="12361"/>
                  <a:pt x="16512" y="12370"/>
                  <a:pt x="16520" y="12378"/>
                </a:cubicBezTo>
              </a:path>
              <a:path w="5681" h="1464">
                <a:moveTo>
                  <a:pt x="16867" y="11757"/>
                </a:moveTo>
                <a:cubicBezTo>
                  <a:pt x="16820" y="11852"/>
                  <a:pt x="16737" y="11965"/>
                  <a:pt x="16768" y="12080"/>
                </a:cubicBezTo>
                <a:cubicBezTo>
                  <a:pt x="16784" y="12140"/>
                  <a:pt x="16866" y="12220"/>
                  <a:pt x="16917" y="12254"/>
                </a:cubicBezTo>
                <a:cubicBezTo>
                  <a:pt x="16959" y="12282"/>
                  <a:pt x="17049" y="12298"/>
                  <a:pt x="17090" y="12254"/>
                </a:cubicBezTo>
                <a:cubicBezTo>
                  <a:pt x="17135" y="12205"/>
                  <a:pt x="17156" y="12092"/>
                  <a:pt x="17165" y="12030"/>
                </a:cubicBezTo>
                <a:cubicBezTo>
                  <a:pt x="17179" y="11931"/>
                  <a:pt x="17112" y="11796"/>
                  <a:pt x="17041" y="11733"/>
                </a:cubicBezTo>
                <a:cubicBezTo>
                  <a:pt x="17009" y="11705"/>
                  <a:pt x="16956" y="11691"/>
                  <a:pt x="16917" y="11683"/>
                </a:cubicBezTo>
              </a:path>
              <a:path w="5681" h="1464">
                <a:moveTo>
                  <a:pt x="17190" y="11609"/>
                </a:moveTo>
                <a:cubicBezTo>
                  <a:pt x="17221" y="11708"/>
                  <a:pt x="17248" y="11820"/>
                  <a:pt x="17314" y="11906"/>
                </a:cubicBezTo>
                <a:cubicBezTo>
                  <a:pt x="17359" y="11964"/>
                  <a:pt x="17420" y="12000"/>
                  <a:pt x="17487" y="12005"/>
                </a:cubicBezTo>
                <a:cubicBezTo>
                  <a:pt x="17495" y="12005"/>
                  <a:pt x="17504" y="12005"/>
                  <a:pt x="17512" y="12005"/>
                </a:cubicBezTo>
              </a:path>
              <a:path w="5681" h="1464">
                <a:moveTo>
                  <a:pt x="17562" y="11559"/>
                </a:moveTo>
                <a:cubicBezTo>
                  <a:pt x="17527" y="11679"/>
                  <a:pt x="17512" y="11754"/>
                  <a:pt x="17512" y="11881"/>
                </a:cubicBezTo>
                <a:cubicBezTo>
                  <a:pt x="17512" y="12021"/>
                  <a:pt x="17522" y="12176"/>
                  <a:pt x="17587" y="12303"/>
                </a:cubicBezTo>
                <a:cubicBezTo>
                  <a:pt x="17624" y="12360"/>
                  <a:pt x="17619" y="12385"/>
                  <a:pt x="17661" y="12378"/>
                </a:cubicBezTo>
              </a:path>
              <a:path w="5681" h="1464">
                <a:moveTo>
                  <a:pt x="17711" y="10988"/>
                </a:moveTo>
                <a:cubicBezTo>
                  <a:pt x="17846" y="11154"/>
                  <a:pt x="17910" y="11319"/>
                  <a:pt x="17959" y="11534"/>
                </a:cubicBezTo>
                <a:cubicBezTo>
                  <a:pt x="18000" y="11715"/>
                  <a:pt x="18051" y="11943"/>
                  <a:pt x="18033" y="12129"/>
                </a:cubicBezTo>
                <a:cubicBezTo>
                  <a:pt x="18017" y="12296"/>
                  <a:pt x="17919" y="12339"/>
                  <a:pt x="17785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40120" y="4714920"/>
            <a:ext cx="419040" cy="40176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10840" y="13419"/>
                </a:moveTo>
                <a:cubicBezTo>
                  <a:pt x="10854" y="13505"/>
                  <a:pt x="10864" y="13578"/>
                  <a:pt x="10864" y="13667"/>
                </a:cubicBezTo>
                <a:cubicBezTo>
                  <a:pt x="10864" y="13785"/>
                  <a:pt x="10889" y="13895"/>
                  <a:pt x="10889" y="14015"/>
                </a:cubicBezTo>
                <a:cubicBezTo>
                  <a:pt x="10889" y="14055"/>
                  <a:pt x="10946" y="14182"/>
                  <a:pt x="10914" y="14213"/>
                </a:cubicBezTo>
                <a:cubicBezTo>
                  <a:pt x="10867" y="14260"/>
                  <a:pt x="10825" y="14134"/>
                  <a:pt x="10815" y="14114"/>
                </a:cubicBezTo>
              </a:path>
              <a:path w="1167" h="1117">
                <a:moveTo>
                  <a:pt x="10691" y="13568"/>
                </a:moveTo>
                <a:cubicBezTo>
                  <a:pt x="10681" y="13410"/>
                  <a:pt x="10636" y="13267"/>
                  <a:pt x="10765" y="13146"/>
                </a:cubicBezTo>
                <a:cubicBezTo>
                  <a:pt x="10824" y="13091"/>
                  <a:pt x="10964" y="13080"/>
                  <a:pt x="11038" y="13097"/>
                </a:cubicBezTo>
                <a:cubicBezTo>
                  <a:pt x="11128" y="13118"/>
                  <a:pt x="11170" y="13184"/>
                  <a:pt x="11187" y="13271"/>
                </a:cubicBezTo>
                <a:cubicBezTo>
                  <a:pt x="11198" y="13330"/>
                  <a:pt x="11183" y="13426"/>
                  <a:pt x="11137" y="13469"/>
                </a:cubicBezTo>
                <a:cubicBezTo>
                  <a:pt x="11105" y="13499"/>
                  <a:pt x="11007" y="13554"/>
                  <a:pt x="10964" y="13568"/>
                </a:cubicBezTo>
                <a:cubicBezTo>
                  <a:pt x="10956" y="13568"/>
                  <a:pt x="10947" y="13568"/>
                  <a:pt x="10939" y="13568"/>
                </a:cubicBezTo>
                <a:cubicBezTo>
                  <a:pt x="10988" y="13598"/>
                  <a:pt x="11051" y="13600"/>
                  <a:pt x="11112" y="13618"/>
                </a:cubicBezTo>
                <a:cubicBezTo>
                  <a:pt x="11186" y="13640"/>
                  <a:pt x="11228" y="13662"/>
                  <a:pt x="11286" y="13717"/>
                </a:cubicBezTo>
                <a:cubicBezTo>
                  <a:pt x="11342" y="13770"/>
                  <a:pt x="11384" y="13833"/>
                  <a:pt x="11361" y="13915"/>
                </a:cubicBezTo>
                <a:cubicBezTo>
                  <a:pt x="11341" y="13988"/>
                  <a:pt x="11253" y="14060"/>
                  <a:pt x="11187" y="14089"/>
                </a:cubicBezTo>
                <a:cubicBezTo>
                  <a:pt x="11124" y="14116"/>
                  <a:pt x="11036" y="14159"/>
                  <a:pt x="10964" y="14139"/>
                </a:cubicBezTo>
                <a:cubicBezTo>
                  <a:pt x="10908" y="14123"/>
                  <a:pt x="10882" y="14119"/>
                  <a:pt x="10889" y="14064"/>
                </a:cubicBezTo>
                <a:cubicBezTo>
                  <a:pt x="10897" y="14048"/>
                  <a:pt x="10906" y="14031"/>
                  <a:pt x="10914" y="14015"/>
                </a:cubicBezTo>
              </a:path>
              <a:path w="1167" h="1117">
                <a:moveTo>
                  <a:pt x="11584" y="13692"/>
                </a:moveTo>
                <a:cubicBezTo>
                  <a:pt x="11670" y="13707"/>
                  <a:pt x="11738" y="13719"/>
                  <a:pt x="11807" y="13742"/>
                </a:cubicBezTo>
                <a:cubicBezTo>
                  <a:pt x="11832" y="13742"/>
                  <a:pt x="11840" y="13742"/>
                  <a:pt x="11832" y="13717"/>
                </a:cubicBezTo>
              </a:path>
              <a:path w="1167" h="1117">
                <a:moveTo>
                  <a:pt x="11485" y="13965"/>
                </a:moveTo>
                <a:cubicBezTo>
                  <a:pt x="11569" y="13983"/>
                  <a:pt x="11669" y="14008"/>
                  <a:pt x="11757" y="13990"/>
                </a:cubicBezTo>
                <a:cubicBezTo>
                  <a:pt x="11782" y="13982"/>
                  <a:pt x="11807" y="13973"/>
                  <a:pt x="11832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4714920"/>
            <a:ext cx="687600" cy="43812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12303" y="13320"/>
                </a:moveTo>
                <a:cubicBezTo>
                  <a:pt x="12303" y="13443"/>
                  <a:pt x="12310" y="13554"/>
                  <a:pt x="12303" y="13667"/>
                </a:cubicBezTo>
                <a:cubicBezTo>
                  <a:pt x="12295" y="13797"/>
                  <a:pt x="12315" y="13913"/>
                  <a:pt x="12328" y="14039"/>
                </a:cubicBezTo>
                <a:cubicBezTo>
                  <a:pt x="12336" y="14114"/>
                  <a:pt x="12348" y="14192"/>
                  <a:pt x="12353" y="14263"/>
                </a:cubicBezTo>
                <a:cubicBezTo>
                  <a:pt x="12356" y="14314"/>
                  <a:pt x="12362" y="14335"/>
                  <a:pt x="12378" y="14288"/>
                </a:cubicBezTo>
              </a:path>
              <a:path w="1911" h="1216">
                <a:moveTo>
                  <a:pt x="12551" y="13469"/>
                </a:moveTo>
                <a:cubicBezTo>
                  <a:pt x="12607" y="13399"/>
                  <a:pt x="12635" y="13350"/>
                  <a:pt x="12725" y="13345"/>
                </a:cubicBezTo>
                <a:cubicBezTo>
                  <a:pt x="12841" y="13338"/>
                  <a:pt x="12870" y="13428"/>
                  <a:pt x="12923" y="13519"/>
                </a:cubicBezTo>
                <a:cubicBezTo>
                  <a:pt x="12979" y="13615"/>
                  <a:pt x="12943" y="13722"/>
                  <a:pt x="12898" y="13816"/>
                </a:cubicBezTo>
                <a:cubicBezTo>
                  <a:pt x="12860" y="13894"/>
                  <a:pt x="12814" y="13963"/>
                  <a:pt x="12774" y="14039"/>
                </a:cubicBezTo>
                <a:cubicBezTo>
                  <a:pt x="12754" y="14078"/>
                  <a:pt x="12706" y="14148"/>
                  <a:pt x="12700" y="14163"/>
                </a:cubicBezTo>
                <a:cubicBezTo>
                  <a:pt x="12700" y="14171"/>
                  <a:pt x="12700" y="14180"/>
                  <a:pt x="12700" y="14188"/>
                </a:cubicBezTo>
                <a:cubicBezTo>
                  <a:pt x="12750" y="14238"/>
                  <a:pt x="12777" y="14259"/>
                  <a:pt x="12849" y="14263"/>
                </a:cubicBezTo>
                <a:cubicBezTo>
                  <a:pt x="12917" y="14267"/>
                  <a:pt x="13011" y="14276"/>
                  <a:pt x="13072" y="14238"/>
                </a:cubicBezTo>
                <a:cubicBezTo>
                  <a:pt x="13089" y="14221"/>
                  <a:pt x="13105" y="14205"/>
                  <a:pt x="13122" y="14188"/>
                </a:cubicBezTo>
              </a:path>
              <a:path w="1911" h="1216">
                <a:moveTo>
                  <a:pt x="13122" y="13370"/>
                </a:moveTo>
                <a:cubicBezTo>
                  <a:pt x="13203" y="13308"/>
                  <a:pt x="13239" y="13320"/>
                  <a:pt x="13345" y="13320"/>
                </a:cubicBezTo>
                <a:cubicBezTo>
                  <a:pt x="13425" y="13320"/>
                  <a:pt x="13501" y="13328"/>
                  <a:pt x="13568" y="13345"/>
                </a:cubicBezTo>
                <a:cubicBezTo>
                  <a:pt x="13593" y="13345"/>
                  <a:pt x="13601" y="13345"/>
                  <a:pt x="13618" y="13345"/>
                </a:cubicBezTo>
                <a:cubicBezTo>
                  <a:pt x="13618" y="13398"/>
                  <a:pt x="13610" y="13447"/>
                  <a:pt x="13593" y="13494"/>
                </a:cubicBezTo>
                <a:cubicBezTo>
                  <a:pt x="13566" y="13570"/>
                  <a:pt x="13552" y="13661"/>
                  <a:pt x="13543" y="13742"/>
                </a:cubicBezTo>
                <a:cubicBezTo>
                  <a:pt x="13531" y="13847"/>
                  <a:pt x="13557" y="13939"/>
                  <a:pt x="13568" y="14039"/>
                </a:cubicBezTo>
                <a:cubicBezTo>
                  <a:pt x="13577" y="14121"/>
                  <a:pt x="13574" y="14192"/>
                  <a:pt x="13593" y="14263"/>
                </a:cubicBezTo>
                <a:cubicBezTo>
                  <a:pt x="13593" y="14288"/>
                  <a:pt x="13593" y="14296"/>
                  <a:pt x="13593" y="14312"/>
                </a:cubicBezTo>
                <a:cubicBezTo>
                  <a:pt x="13633" y="14299"/>
                  <a:pt x="13618" y="14294"/>
                  <a:pt x="13618" y="14238"/>
                </a:cubicBezTo>
              </a:path>
              <a:path w="1911" h="1216">
                <a:moveTo>
                  <a:pt x="13965" y="13171"/>
                </a:moveTo>
                <a:cubicBezTo>
                  <a:pt x="13942" y="13272"/>
                  <a:pt x="13921" y="13294"/>
                  <a:pt x="13990" y="13370"/>
                </a:cubicBezTo>
                <a:cubicBezTo>
                  <a:pt x="14026" y="13410"/>
                  <a:pt x="14087" y="13439"/>
                  <a:pt x="14139" y="13444"/>
                </a:cubicBezTo>
                <a:cubicBezTo>
                  <a:pt x="14203" y="13451"/>
                  <a:pt x="14208" y="13430"/>
                  <a:pt x="14213" y="13370"/>
                </a:cubicBezTo>
                <a:cubicBezTo>
                  <a:pt x="14218" y="13307"/>
                  <a:pt x="14200" y="13272"/>
                  <a:pt x="14163" y="13221"/>
                </a:cubicBezTo>
                <a:cubicBezTo>
                  <a:pt x="14130" y="13176"/>
                  <a:pt x="14053" y="13149"/>
                  <a:pt x="14015" y="13122"/>
                </a:cubicBezTo>
                <a:cubicBezTo>
                  <a:pt x="14007" y="13114"/>
                  <a:pt x="13998" y="13105"/>
                  <a:pt x="13990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24120" y="1027080"/>
            <a:ext cx="268200" cy="231840"/>
          </a:xfrm>
          <a:custGeom>
            <a:avLst/>
            <a:gdLst/>
            <a:ahLst/>
            <a:rect l="l" t="t" r="r" b="b"/>
            <a:pathLst>
              <a:path w="746" h="645">
                <a:moveTo>
                  <a:pt x="7987" y="2853"/>
                </a:moveTo>
                <a:cubicBezTo>
                  <a:pt x="8008" y="2902"/>
                  <a:pt x="8008" y="2938"/>
                  <a:pt x="8037" y="2977"/>
                </a:cubicBezTo>
                <a:cubicBezTo>
                  <a:pt x="8007" y="2967"/>
                  <a:pt x="7994" y="2935"/>
                  <a:pt x="7962" y="2902"/>
                </a:cubicBezTo>
                <a:cubicBezTo>
                  <a:pt x="7905" y="2843"/>
                  <a:pt x="7953" y="2853"/>
                  <a:pt x="7838" y="2853"/>
                </a:cubicBezTo>
                <a:cubicBezTo>
                  <a:pt x="7749" y="2853"/>
                  <a:pt x="7764" y="2860"/>
                  <a:pt x="7714" y="2927"/>
                </a:cubicBezTo>
                <a:cubicBezTo>
                  <a:pt x="7660" y="2998"/>
                  <a:pt x="7642" y="3021"/>
                  <a:pt x="7615" y="3101"/>
                </a:cubicBezTo>
                <a:cubicBezTo>
                  <a:pt x="7587" y="3183"/>
                  <a:pt x="7565" y="3236"/>
                  <a:pt x="7565" y="3324"/>
                </a:cubicBezTo>
                <a:cubicBezTo>
                  <a:pt x="7565" y="3372"/>
                  <a:pt x="7548" y="3441"/>
                  <a:pt x="7590" y="3473"/>
                </a:cubicBezTo>
                <a:cubicBezTo>
                  <a:pt x="7640" y="3511"/>
                  <a:pt x="7706" y="3497"/>
                  <a:pt x="7764" y="3497"/>
                </a:cubicBezTo>
                <a:cubicBezTo>
                  <a:pt x="7860" y="3497"/>
                  <a:pt x="7944" y="3469"/>
                  <a:pt x="8037" y="3448"/>
                </a:cubicBezTo>
                <a:cubicBezTo>
                  <a:pt x="8112" y="3431"/>
                  <a:pt x="8217" y="3417"/>
                  <a:pt x="8285" y="3373"/>
                </a:cubicBezTo>
                <a:cubicBezTo>
                  <a:pt x="8308" y="3351"/>
                  <a:pt x="8319" y="3343"/>
                  <a:pt x="8285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394000"/>
            <a:ext cx="1714680" cy="34920"/>
          </a:xfrm>
          <a:custGeom>
            <a:avLst/>
            <a:gdLst/>
            <a:ahLst/>
            <a:rect l="l" t="t" r="r" b="b"/>
            <a:pathLst>
              <a:path w="4763" h="100">
                <a:moveTo>
                  <a:pt x="13122" y="6747"/>
                </a:moveTo>
                <a:cubicBezTo>
                  <a:pt x="13507" y="6747"/>
                  <a:pt x="13881" y="6716"/>
                  <a:pt x="14263" y="6697"/>
                </a:cubicBezTo>
                <a:cubicBezTo>
                  <a:pt x="14510" y="6685"/>
                  <a:pt x="14760" y="6689"/>
                  <a:pt x="15007" y="6672"/>
                </a:cubicBezTo>
                <a:cubicBezTo>
                  <a:pt x="15287" y="6653"/>
                  <a:pt x="15569" y="6631"/>
                  <a:pt x="15850" y="6648"/>
                </a:cubicBezTo>
                <a:cubicBezTo>
                  <a:pt x="16131" y="6665"/>
                  <a:pt x="16414" y="6653"/>
                  <a:pt x="16694" y="6672"/>
                </a:cubicBezTo>
                <a:cubicBezTo>
                  <a:pt x="16917" y="6687"/>
                  <a:pt x="17141" y="6708"/>
                  <a:pt x="17363" y="6722"/>
                </a:cubicBezTo>
                <a:cubicBezTo>
                  <a:pt x="17545" y="6733"/>
                  <a:pt x="18041" y="6722"/>
                  <a:pt x="17859" y="6722"/>
                </a:cubicBezTo>
                <a:cubicBezTo>
                  <a:pt x="17826" y="6722"/>
                  <a:pt x="17810" y="6722"/>
                  <a:pt x="17785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6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en do I use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Cosine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S and SAS- to find one missing piece then you can use law of sines to find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Law of Cosines, find Big Angle firs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Si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else (SAS, AAS, ASA, S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small Angle first, then the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44920" y="2286000"/>
            <a:ext cx="768240" cy="384120"/>
          </a:xfrm>
          <a:custGeom>
            <a:avLst/>
            <a:gdLst/>
            <a:ahLst/>
            <a:rect l="l" t="t" r="r" b="b"/>
            <a:pathLst>
              <a:path w="2135" h="1068">
                <a:moveTo>
                  <a:pt x="9847" y="7169"/>
                </a:moveTo>
                <a:cubicBezTo>
                  <a:pt x="10054" y="7180"/>
                  <a:pt x="10261" y="7193"/>
                  <a:pt x="10468" y="7218"/>
                </a:cubicBezTo>
                <a:cubicBezTo>
                  <a:pt x="10728" y="7250"/>
                  <a:pt x="10982" y="7315"/>
                  <a:pt x="11237" y="7367"/>
                </a:cubicBezTo>
                <a:cubicBezTo>
                  <a:pt x="11336" y="7387"/>
                  <a:pt x="11529" y="7455"/>
                  <a:pt x="11633" y="7417"/>
                </a:cubicBezTo>
                <a:cubicBezTo>
                  <a:pt x="11641" y="7409"/>
                  <a:pt x="11650" y="7400"/>
                  <a:pt x="11658" y="7392"/>
                </a:cubicBezTo>
                <a:cubicBezTo>
                  <a:pt x="11535" y="7320"/>
                  <a:pt x="11424" y="7265"/>
                  <a:pt x="11286" y="7218"/>
                </a:cubicBezTo>
                <a:cubicBezTo>
                  <a:pt x="10994" y="7117"/>
                  <a:pt x="10724" y="7094"/>
                  <a:pt x="10418" y="7094"/>
                </a:cubicBezTo>
                <a:cubicBezTo>
                  <a:pt x="10344" y="7094"/>
                  <a:pt x="10269" y="7094"/>
                  <a:pt x="10195" y="7094"/>
                </a:cubicBezTo>
                <a:cubicBezTo>
                  <a:pt x="10369" y="7081"/>
                  <a:pt x="10541" y="7031"/>
                  <a:pt x="10716" y="7020"/>
                </a:cubicBezTo>
                <a:cubicBezTo>
                  <a:pt x="10947" y="7005"/>
                  <a:pt x="11180" y="6984"/>
                  <a:pt x="11410" y="6970"/>
                </a:cubicBezTo>
                <a:cubicBezTo>
                  <a:pt x="11517" y="6964"/>
                  <a:pt x="11566" y="6948"/>
                  <a:pt x="11658" y="6921"/>
                </a:cubicBezTo>
                <a:cubicBezTo>
                  <a:pt x="11543" y="6866"/>
                  <a:pt x="11416" y="6799"/>
                  <a:pt x="11286" y="6772"/>
                </a:cubicBezTo>
                <a:cubicBezTo>
                  <a:pt x="11012" y="6715"/>
                  <a:pt x="10721" y="6700"/>
                  <a:pt x="10443" y="6697"/>
                </a:cubicBezTo>
                <a:cubicBezTo>
                  <a:pt x="10345" y="6696"/>
                  <a:pt x="9996" y="6749"/>
                  <a:pt x="9922" y="6697"/>
                </a:cubicBezTo>
                <a:cubicBezTo>
                  <a:pt x="9957" y="6697"/>
                  <a:pt x="9974" y="6692"/>
                  <a:pt x="9996" y="6672"/>
                </a:cubicBezTo>
                <a:cubicBezTo>
                  <a:pt x="10211" y="6601"/>
                  <a:pt x="10438" y="6539"/>
                  <a:pt x="10666" y="6524"/>
                </a:cubicBezTo>
                <a:cubicBezTo>
                  <a:pt x="10972" y="6504"/>
                  <a:pt x="11277" y="6499"/>
                  <a:pt x="11584" y="6499"/>
                </a:cubicBezTo>
                <a:cubicBezTo>
                  <a:pt x="11669" y="6499"/>
                  <a:pt x="11689" y="6505"/>
                  <a:pt x="11733" y="6474"/>
                </a:cubicBezTo>
                <a:cubicBezTo>
                  <a:pt x="11583" y="6414"/>
                  <a:pt x="11424" y="6363"/>
                  <a:pt x="11261" y="6350"/>
                </a:cubicBezTo>
                <a:cubicBezTo>
                  <a:pt x="11007" y="6330"/>
                  <a:pt x="10719" y="6330"/>
                  <a:pt x="10468" y="6375"/>
                </a:cubicBezTo>
                <a:cubicBezTo>
                  <a:pt x="10349" y="6396"/>
                  <a:pt x="10231" y="6429"/>
                  <a:pt x="10120" y="6474"/>
                </a:cubicBezTo>
                <a:cubicBezTo>
                  <a:pt x="10178" y="6492"/>
                  <a:pt x="10322" y="6499"/>
                  <a:pt x="10418" y="6499"/>
                </a:cubicBezTo>
                <a:cubicBezTo>
                  <a:pt x="10654" y="6499"/>
                  <a:pt x="10878" y="6517"/>
                  <a:pt x="11112" y="6548"/>
                </a:cubicBezTo>
                <a:cubicBezTo>
                  <a:pt x="11288" y="6571"/>
                  <a:pt x="11559" y="6562"/>
                  <a:pt x="11708" y="6672"/>
                </a:cubicBezTo>
                <a:cubicBezTo>
                  <a:pt x="11811" y="6748"/>
                  <a:pt x="11600" y="6720"/>
                  <a:pt x="11584" y="6722"/>
                </a:cubicBezTo>
                <a:cubicBezTo>
                  <a:pt x="11304" y="6758"/>
                  <a:pt x="11022" y="6785"/>
                  <a:pt x="10740" y="6821"/>
                </a:cubicBezTo>
                <a:cubicBezTo>
                  <a:pt x="10568" y="6843"/>
                  <a:pt x="10431" y="6867"/>
                  <a:pt x="10269" y="6921"/>
                </a:cubicBezTo>
                <a:cubicBezTo>
                  <a:pt x="10156" y="6977"/>
                  <a:pt x="10395" y="6948"/>
                  <a:pt x="10443" y="6945"/>
                </a:cubicBezTo>
                <a:cubicBezTo>
                  <a:pt x="10738" y="6927"/>
                  <a:pt x="11042" y="6890"/>
                  <a:pt x="11336" y="6945"/>
                </a:cubicBezTo>
                <a:cubicBezTo>
                  <a:pt x="11517" y="6991"/>
                  <a:pt x="11565" y="7004"/>
                  <a:pt x="11683" y="7020"/>
                </a:cubicBezTo>
                <a:cubicBezTo>
                  <a:pt x="11719" y="7039"/>
                  <a:pt x="11889" y="7089"/>
                  <a:pt x="11757" y="7094"/>
                </a:cubicBezTo>
                <a:cubicBezTo>
                  <a:pt x="11498" y="7104"/>
                  <a:pt x="11246" y="7088"/>
                  <a:pt x="10988" y="7119"/>
                </a:cubicBezTo>
                <a:cubicBezTo>
                  <a:pt x="10781" y="7144"/>
                  <a:pt x="10578" y="7157"/>
                  <a:pt x="10393" y="7243"/>
                </a:cubicBezTo>
                <a:cubicBezTo>
                  <a:pt x="10493" y="7258"/>
                  <a:pt x="10575" y="7227"/>
                  <a:pt x="10691" y="7218"/>
                </a:cubicBezTo>
                <a:cubicBezTo>
                  <a:pt x="10982" y="7196"/>
                  <a:pt x="11268" y="7161"/>
                  <a:pt x="11559" y="7119"/>
                </a:cubicBezTo>
                <a:cubicBezTo>
                  <a:pt x="11613" y="7111"/>
                  <a:pt x="11943" y="7099"/>
                  <a:pt x="11981" y="7020"/>
                </a:cubicBezTo>
                <a:cubicBezTo>
                  <a:pt x="12024" y="6929"/>
                  <a:pt x="11893" y="6866"/>
                  <a:pt x="11832" y="6846"/>
                </a:cubicBezTo>
                <a:cubicBezTo>
                  <a:pt x="11581" y="6762"/>
                  <a:pt x="11325" y="6709"/>
                  <a:pt x="11063" y="6672"/>
                </a:cubicBezTo>
                <a:cubicBezTo>
                  <a:pt x="10914" y="6651"/>
                  <a:pt x="10882" y="6643"/>
                  <a:pt x="10790" y="6648"/>
                </a:cubicBezTo>
                <a:cubicBezTo>
                  <a:pt x="10698" y="6602"/>
                  <a:pt x="10789" y="6594"/>
                  <a:pt x="10889" y="6573"/>
                </a:cubicBezTo>
                <a:cubicBezTo>
                  <a:pt x="11094" y="6531"/>
                  <a:pt x="11280" y="6542"/>
                  <a:pt x="11485" y="6524"/>
                </a:cubicBezTo>
                <a:cubicBezTo>
                  <a:pt x="11515" y="6521"/>
                  <a:pt x="11824" y="6499"/>
                  <a:pt x="11757" y="6499"/>
                </a:cubicBezTo>
                <a:cubicBezTo>
                  <a:pt x="11741" y="6499"/>
                  <a:pt x="11724" y="6499"/>
                  <a:pt x="11708" y="6499"/>
                </a:cubicBezTo>
                <a:cubicBezTo>
                  <a:pt x="11425" y="6489"/>
                  <a:pt x="11147" y="6473"/>
                  <a:pt x="10864" y="6499"/>
                </a:cubicBezTo>
                <a:cubicBezTo>
                  <a:pt x="10776" y="6507"/>
                  <a:pt x="10544" y="6522"/>
                  <a:pt x="10468" y="6598"/>
                </a:cubicBezTo>
                <a:cubicBezTo>
                  <a:pt x="10468" y="6626"/>
                  <a:pt x="10466" y="6637"/>
                  <a:pt x="10443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que Area Form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ron’s Area Form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41280" y="2955960"/>
            <a:ext cx="115920" cy="258840"/>
          </a:xfrm>
          <a:custGeom>
            <a:avLst/>
            <a:gdLst/>
            <a:ahLst/>
            <a:rect l="l" t="t" r="r" b="b"/>
            <a:pathLst>
              <a:path w="323" h="721">
                <a:moveTo>
                  <a:pt x="3572" y="8260"/>
                </a:moveTo>
                <a:cubicBezTo>
                  <a:pt x="3564" y="8236"/>
                  <a:pt x="3519" y="8213"/>
                  <a:pt x="3572" y="8210"/>
                </a:cubicBezTo>
                <a:cubicBezTo>
                  <a:pt x="3655" y="8205"/>
                  <a:pt x="3683" y="8239"/>
                  <a:pt x="3746" y="8260"/>
                </a:cubicBezTo>
                <a:cubicBezTo>
                  <a:pt x="3770" y="8260"/>
                  <a:pt x="3778" y="8260"/>
                  <a:pt x="3770" y="8285"/>
                </a:cubicBezTo>
                <a:cubicBezTo>
                  <a:pt x="3691" y="8330"/>
                  <a:pt x="3668" y="8334"/>
                  <a:pt x="3572" y="8334"/>
                </a:cubicBezTo>
                <a:cubicBezTo>
                  <a:pt x="3568" y="8334"/>
                  <a:pt x="3449" y="8356"/>
                  <a:pt x="3448" y="8359"/>
                </a:cubicBezTo>
                <a:cubicBezTo>
                  <a:pt x="3448" y="8376"/>
                  <a:pt x="3448" y="8392"/>
                  <a:pt x="3448" y="8409"/>
                </a:cubicBezTo>
                <a:cubicBezTo>
                  <a:pt x="3505" y="8409"/>
                  <a:pt x="3544" y="8425"/>
                  <a:pt x="3597" y="8434"/>
                </a:cubicBezTo>
                <a:cubicBezTo>
                  <a:pt x="3652" y="8443"/>
                  <a:pt x="3673" y="8464"/>
                  <a:pt x="3721" y="8483"/>
                </a:cubicBezTo>
                <a:cubicBezTo>
                  <a:pt x="3666" y="8575"/>
                  <a:pt x="3634" y="8535"/>
                  <a:pt x="3547" y="8558"/>
                </a:cubicBezTo>
                <a:cubicBezTo>
                  <a:pt x="3499" y="8581"/>
                  <a:pt x="3484" y="8589"/>
                  <a:pt x="3448" y="8582"/>
                </a:cubicBezTo>
                <a:cubicBezTo>
                  <a:pt x="3459" y="8659"/>
                  <a:pt x="3514" y="8682"/>
                  <a:pt x="3597" y="8706"/>
                </a:cubicBezTo>
                <a:cubicBezTo>
                  <a:pt x="3673" y="8728"/>
                  <a:pt x="3680" y="8723"/>
                  <a:pt x="3746" y="8781"/>
                </a:cubicBezTo>
                <a:cubicBezTo>
                  <a:pt x="3686" y="8856"/>
                  <a:pt x="3702" y="8831"/>
                  <a:pt x="3621" y="8855"/>
                </a:cubicBezTo>
                <a:cubicBezTo>
                  <a:pt x="3548" y="8877"/>
                  <a:pt x="3541" y="8877"/>
                  <a:pt x="3497" y="8930"/>
                </a:cubicBezTo>
                <a:cubicBezTo>
                  <a:pt x="3547" y="8930"/>
                  <a:pt x="3596" y="8930"/>
                  <a:pt x="3646" y="8930"/>
                </a:cubicBezTo>
                <a:cubicBezTo>
                  <a:pt x="3593" y="8930"/>
                  <a:pt x="3582" y="8905"/>
                  <a:pt x="3572" y="8855"/>
                </a:cubicBezTo>
                <a:cubicBezTo>
                  <a:pt x="3560" y="8795"/>
                  <a:pt x="3588" y="8752"/>
                  <a:pt x="3597" y="8706"/>
                </a:cubicBezTo>
                <a:cubicBezTo>
                  <a:pt x="3611" y="8637"/>
                  <a:pt x="3641" y="8574"/>
                  <a:pt x="3646" y="8508"/>
                </a:cubicBezTo>
                <a:cubicBezTo>
                  <a:pt x="3650" y="8459"/>
                  <a:pt x="3618" y="8341"/>
                  <a:pt x="3671" y="8334"/>
                </a:cubicBezTo>
                <a:cubicBezTo>
                  <a:pt x="3699" y="8331"/>
                  <a:pt x="3718" y="8313"/>
                  <a:pt x="3721" y="8285"/>
                </a:cubicBezTo>
                <a:cubicBezTo>
                  <a:pt x="3728" y="8230"/>
                  <a:pt x="3662" y="8223"/>
                  <a:pt x="3621" y="8235"/>
                </a:cubicBezTo>
                <a:cubicBezTo>
                  <a:pt x="3605" y="8243"/>
                  <a:pt x="3588" y="8252"/>
                  <a:pt x="3572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18Z</dcterms:created>
  <dc:creator>jnewman</dc:creator>
  <dc:description/>
  <dc:language>en-US</dc:language>
  <cp:lastModifiedBy>abeason</cp:lastModifiedBy>
  <dcterms:modified xsi:type="dcterms:W3CDTF">2009-02-10T18:29:53Z</dcterms:modified>
  <cp:revision>9</cp:revision>
  <dc:subject/>
  <dc:title>Lesson 6.2 part three</dc:title>
</cp:coreProperties>
</file>